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55C-DA3D-485F-BF45-D408D97E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E67-9934-4331-8A38-EE0D28B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D90-5B1D-43EE-9F98-120E09BC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1E7-E2DD-43A7-903C-70AC1FF5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FBE-5EC1-477B-A12B-F591973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BA2-A225-4B00-B521-66C5ED7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9E1-AFD4-4B5E-B501-F8ED111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1B6-6BEB-4CC5-A21B-1EFF2FE1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52D-D160-40FC-B4D6-D8928AB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24A-442B-4AC0-BCD3-A87B82E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E07-E497-42B4-81D1-359B9C7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D87-75EF-4875-8022-DC10EC6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8DD3-9176-4187-A7F9-B86C5103D1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rabajo Númer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ce el modelo operacional de su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ocesos cent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insumos y outputs se requ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iénes componen la cadena de valor del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métricas definen la performance de la cad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incipales problemas del modelo de operación según la estrategia de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propuestas de mejora podría hacer para resolver el punto prev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to ppt entre 6 a 10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zo: 13 de Diciembre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29:08Z</dcterms:created>
  <dc:creator>.</dc:creator>
  <dc:description/>
  <dc:language>en-US</dc:language>
  <cp:lastModifiedBy>.</cp:lastModifiedBy>
  <dcterms:modified xsi:type="dcterms:W3CDTF">2007-12-06T14:31:52Z</dcterms:modified>
  <cp:revision>2</cp:revision>
  <dc:subject/>
  <dc:title>Trabajo Número 2</dc:title>
</cp:coreProperties>
</file>