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EB9F-CB99-4205-9D33-A85CC613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4E4F-67A6-4FF2-B831-638B6910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271-EAA2-46BE-9028-E1FDA6DD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73E-F65E-4A9C-8FDF-7FA90B4D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BD2F-EE44-4541-B79D-A6FBBEBD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8B8-72AA-45E8-BAA4-920E0A8E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B6F-982A-4EA4-B111-2B7C0D01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22BD-662F-4FAC-9E90-E5B51B58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192B-224F-485A-8C93-F92E9EAF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473-9B4A-41C6-9635-462A1446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FFF-94D4-496D-A819-CFD704CD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BB8-DD06-40F3-811D-CCB55EE1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A9DB-C388-47A8-81C5-1C86CE9F28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Trabajo Númer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alice el modelo operacional de su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áles son los procesos centr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é insumos y outputs se requi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iénes componen la cadena de valor del negoc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é métricas definen la performance de la cade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áles son los principales problemas del modelo de operación según la estrategia de negoc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é propuestas de mejora podría hacer para resolver el punto prev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ormato ppt entre 6 a 10 sl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zo: 13 de Diciembre d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4:29:08Z</dcterms:created>
  <dc:creator>.</dc:creator>
  <dc:description/>
  <dc:language>en-US</dc:language>
  <cp:lastModifiedBy>.</cp:lastModifiedBy>
  <dcterms:modified xsi:type="dcterms:W3CDTF">2007-12-06T14:31:52Z</dcterms:modified>
  <cp:revision>2</cp:revision>
  <dc:subject/>
  <dc:title>Trabajo Número 2</dc:title>
</cp:coreProperties>
</file>