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D12-6310-4151-B9A6-075AC0D2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7C0-B24C-47C6-8CF9-B46EDCF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7D5-EC61-4924-85EE-66C867E5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710-FB20-4CBF-AC9E-A786AE8A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0F0-2179-4C91-9EEA-47202FE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F05-4B25-4E72-985E-7F2DB2F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FB1-F9E7-479C-B24A-D89EC495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0E2-40DA-454D-9DE2-BC4777D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CFC-0346-45C4-8ADF-ABAE47BE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A6C-BDF9-4330-841A-38285E9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0C5-618D-4113-8481-C6E6A59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0D1-8DF1-4187-AF03-5BF5B92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76B5-E57E-4343-9F48-360A6A6CC9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rabajo Númer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alice el modelo operacional de su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ocesos centr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insumos y outputs se requ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iénes componen la cadena de valor del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métricas definen la performance de la cad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áles son los principales problemas del modelo de operación según la estrategia de nego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é propuestas de mejora podría hacer para resolver el punto prev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mato ppt entre 6 a 10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zo: 13 de Diciembre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29:08Z</dcterms:created>
  <dc:creator>.</dc:creator>
  <dc:description/>
  <dc:language>en-US</dc:language>
  <cp:lastModifiedBy>.</cp:lastModifiedBy>
  <dcterms:modified xsi:type="dcterms:W3CDTF">2007-12-06T14:31:52Z</dcterms:modified>
  <cp:revision>2</cp:revision>
  <dc:subject/>
  <dc:title>Trabajo Número 2</dc:title>
</cp:coreProperties>
</file>