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30B14-EFE0-49F7-A8F7-580EF7415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FFE25-84E2-4AC5-B9AE-BAD7C8B95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74584-B919-46E4-BF41-17CF6FDFE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4C2C3-780B-435F-9774-58ACEDBE5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7AD75-599B-42F1-9CBF-0DE3F9716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10592-F7A0-4DD2-92FF-DFB6D6E4E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D2608-8889-4320-BC4C-06D72D30F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49A9B-C33C-47A3-A7E3-940CC7248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735F1-BF32-412B-BE5E-EB1C88FF8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287AC-B2A1-4916-86C8-4AB8A330D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7BCD9-56B9-4978-A6DC-660FDB81A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4C5E1-4D2E-4392-A56A-7FE67A2CA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E6DCC-DF4B-44D6-955C-FF5372682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CCD47-F4C0-40F5-BC8B-462380D7E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66A4B-CA55-4128-A296-59CDC1E1D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CFC49-2CBC-40C7-A397-10E29788A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E5061-8402-42AA-9C5B-B24162999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7DE9B-C5B9-4157-B683-48494476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3A998-AB00-48F5-B10A-FE3D2FE7A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07FE7-39FF-4C8E-99D2-5690470EC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258C2-0333-49FF-9685-DF7ED33FD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E264-9E65-48DD-A144-1D02890A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4CC9-EA29-456E-B904-524195649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CF8E1-EDE0-4B30-ADFC-14C3FD9F2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A6C1-D581-4777-A946-12C92F789ACC}"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2157-755A-44B3-A566-CE92164BB73C}"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92" name=""/>
          <p:cNvSpPr/>
          <p:nvPr/>
        </p:nvSpPr>
        <p:spPr>
          <a:xfrm>
            <a:off x="395280" y="1628640"/>
            <a:ext cx="78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IN 75T </a:t>
            </a:r>
            <a:br>
              <a:rPr sz="3600"/>
            </a:br>
            <a:r>
              <a:rPr b="0" lang="es-CL" sz="3600" spc="-1" strike="noStrike">
                <a:solidFill>
                  <a:srgbClr val="ffffff"/>
                </a:solidFill>
                <a:latin typeface="Arial"/>
              </a:rPr>
              <a:t>Dirección de Operaciones</a:t>
            </a:r>
            <a:br>
              <a:rPr sz="3600"/>
            </a:br>
            <a:r>
              <a:rPr b="0" lang="es-CL" sz="3600" spc="-1" strike="noStrike">
                <a:solidFill>
                  <a:srgbClr val="ffffff"/>
                </a:solidFill>
                <a:latin typeface="Arial"/>
              </a:rPr>
              <a:t>Análisis de caso 1</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ción</a:t>
            </a:r>
            <a:endParaRPr b="0" lang="en-US" sz="3800" spc="-1" strike="noStrike">
              <a:solidFill>
                <a:srgbClr val="ffffff"/>
              </a:solidFill>
              <a:latin typeface="Arial"/>
            </a:endParaRPr>
          </a:p>
        </p:txBody>
      </p:sp>
      <p:sp>
        <p:nvSpPr>
          <p:cNvPr id="9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pag y Sencillito son dos exitosas empresas que compiten en el mercado de los servicios de recaudación y pago  de cuenta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servicio es muy importante para las empresas, por que les permite externalizar el pago de cuentas de sus client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bas empresas han desarrollado modelos de operación muy distintos, que se busca analizar comparativamente en este ejerci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rvipag:</a:t>
            </a:r>
            <a:br>
              <a:rPr sz="4200"/>
            </a:br>
            <a:endParaRPr b="0" lang="en-US" sz="4200" spc="-1" strike="noStrike">
              <a:solidFill>
                <a:srgbClr val="ffffff"/>
              </a:solidFill>
              <a:latin typeface="Arial"/>
            </a:endParaRPr>
          </a:p>
        </p:txBody>
      </p:sp>
      <p:sp>
        <p:nvSpPr>
          <p:cNvPr id="96" name="PlaceHolder 2"/>
          <p:cNvSpPr>
            <a:spLocks noGrp="1"/>
          </p:cNvSpPr>
          <p:nvPr>
            <p:ph/>
          </p:nvPr>
        </p:nvSpPr>
        <p:spPr>
          <a:xfrm>
            <a:off x="250920" y="1457280"/>
            <a:ext cx="8424720" cy="5400720"/>
          </a:xfrm>
          <a:prstGeom prst="rect">
            <a:avLst/>
          </a:prstGeom>
          <a:noFill/>
          <a:ln w="0">
            <a:noFill/>
          </a:ln>
        </p:spPr>
        <p:txBody>
          <a:bodyPr lIns="90000" rIns="90000" tIns="46800" bIns="46800" anchor="t">
            <a:normAutofit/>
          </a:bodyPr>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chilena surgida el año 1988 como filial de Bancos BCI y Banco Chile.</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objetivo original fue el apoyo al giro bancario, buscando la eliminación de transacciones en las oficinas bancarias. De este modo los bancos podrían centrarse más en transacciones de mayor valor para su propio negoc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más sofisticados como cambio de cheques, depósitos y giro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s estándares de servicio, enfoque de seguridad y procedimientos vienen del ambiente bancar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odelo de su red de servicios se basa en:</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cursales propias en las principales comunas y ciudades.</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jas auxiliares propias instaladas en supermercados y mall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canal virtual servipag.com para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obertura es nacional cubriendo desde Arica hasta Punta Arena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n sido fuertes en desarrollo de nuevos servicios: Depósitos, giros,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propietaria, usando red propia. Con ella pueden realizar transacciones en línea en forma segura, desde cualquier punto de atención en la red.</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rvipag.com</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ncillito:</a:t>
            </a:r>
            <a:br>
              <a:rPr sz="4200"/>
            </a:br>
            <a:endParaRPr b="0" lang="en-US" sz="4200" spc="-1" strike="noStrike">
              <a:solidFill>
                <a:srgbClr val="ffffff"/>
              </a:solidFill>
              <a:latin typeface="Arial"/>
            </a:endParaRPr>
          </a:p>
        </p:txBody>
      </p:sp>
      <p:sp>
        <p:nvSpPr>
          <p:cNvPr id="98" name="PlaceHolder 2"/>
          <p:cNvSpPr>
            <a:spLocks noGrp="1"/>
          </p:cNvSpPr>
          <p:nvPr>
            <p:ph/>
          </p:nvPr>
        </p:nvSpPr>
        <p:spPr>
          <a:xfrm>
            <a:off x="179280" y="1413000"/>
            <a:ext cx="7772400" cy="4114800"/>
          </a:xfrm>
          <a:prstGeom prst="rect">
            <a:avLst/>
          </a:prstGeom>
          <a:noFill/>
          <a:ln w="0">
            <a:noFill/>
          </a:ln>
        </p:spPr>
        <p:txBody>
          <a:bodyPr anchor="t">
            <a:normAutofit fontScale="93000"/>
          </a:bodyPr>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filial de la transnacional GTECH, con operaciones de lotería en línea en varios país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icia operaciones en Chile el año 2001.</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Opera recaudación de pago de cuentas en Brasil, Polonia y otros país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vinculada a Bancos, lo que implica que no incorpora la cultura y procedimientos de esta industria.</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como avances en efectivo</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a puntos de atención en lugares que tienen otro propósito: Almacenes y tiendas básicas ubicadas en distintos barrios de las ciudad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de nuevos servicios: Avances en efectivo y venta de prepago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 de Operación, tipo franquicia, basada en red de negocios asociado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bertura nacional. 540 locales de atención.</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escalable y de bajo costo.</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5 millones de transacciones por año en Chile</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ncillo.cl</a:t>
            </a:r>
            <a:r>
              <a:rPr b="0" lang="es-CL" sz="1200" spc="-1" strike="noStrike">
                <a:solidFill>
                  <a:srgbClr val="000000"/>
                </a:solidFill>
                <a:latin typeface="Arial"/>
              </a:rPr>
              <a:t> </a:t>
            </a:r>
            <a:endParaRPr b="0" lang="en-US" sz="1200" spc="-1" strike="noStrike">
              <a:solidFill>
                <a:srgbClr val="000000"/>
              </a:solidFill>
              <a:latin typeface="Arial"/>
            </a:endParaRPr>
          </a:p>
          <a:p>
            <a:pPr lvl="1" marL="690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abajo a realizar</a:t>
            </a:r>
            <a:endParaRPr b="0" lang="en-US" sz="4200" spc="-1" strike="noStrike">
              <a:solidFill>
                <a:srgbClr val="ffffff"/>
              </a:solidFill>
              <a:latin typeface="Arial"/>
            </a:endParaRPr>
          </a:p>
        </p:txBody>
      </p:sp>
      <p:sp>
        <p:nvSpPr>
          <p:cNvPr id="10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pare ambos modelos en términos de:</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versión requerida para lograr cobertur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ndarización de proces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 humanos requerid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ructura de costos de operación.</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ri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rnalización de actividades</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speran los clientes de estas empres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actividades manejan cada empresa centralizadamente y cuales no?</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se comparan en:</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lidad</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iempo de entreg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exibilidad</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ce las estrategias de ambas empresas y como el modelo responde a ell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é amenazas se ciernen sobre este negocio?</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3:21:52Z</dcterms:created>
  <dc:creator>.</dc:creator>
  <dc:description/>
  <dc:language>en-US</dc:language>
  <cp:lastModifiedBy>.</cp:lastModifiedBy>
  <dcterms:modified xsi:type="dcterms:W3CDTF">2007-10-25T11:38:42Z</dcterms:modified>
  <cp:revision>14</cp:revision>
  <dc:subject/>
  <dc:title>Diapositiva 1</dc:title>
</cp:coreProperties>
</file>