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907588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6840" y="384912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6412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4970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5372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68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4970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5372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959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6412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5" r="0" b="0"/>
          <a:stretch/>
        </p:blipFill>
        <p:spPr>
          <a:xfrm>
            <a:off x="0" y="0"/>
            <a:ext cx="98931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2" name=""/>
          <p:cNvSpPr/>
          <p:nvPr/>
        </p:nvSpPr>
        <p:spPr>
          <a:xfrm>
            <a:off x="7772400" y="6124680"/>
            <a:ext cx="1724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583320"/>
            <a:ext cx="4952880" cy="2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67A00A47-8AF1-4612-830F-53A8A0C4E70C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       ©</a:t>
            </a:r>
            <a:r>
              <a:rPr b="0" i="1" lang="en-US" sz="800" spc="-1" strike="noStrike">
                <a:solidFill>
                  <a:srgbClr val="000000"/>
                </a:solidFill>
                <a:latin typeface="Nokia Sans Wide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NOKIA          E2E Visibility Presentation.PPT / 03.04.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805040" indent="-277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Nokia Sans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286000" indent="-281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Nokia Sans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286000" indent="-281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Nokia Sans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286000" indent="-281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Nokia Sans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7629480" y="6019920"/>
            <a:ext cx="573120" cy="583560"/>
            <a:chOff x="7629480" y="6019920"/>
            <a:chExt cx="573120" cy="583560"/>
          </a:xfrm>
        </p:grpSpPr>
        <p:sp>
          <p:nvSpPr>
            <p:cNvPr id="6" name=""/>
            <p:cNvSpPr/>
            <p:nvPr/>
          </p:nvSpPr>
          <p:spPr>
            <a:xfrm rot="8880000">
              <a:off x="7767000" y="6261840"/>
              <a:ext cx="399960" cy="248760"/>
            </a:xfrm>
            <a:prstGeom prst="parallelogram">
              <a:avLst>
                <a:gd name="adj" fmla="val 57226"/>
              </a:avLst>
            </a:prstGeom>
            <a:solidFill>
              <a:srgbClr val="0499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9480" y="6164280"/>
              <a:ext cx="231840" cy="439200"/>
            </a:xfrm>
            <a:custGeom>
              <a:avLst/>
              <a:gdLst/>
              <a:ahLst/>
              <a:rect l="l" t="t" r="r" b="b"/>
              <a:pathLst>
                <a:path w="146" h="277">
                  <a:moveTo>
                    <a:pt x="144" y="276"/>
                  </a:moveTo>
                  <a:lnTo>
                    <a:pt x="0" y="185"/>
                  </a:lnTo>
                  <a:lnTo>
                    <a:pt x="0" y="0"/>
                  </a:lnTo>
                  <a:lnTo>
                    <a:pt x="145" y="93"/>
                  </a:lnTo>
                  <a:lnTo>
                    <a:pt x="144" y="276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629480" y="6019920"/>
              <a:ext cx="449280" cy="299880"/>
            </a:xfrm>
            <a:custGeom>
              <a:avLst/>
              <a:gdLst/>
              <a:ahLst/>
              <a:rect l="l" t="t" r="r" b="b"/>
              <a:pathLst>
                <a:path w="283" h="189">
                  <a:moveTo>
                    <a:pt x="0" y="94"/>
                  </a:moveTo>
                  <a:lnTo>
                    <a:pt x="142" y="0"/>
                  </a:lnTo>
                  <a:lnTo>
                    <a:pt x="282" y="93"/>
                  </a:lnTo>
                  <a:lnTo>
                    <a:pt x="142" y="188"/>
                  </a:lnTo>
                  <a:lnTo>
                    <a:pt x="0" y="9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629480" y="6221160"/>
              <a:ext cx="223920" cy="382320"/>
            </a:xfrm>
            <a:custGeom>
              <a:avLst/>
              <a:gdLst/>
              <a:ahLst/>
              <a:rect l="l" t="t" r="r" b="b"/>
              <a:pathLst>
                <a:path w="141" h="241">
                  <a:moveTo>
                    <a:pt x="0" y="151"/>
                  </a:moveTo>
                  <a:lnTo>
                    <a:pt x="50" y="0"/>
                  </a:lnTo>
                  <a:lnTo>
                    <a:pt x="92" y="27"/>
                  </a:lnTo>
                  <a:lnTo>
                    <a:pt x="140" y="240"/>
                  </a:lnTo>
                  <a:lnTo>
                    <a:pt x="86" y="206"/>
                  </a:lnTo>
                  <a:lnTo>
                    <a:pt x="82" y="180"/>
                  </a:lnTo>
                  <a:lnTo>
                    <a:pt x="41" y="154"/>
                  </a:lnTo>
                  <a:lnTo>
                    <a:pt x="35" y="173"/>
                  </a:lnTo>
                  <a:lnTo>
                    <a:pt x="0" y="1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705800" y="6340320"/>
              <a:ext cx="50760" cy="110880"/>
            </a:xfrm>
            <a:custGeom>
              <a:avLst/>
              <a:gdLst/>
              <a:ahLst/>
              <a:rect l="l" t="t" r="r" b="b"/>
              <a:pathLst>
                <a:path w="32" h="70">
                  <a:moveTo>
                    <a:pt x="31" y="69"/>
                  </a:moveTo>
                  <a:lnTo>
                    <a:pt x="16" y="0"/>
                  </a:lnTo>
                  <a:lnTo>
                    <a:pt x="0" y="51"/>
                  </a:lnTo>
                  <a:lnTo>
                    <a:pt x="31" y="69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rot="19680000">
              <a:off x="7851960" y="6262200"/>
              <a:ext cx="234720" cy="248760"/>
            </a:xfrm>
            <a:prstGeom prst="parallelogram">
              <a:avLst>
                <a:gd name="adj" fmla="val 60792"/>
              </a:avLst>
            </a:prstGeom>
            <a:solidFill>
              <a:srgbClr val="8fd6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" name=""/>
            <p:cNvGrpSpPr/>
            <p:nvPr/>
          </p:nvGrpSpPr>
          <p:grpSpPr>
            <a:xfrm>
              <a:off x="7709040" y="6019920"/>
              <a:ext cx="372960" cy="246960"/>
              <a:chOff x="7709040" y="6019920"/>
              <a:chExt cx="372960" cy="246960"/>
            </a:xfrm>
          </p:grpSpPr>
          <p:sp>
            <p:nvSpPr>
              <p:cNvPr id="13" name=""/>
              <p:cNvSpPr/>
              <p:nvPr/>
            </p:nvSpPr>
            <p:spPr>
              <a:xfrm>
                <a:off x="7709040" y="6111720"/>
                <a:ext cx="223560" cy="155160"/>
              </a:xfrm>
              <a:custGeom>
                <a:avLst/>
                <a:gdLst/>
                <a:ahLst/>
                <a:rect l="l" t="t" r="r" b="b"/>
                <a:pathLst>
                  <a:path w="141" h="98">
                    <a:moveTo>
                      <a:pt x="0" y="68"/>
                    </a:moveTo>
                    <a:lnTo>
                      <a:pt x="97" y="0"/>
                    </a:lnTo>
                    <a:lnTo>
                      <a:pt x="140" y="29"/>
                    </a:lnTo>
                    <a:lnTo>
                      <a:pt x="43" y="97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786800" y="6019920"/>
                <a:ext cx="295200" cy="199800"/>
              </a:xfrm>
              <a:custGeom>
                <a:avLst/>
                <a:gdLst/>
                <a:ahLst/>
                <a:rect l="l" t="t" r="r" b="b"/>
                <a:pathLst>
                  <a:path w="186" h="126">
                    <a:moveTo>
                      <a:pt x="0" y="28"/>
                    </a:moveTo>
                    <a:lnTo>
                      <a:pt x="141" y="125"/>
                    </a:lnTo>
                    <a:lnTo>
                      <a:pt x="185" y="94"/>
                    </a:lnTo>
                    <a:lnTo>
                      <a:pt x="43" y="0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" name=""/>
          <p:cNvSpPr/>
          <p:nvPr/>
        </p:nvSpPr>
        <p:spPr>
          <a:xfrm>
            <a:off x="6551280" y="6621480"/>
            <a:ext cx="1687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I RESEARCH CENT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image" Target="../media/image5.wmf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255240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okia Sans Title SemiBold"/>
              </a:rPr>
              <a:t>End-to-End Visibility in Collaborative Business</a:t>
            </a:r>
            <a:endParaRPr b="0" lang="en-US" sz="32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03.04.2003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ki Laiho, Nokia Business Infrastructure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Jan Holmström, Helsinki University of Technology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Nokia Sans Title SemiBold"/>
              </a:rPr>
              <a:t>Current state analysis: Key results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83920" y="1041120"/>
            <a:ext cx="8861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80000"/>
              </a:lnSpc>
              <a:spcBef>
                <a:spcPts val="901"/>
              </a:spcBef>
              <a:buClr>
                <a:srgbClr val="063de8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Rather advanced, system supported planning processes do concentrate on planning months, weeks etc – but what would matter is “business visibility”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80000"/>
              </a:lnSpc>
              <a:spcBef>
                <a:spcPts val="901"/>
              </a:spcBef>
              <a:buClr>
                <a:srgbClr val="063de8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Supply plan changes can cause more distortion to upstream than end customer demand changes would require = Bullwhip effect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80000"/>
              </a:lnSpc>
              <a:spcBef>
                <a:spcPts val="901"/>
              </a:spcBef>
              <a:buClr>
                <a:srgbClr val="063de8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End-to-end visibility can easily be distracted e.g.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8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Multiple planning, consolidation and judgement points 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8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Lack of formal utilization and sharing of available data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8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De-synchronized planning activities across the chain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80000"/>
              </a:lnSpc>
              <a:spcBef>
                <a:spcPts val="901"/>
              </a:spcBef>
              <a:buClr>
                <a:srgbClr val="063de8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True understanding and utilization of demand visibility is much harder that it seems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8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The needs for visibility are varying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8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Lead times, inventories and massive processing of information reduce the value of visibility from step-to-step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8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For upstream chain visibility alone does not have any information value, it is just noise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3400" spc="-1" strike="noStrike">
                <a:solidFill>
                  <a:srgbClr val="000000"/>
                </a:solidFill>
                <a:latin typeface="Nokia Sans Title SemiBold"/>
              </a:rPr>
              <a:t>One size doesn’t fit all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57080" y="1063440"/>
            <a:ext cx="8404560" cy="526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Nokia Sans Wide"/>
              </a:rPr>
              <a:t>Rather than trying to build a ”one size fits all” massive model, it seems more realistic to use an appropriate combination of streamlined approaches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Nokia Sans Wide"/>
              </a:rPr>
              <a:t>Different situations need different planning approaches, and varying, appropiate source data at the right time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Nokia Sans Wide"/>
              </a:rPr>
              <a:t>what is the best input  depends on the life cycle phase, market characteristics etc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035000" y="3454560"/>
            <a:ext cx="8007480" cy="2819160"/>
            <a:chOff x="1035000" y="3454560"/>
            <a:chExt cx="8007480" cy="2819160"/>
          </a:xfrm>
        </p:grpSpPr>
        <p:grpSp>
          <p:nvGrpSpPr>
            <p:cNvPr id="130" name=""/>
            <p:cNvGrpSpPr/>
            <p:nvPr/>
          </p:nvGrpSpPr>
          <p:grpSpPr>
            <a:xfrm>
              <a:off x="2682720" y="4687920"/>
              <a:ext cx="99720" cy="1424520"/>
              <a:chOff x="2682720" y="4687920"/>
              <a:chExt cx="99720" cy="1424520"/>
            </a:xfrm>
          </p:grpSpPr>
          <p:sp>
            <p:nvSpPr>
              <p:cNvPr id="131" name=""/>
              <p:cNvSpPr/>
              <p:nvPr/>
            </p:nvSpPr>
            <p:spPr>
              <a:xfrm flipV="1">
                <a:off x="2730600" y="4777920"/>
                <a:ext cx="1800" cy="13345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682720" y="4687920"/>
                <a:ext cx="99720" cy="93600"/>
              </a:xfrm>
              <a:custGeom>
                <a:avLst/>
                <a:gdLst/>
                <a:ahLst/>
                <a:rect l="l" t="t" r="r" b="b"/>
                <a:pathLst>
                  <a:path w="117" h="118">
                    <a:moveTo>
                      <a:pt x="117" y="118"/>
                    </a:moveTo>
                    <a:lnTo>
                      <a:pt x="58" y="0"/>
                    </a:lnTo>
                    <a:lnTo>
                      <a:pt x="0" y="118"/>
                    </a:lnTo>
                    <a:lnTo>
                      <a:pt x="117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8438400" y="6019560"/>
              <a:ext cx="39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4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376360" y="4379760"/>
              <a:ext cx="652680" cy="29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464200" y="443232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400" spc="-1" strike="noStrike">
                  <a:solidFill>
                    <a:srgbClr val="000000"/>
                  </a:solidFill>
                  <a:latin typeface="Arial"/>
                </a:rPr>
                <a:t>Sa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2730600" y="6070320"/>
              <a:ext cx="5596560" cy="58680"/>
              <a:chOff x="2730600" y="6070320"/>
              <a:chExt cx="5596560" cy="58680"/>
            </a:xfrm>
          </p:grpSpPr>
          <p:sp>
            <p:nvSpPr>
              <p:cNvPr id="137" name=""/>
              <p:cNvSpPr/>
              <p:nvPr/>
            </p:nvSpPr>
            <p:spPr>
              <a:xfrm>
                <a:off x="2730600" y="6099120"/>
                <a:ext cx="55353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262360" y="6070320"/>
                <a:ext cx="64800" cy="58680"/>
              </a:xfrm>
              <a:custGeom>
                <a:avLst/>
                <a:gdLst/>
                <a:ahLst/>
                <a:rect l="l" t="t" r="r" b="b"/>
                <a:pathLst>
                  <a:path w="75" h="75">
                    <a:moveTo>
                      <a:pt x="0" y="75"/>
                    </a:moveTo>
                    <a:lnTo>
                      <a:pt x="75" y="37"/>
                    </a:lnTo>
                    <a:lnTo>
                      <a:pt x="0" y="0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2730600" y="4573440"/>
              <a:ext cx="5451480" cy="1525320"/>
            </a:xfrm>
            <a:custGeom>
              <a:avLst/>
              <a:gdLst/>
              <a:ahLst/>
              <a:rect l="l" t="t" r="r" b="b"/>
              <a:pathLst>
                <a:path w="6423" h="1922">
                  <a:moveTo>
                    <a:pt x="0" y="1922"/>
                  </a:moveTo>
                  <a:lnTo>
                    <a:pt x="41" y="1885"/>
                  </a:lnTo>
                  <a:lnTo>
                    <a:pt x="83" y="1847"/>
                  </a:lnTo>
                  <a:lnTo>
                    <a:pt x="125" y="1803"/>
                  </a:lnTo>
                  <a:lnTo>
                    <a:pt x="146" y="1779"/>
                  </a:lnTo>
                  <a:lnTo>
                    <a:pt x="166" y="1755"/>
                  </a:lnTo>
                  <a:lnTo>
                    <a:pt x="187" y="1727"/>
                  </a:lnTo>
                  <a:lnTo>
                    <a:pt x="208" y="1696"/>
                  </a:lnTo>
                  <a:lnTo>
                    <a:pt x="229" y="1662"/>
                  </a:lnTo>
                  <a:lnTo>
                    <a:pt x="250" y="1629"/>
                  </a:lnTo>
                  <a:lnTo>
                    <a:pt x="271" y="1596"/>
                  </a:lnTo>
                  <a:lnTo>
                    <a:pt x="292" y="1563"/>
                  </a:lnTo>
                  <a:lnTo>
                    <a:pt x="312" y="1532"/>
                  </a:lnTo>
                  <a:lnTo>
                    <a:pt x="333" y="1504"/>
                  </a:lnTo>
                  <a:lnTo>
                    <a:pt x="375" y="1456"/>
                  </a:lnTo>
                  <a:lnTo>
                    <a:pt x="417" y="1410"/>
                  </a:lnTo>
                  <a:lnTo>
                    <a:pt x="458" y="1372"/>
                  </a:lnTo>
                  <a:lnTo>
                    <a:pt x="500" y="1337"/>
                  </a:lnTo>
                  <a:lnTo>
                    <a:pt x="521" y="1325"/>
                  </a:lnTo>
                  <a:lnTo>
                    <a:pt x="542" y="1316"/>
                  </a:lnTo>
                  <a:lnTo>
                    <a:pt x="563" y="1311"/>
                  </a:lnTo>
                  <a:lnTo>
                    <a:pt x="583" y="1306"/>
                  </a:lnTo>
                  <a:lnTo>
                    <a:pt x="604" y="1299"/>
                  </a:lnTo>
                  <a:lnTo>
                    <a:pt x="625" y="1290"/>
                  </a:lnTo>
                  <a:lnTo>
                    <a:pt x="636" y="1283"/>
                  </a:lnTo>
                  <a:lnTo>
                    <a:pt x="646" y="1276"/>
                  </a:lnTo>
                  <a:lnTo>
                    <a:pt x="656" y="1266"/>
                  </a:lnTo>
                  <a:lnTo>
                    <a:pt x="667" y="1254"/>
                  </a:lnTo>
                  <a:lnTo>
                    <a:pt x="677" y="1240"/>
                  </a:lnTo>
                  <a:lnTo>
                    <a:pt x="688" y="1223"/>
                  </a:lnTo>
                  <a:lnTo>
                    <a:pt x="698" y="1205"/>
                  </a:lnTo>
                  <a:lnTo>
                    <a:pt x="709" y="1184"/>
                  </a:lnTo>
                  <a:lnTo>
                    <a:pt x="729" y="1139"/>
                  </a:lnTo>
                  <a:lnTo>
                    <a:pt x="750" y="1092"/>
                  </a:lnTo>
                  <a:lnTo>
                    <a:pt x="771" y="1043"/>
                  </a:lnTo>
                  <a:lnTo>
                    <a:pt x="792" y="998"/>
                  </a:lnTo>
                  <a:lnTo>
                    <a:pt x="813" y="955"/>
                  </a:lnTo>
                  <a:lnTo>
                    <a:pt x="823" y="937"/>
                  </a:lnTo>
                  <a:lnTo>
                    <a:pt x="834" y="920"/>
                  </a:lnTo>
                  <a:lnTo>
                    <a:pt x="855" y="892"/>
                  </a:lnTo>
                  <a:lnTo>
                    <a:pt x="877" y="868"/>
                  </a:lnTo>
                  <a:lnTo>
                    <a:pt x="900" y="849"/>
                  </a:lnTo>
                  <a:lnTo>
                    <a:pt x="922" y="831"/>
                  </a:lnTo>
                  <a:lnTo>
                    <a:pt x="945" y="814"/>
                  </a:lnTo>
                  <a:lnTo>
                    <a:pt x="964" y="797"/>
                  </a:lnTo>
                  <a:lnTo>
                    <a:pt x="983" y="777"/>
                  </a:lnTo>
                  <a:lnTo>
                    <a:pt x="1001" y="753"/>
                  </a:lnTo>
                  <a:lnTo>
                    <a:pt x="1013" y="725"/>
                  </a:lnTo>
                  <a:lnTo>
                    <a:pt x="1021" y="692"/>
                  </a:lnTo>
                  <a:lnTo>
                    <a:pt x="1027" y="657"/>
                  </a:lnTo>
                  <a:lnTo>
                    <a:pt x="1032" y="623"/>
                  </a:lnTo>
                  <a:lnTo>
                    <a:pt x="1039" y="588"/>
                  </a:lnTo>
                  <a:lnTo>
                    <a:pt x="1047" y="555"/>
                  </a:lnTo>
                  <a:lnTo>
                    <a:pt x="1054" y="541"/>
                  </a:lnTo>
                  <a:lnTo>
                    <a:pt x="1061" y="527"/>
                  </a:lnTo>
                  <a:lnTo>
                    <a:pt x="1072" y="513"/>
                  </a:lnTo>
                  <a:lnTo>
                    <a:pt x="1084" y="503"/>
                  </a:lnTo>
                  <a:lnTo>
                    <a:pt x="1098" y="492"/>
                  </a:lnTo>
                  <a:lnTo>
                    <a:pt x="1114" y="484"/>
                  </a:lnTo>
                  <a:lnTo>
                    <a:pt x="1150" y="470"/>
                  </a:lnTo>
                  <a:lnTo>
                    <a:pt x="1190" y="459"/>
                  </a:lnTo>
                  <a:lnTo>
                    <a:pt x="1235" y="451"/>
                  </a:lnTo>
                  <a:lnTo>
                    <a:pt x="1282" y="444"/>
                  </a:lnTo>
                  <a:lnTo>
                    <a:pt x="1329" y="437"/>
                  </a:lnTo>
                  <a:lnTo>
                    <a:pt x="1374" y="428"/>
                  </a:lnTo>
                  <a:lnTo>
                    <a:pt x="1418" y="419"/>
                  </a:lnTo>
                  <a:lnTo>
                    <a:pt x="1503" y="397"/>
                  </a:lnTo>
                  <a:lnTo>
                    <a:pt x="1590" y="372"/>
                  </a:lnTo>
                  <a:lnTo>
                    <a:pt x="1673" y="351"/>
                  </a:lnTo>
                  <a:lnTo>
                    <a:pt x="1713" y="343"/>
                  </a:lnTo>
                  <a:lnTo>
                    <a:pt x="1751" y="336"/>
                  </a:lnTo>
                  <a:lnTo>
                    <a:pt x="1786" y="332"/>
                  </a:lnTo>
                  <a:lnTo>
                    <a:pt x="1819" y="332"/>
                  </a:lnTo>
                  <a:lnTo>
                    <a:pt x="1852" y="334"/>
                  </a:lnTo>
                  <a:lnTo>
                    <a:pt x="1882" y="336"/>
                  </a:lnTo>
                  <a:lnTo>
                    <a:pt x="1911" y="338"/>
                  </a:lnTo>
                  <a:lnTo>
                    <a:pt x="1941" y="339"/>
                  </a:lnTo>
                  <a:lnTo>
                    <a:pt x="1970" y="339"/>
                  </a:lnTo>
                  <a:lnTo>
                    <a:pt x="2002" y="336"/>
                  </a:lnTo>
                  <a:lnTo>
                    <a:pt x="2062" y="325"/>
                  </a:lnTo>
                  <a:lnTo>
                    <a:pt x="2092" y="318"/>
                  </a:lnTo>
                  <a:lnTo>
                    <a:pt x="2121" y="310"/>
                  </a:lnTo>
                  <a:lnTo>
                    <a:pt x="2153" y="299"/>
                  </a:lnTo>
                  <a:lnTo>
                    <a:pt x="2184" y="287"/>
                  </a:lnTo>
                  <a:lnTo>
                    <a:pt x="2217" y="271"/>
                  </a:lnTo>
                  <a:lnTo>
                    <a:pt x="2252" y="252"/>
                  </a:lnTo>
                  <a:lnTo>
                    <a:pt x="2271" y="240"/>
                  </a:lnTo>
                  <a:lnTo>
                    <a:pt x="2290" y="224"/>
                  </a:lnTo>
                  <a:lnTo>
                    <a:pt x="2309" y="205"/>
                  </a:lnTo>
                  <a:lnTo>
                    <a:pt x="2330" y="186"/>
                  </a:lnTo>
                  <a:lnTo>
                    <a:pt x="2372" y="141"/>
                  </a:lnTo>
                  <a:lnTo>
                    <a:pt x="2413" y="96"/>
                  </a:lnTo>
                  <a:lnTo>
                    <a:pt x="2434" y="75"/>
                  </a:lnTo>
                  <a:lnTo>
                    <a:pt x="2457" y="54"/>
                  </a:lnTo>
                  <a:lnTo>
                    <a:pt x="2478" y="37"/>
                  </a:lnTo>
                  <a:lnTo>
                    <a:pt x="2500" y="21"/>
                  </a:lnTo>
                  <a:lnTo>
                    <a:pt x="2521" y="11"/>
                  </a:lnTo>
                  <a:lnTo>
                    <a:pt x="2544" y="2"/>
                  </a:lnTo>
                  <a:lnTo>
                    <a:pt x="2565" y="0"/>
                  </a:lnTo>
                  <a:lnTo>
                    <a:pt x="2585" y="2"/>
                  </a:lnTo>
                  <a:lnTo>
                    <a:pt x="2596" y="5"/>
                  </a:lnTo>
                  <a:lnTo>
                    <a:pt x="2606" y="11"/>
                  </a:lnTo>
                  <a:lnTo>
                    <a:pt x="2627" y="26"/>
                  </a:lnTo>
                  <a:lnTo>
                    <a:pt x="2650" y="45"/>
                  </a:lnTo>
                  <a:lnTo>
                    <a:pt x="2671" y="71"/>
                  </a:lnTo>
                  <a:lnTo>
                    <a:pt x="2693" y="99"/>
                  </a:lnTo>
                  <a:lnTo>
                    <a:pt x="2714" y="132"/>
                  </a:lnTo>
                  <a:lnTo>
                    <a:pt x="2737" y="165"/>
                  </a:lnTo>
                  <a:lnTo>
                    <a:pt x="2758" y="200"/>
                  </a:lnTo>
                  <a:lnTo>
                    <a:pt x="2801" y="270"/>
                  </a:lnTo>
                  <a:lnTo>
                    <a:pt x="2822" y="303"/>
                  </a:lnTo>
                  <a:lnTo>
                    <a:pt x="2841" y="334"/>
                  </a:lnTo>
                  <a:lnTo>
                    <a:pt x="2862" y="362"/>
                  </a:lnTo>
                  <a:lnTo>
                    <a:pt x="2881" y="386"/>
                  </a:lnTo>
                  <a:lnTo>
                    <a:pt x="2900" y="405"/>
                  </a:lnTo>
                  <a:lnTo>
                    <a:pt x="2919" y="419"/>
                  </a:lnTo>
                  <a:lnTo>
                    <a:pt x="2937" y="428"/>
                  </a:lnTo>
                  <a:lnTo>
                    <a:pt x="2954" y="433"/>
                  </a:lnTo>
                  <a:lnTo>
                    <a:pt x="2971" y="435"/>
                  </a:lnTo>
                  <a:lnTo>
                    <a:pt x="2987" y="433"/>
                  </a:lnTo>
                  <a:lnTo>
                    <a:pt x="3004" y="430"/>
                  </a:lnTo>
                  <a:lnTo>
                    <a:pt x="3020" y="424"/>
                  </a:lnTo>
                  <a:lnTo>
                    <a:pt x="3049" y="409"/>
                  </a:lnTo>
                  <a:lnTo>
                    <a:pt x="3079" y="390"/>
                  </a:lnTo>
                  <a:lnTo>
                    <a:pt x="3109" y="369"/>
                  </a:lnTo>
                  <a:lnTo>
                    <a:pt x="3138" y="350"/>
                  </a:lnTo>
                  <a:lnTo>
                    <a:pt x="3154" y="343"/>
                  </a:lnTo>
                  <a:lnTo>
                    <a:pt x="3169" y="336"/>
                  </a:lnTo>
                  <a:lnTo>
                    <a:pt x="3230" y="313"/>
                  </a:lnTo>
                  <a:lnTo>
                    <a:pt x="3289" y="289"/>
                  </a:lnTo>
                  <a:lnTo>
                    <a:pt x="3352" y="268"/>
                  </a:lnTo>
                  <a:lnTo>
                    <a:pt x="3385" y="259"/>
                  </a:lnTo>
                  <a:lnTo>
                    <a:pt x="3420" y="252"/>
                  </a:lnTo>
                  <a:lnTo>
                    <a:pt x="3458" y="245"/>
                  </a:lnTo>
                  <a:lnTo>
                    <a:pt x="3498" y="237"/>
                  </a:lnTo>
                  <a:lnTo>
                    <a:pt x="3540" y="228"/>
                  </a:lnTo>
                  <a:lnTo>
                    <a:pt x="3581" y="221"/>
                  </a:lnTo>
                  <a:lnTo>
                    <a:pt x="3625" y="218"/>
                  </a:lnTo>
                  <a:lnTo>
                    <a:pt x="3646" y="219"/>
                  </a:lnTo>
                  <a:lnTo>
                    <a:pt x="3668" y="221"/>
                  </a:lnTo>
                  <a:lnTo>
                    <a:pt x="3689" y="224"/>
                  </a:lnTo>
                  <a:lnTo>
                    <a:pt x="3712" y="231"/>
                  </a:lnTo>
                  <a:lnTo>
                    <a:pt x="3732" y="240"/>
                  </a:lnTo>
                  <a:lnTo>
                    <a:pt x="3753" y="252"/>
                  </a:lnTo>
                  <a:lnTo>
                    <a:pt x="3774" y="268"/>
                  </a:lnTo>
                  <a:lnTo>
                    <a:pt x="3795" y="287"/>
                  </a:lnTo>
                  <a:lnTo>
                    <a:pt x="3816" y="310"/>
                  </a:lnTo>
                  <a:lnTo>
                    <a:pt x="3837" y="336"/>
                  </a:lnTo>
                  <a:lnTo>
                    <a:pt x="3858" y="364"/>
                  </a:lnTo>
                  <a:lnTo>
                    <a:pt x="3878" y="393"/>
                  </a:lnTo>
                  <a:lnTo>
                    <a:pt x="3920" y="456"/>
                  </a:lnTo>
                  <a:lnTo>
                    <a:pt x="3962" y="520"/>
                  </a:lnTo>
                  <a:lnTo>
                    <a:pt x="3983" y="550"/>
                  </a:lnTo>
                  <a:lnTo>
                    <a:pt x="4004" y="579"/>
                  </a:lnTo>
                  <a:lnTo>
                    <a:pt x="4024" y="605"/>
                  </a:lnTo>
                  <a:lnTo>
                    <a:pt x="4045" y="631"/>
                  </a:lnTo>
                  <a:lnTo>
                    <a:pt x="4066" y="652"/>
                  </a:lnTo>
                  <a:lnTo>
                    <a:pt x="4087" y="670"/>
                  </a:lnTo>
                  <a:lnTo>
                    <a:pt x="4108" y="684"/>
                  </a:lnTo>
                  <a:lnTo>
                    <a:pt x="4129" y="697"/>
                  </a:lnTo>
                  <a:lnTo>
                    <a:pt x="4150" y="708"/>
                  </a:lnTo>
                  <a:lnTo>
                    <a:pt x="4170" y="717"/>
                  </a:lnTo>
                  <a:lnTo>
                    <a:pt x="4212" y="729"/>
                  </a:lnTo>
                  <a:lnTo>
                    <a:pt x="4254" y="737"/>
                  </a:lnTo>
                  <a:lnTo>
                    <a:pt x="4295" y="743"/>
                  </a:lnTo>
                  <a:lnTo>
                    <a:pt x="4337" y="746"/>
                  </a:lnTo>
                  <a:lnTo>
                    <a:pt x="4379" y="750"/>
                  </a:lnTo>
                  <a:lnTo>
                    <a:pt x="4421" y="753"/>
                  </a:lnTo>
                  <a:lnTo>
                    <a:pt x="4462" y="757"/>
                  </a:lnTo>
                  <a:lnTo>
                    <a:pt x="4506" y="758"/>
                  </a:lnTo>
                  <a:lnTo>
                    <a:pt x="4593" y="758"/>
                  </a:lnTo>
                  <a:lnTo>
                    <a:pt x="4676" y="755"/>
                  </a:lnTo>
                  <a:lnTo>
                    <a:pt x="4716" y="753"/>
                  </a:lnTo>
                  <a:lnTo>
                    <a:pt x="4754" y="753"/>
                  </a:lnTo>
                  <a:lnTo>
                    <a:pt x="4789" y="751"/>
                  </a:lnTo>
                  <a:lnTo>
                    <a:pt x="4822" y="750"/>
                  </a:lnTo>
                  <a:lnTo>
                    <a:pt x="4885" y="743"/>
                  </a:lnTo>
                  <a:lnTo>
                    <a:pt x="4914" y="741"/>
                  </a:lnTo>
                  <a:lnTo>
                    <a:pt x="4944" y="741"/>
                  </a:lnTo>
                  <a:lnTo>
                    <a:pt x="4973" y="744"/>
                  </a:lnTo>
                  <a:lnTo>
                    <a:pt x="5005" y="753"/>
                  </a:lnTo>
                  <a:lnTo>
                    <a:pt x="5036" y="765"/>
                  </a:lnTo>
                  <a:lnTo>
                    <a:pt x="5067" y="781"/>
                  </a:lnTo>
                  <a:lnTo>
                    <a:pt x="5098" y="800"/>
                  </a:lnTo>
                  <a:lnTo>
                    <a:pt x="5130" y="821"/>
                  </a:lnTo>
                  <a:lnTo>
                    <a:pt x="5161" y="844"/>
                  </a:lnTo>
                  <a:lnTo>
                    <a:pt x="5192" y="868"/>
                  </a:lnTo>
                  <a:lnTo>
                    <a:pt x="5255" y="920"/>
                  </a:lnTo>
                  <a:lnTo>
                    <a:pt x="5284" y="948"/>
                  </a:lnTo>
                  <a:lnTo>
                    <a:pt x="5314" y="979"/>
                  </a:lnTo>
                  <a:lnTo>
                    <a:pt x="5342" y="1012"/>
                  </a:lnTo>
                  <a:lnTo>
                    <a:pt x="5369" y="1045"/>
                  </a:lnTo>
                  <a:lnTo>
                    <a:pt x="5399" y="1078"/>
                  </a:lnTo>
                  <a:lnTo>
                    <a:pt x="5430" y="1111"/>
                  </a:lnTo>
                  <a:lnTo>
                    <a:pt x="5465" y="1143"/>
                  </a:lnTo>
                  <a:lnTo>
                    <a:pt x="5505" y="1170"/>
                  </a:lnTo>
                  <a:lnTo>
                    <a:pt x="5548" y="1196"/>
                  </a:lnTo>
                  <a:lnTo>
                    <a:pt x="5597" y="1221"/>
                  </a:lnTo>
                  <a:lnTo>
                    <a:pt x="5649" y="1243"/>
                  </a:lnTo>
                  <a:lnTo>
                    <a:pt x="5703" y="1264"/>
                  </a:lnTo>
                  <a:lnTo>
                    <a:pt x="5814" y="1304"/>
                  </a:lnTo>
                  <a:lnTo>
                    <a:pt x="5868" y="1322"/>
                  </a:lnTo>
                  <a:lnTo>
                    <a:pt x="5922" y="1337"/>
                  </a:lnTo>
                  <a:lnTo>
                    <a:pt x="5976" y="1353"/>
                  </a:lnTo>
                  <a:lnTo>
                    <a:pt x="6035" y="1367"/>
                  </a:lnTo>
                  <a:lnTo>
                    <a:pt x="6092" y="1379"/>
                  </a:lnTo>
                  <a:lnTo>
                    <a:pt x="6151" y="1389"/>
                  </a:lnTo>
                  <a:lnTo>
                    <a:pt x="6207" y="1400"/>
                  </a:lnTo>
                  <a:lnTo>
                    <a:pt x="6259" y="1409"/>
                  </a:lnTo>
                  <a:lnTo>
                    <a:pt x="6282" y="1412"/>
                  </a:lnTo>
                  <a:lnTo>
                    <a:pt x="6303" y="1416"/>
                  </a:lnTo>
                  <a:lnTo>
                    <a:pt x="6322" y="1417"/>
                  </a:lnTo>
                  <a:lnTo>
                    <a:pt x="6339" y="1421"/>
                  </a:lnTo>
                  <a:lnTo>
                    <a:pt x="6353" y="1423"/>
                  </a:lnTo>
                  <a:lnTo>
                    <a:pt x="6367" y="1424"/>
                  </a:lnTo>
                  <a:lnTo>
                    <a:pt x="6388" y="1428"/>
                  </a:lnTo>
                  <a:lnTo>
                    <a:pt x="6402" y="1429"/>
                  </a:lnTo>
                  <a:lnTo>
                    <a:pt x="6412" y="1429"/>
                  </a:lnTo>
                  <a:lnTo>
                    <a:pt x="6419" y="1428"/>
                  </a:lnTo>
                  <a:lnTo>
                    <a:pt x="6421" y="1426"/>
                  </a:lnTo>
                  <a:lnTo>
                    <a:pt x="6423" y="1424"/>
                  </a:lnTo>
                  <a:lnTo>
                    <a:pt x="6423" y="1421"/>
                  </a:lnTo>
                </a:path>
              </a:pathLst>
            </a:custGeom>
            <a:solidFill>
              <a:srgbClr val="e7eef1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4954680" y="4243320"/>
              <a:ext cx="215280" cy="264240"/>
              <a:chOff x="4954680" y="4243320"/>
              <a:chExt cx="215280" cy="264240"/>
            </a:xfrm>
          </p:grpSpPr>
          <p:sp>
            <p:nvSpPr>
              <p:cNvPr id="141" name=""/>
              <p:cNvSpPr/>
              <p:nvPr/>
            </p:nvSpPr>
            <p:spPr>
              <a:xfrm flipH="1">
                <a:off x="5011560" y="4243320"/>
                <a:ext cx="158400" cy="1933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954680" y="4406400"/>
                <a:ext cx="101520" cy="101160"/>
              </a:xfrm>
              <a:custGeom>
                <a:avLst/>
                <a:gdLst/>
                <a:ahLst/>
                <a:rect l="l" t="t" r="r" b="b"/>
                <a:pathLst>
                  <a:path w="119" h="128">
                    <a:moveTo>
                      <a:pt x="25" y="0"/>
                    </a:moveTo>
                    <a:lnTo>
                      <a:pt x="0" y="128"/>
                    </a:lnTo>
                    <a:lnTo>
                      <a:pt x="119" y="69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66042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6534000" y="4376520"/>
              <a:ext cx="715680" cy="727920"/>
              <a:chOff x="6534000" y="4376520"/>
              <a:chExt cx="715680" cy="727920"/>
            </a:xfrm>
          </p:grpSpPr>
          <p:sp>
            <p:nvSpPr>
              <p:cNvPr id="144" name=""/>
              <p:cNvSpPr/>
              <p:nvPr/>
            </p:nvSpPr>
            <p:spPr>
              <a:xfrm flipH="1">
                <a:off x="6597360" y="4376520"/>
                <a:ext cx="652320" cy="6616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534000" y="5003280"/>
                <a:ext cx="106560" cy="101160"/>
              </a:xfrm>
              <a:custGeom>
                <a:avLst/>
                <a:gdLst/>
                <a:ahLst/>
                <a:rect l="l" t="t" r="r" b="b"/>
                <a:pathLst>
                  <a:path w="123" h="127">
                    <a:moveTo>
                      <a:pt x="36" y="0"/>
                    </a:moveTo>
                    <a:lnTo>
                      <a:pt x="0" y="127"/>
                    </a:lnTo>
                    <a:lnTo>
                      <a:pt x="123" y="8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66042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3162240" y="3846240"/>
              <a:ext cx="136368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246480" y="3892320"/>
              <a:ext cx="1247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Rapid sharing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45400" y="4078080"/>
              <a:ext cx="959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true demand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46840" y="4262400"/>
              <a:ext cx="838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inform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70320" y="3581280"/>
              <a:ext cx="14353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256720" y="3627360"/>
              <a:ext cx="797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Sharing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256360" y="3813120"/>
              <a:ext cx="14425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smoothed marke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view and promo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plans, efficienc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250040" y="3779640"/>
              <a:ext cx="14367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335720" y="4011480"/>
              <a:ext cx="1119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Comparison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331760" y="4195800"/>
              <a:ext cx="1040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realized sale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336080" y="4381560"/>
              <a:ext cx="16452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vs. forecast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controlled ramp-dow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082520" y="4630680"/>
              <a:ext cx="1148040" cy="63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66400" y="4676760"/>
              <a:ext cx="124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Early predic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168200" y="4860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2085840" y="5236920"/>
              <a:ext cx="717480" cy="727920"/>
              <a:chOff x="2085840" y="5236920"/>
              <a:chExt cx="717480" cy="727920"/>
            </a:xfrm>
          </p:grpSpPr>
          <p:sp>
            <p:nvSpPr>
              <p:cNvPr id="161" name=""/>
              <p:cNvSpPr/>
              <p:nvPr/>
            </p:nvSpPr>
            <p:spPr>
              <a:xfrm>
                <a:off x="2085840" y="5236920"/>
                <a:ext cx="654120" cy="6631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698560" y="5865120"/>
                <a:ext cx="104760" cy="99720"/>
              </a:xfrm>
              <a:custGeom>
                <a:avLst/>
                <a:gdLst/>
                <a:ahLst/>
                <a:rect l="l" t="t" r="r" b="b"/>
                <a:pathLst>
                  <a:path w="122" h="127">
                    <a:moveTo>
                      <a:pt x="0" y="80"/>
                    </a:moveTo>
                    <a:lnTo>
                      <a:pt x="122" y="127"/>
                    </a:lnTo>
                    <a:lnTo>
                      <a:pt x="87" y="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66042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928960" y="4508280"/>
              <a:ext cx="448560" cy="1258200"/>
              <a:chOff x="2928960" y="4508280"/>
              <a:chExt cx="448560" cy="1258200"/>
            </a:xfrm>
          </p:grpSpPr>
          <p:sp>
            <p:nvSpPr>
              <p:cNvPr id="164" name=""/>
              <p:cNvSpPr/>
              <p:nvPr/>
            </p:nvSpPr>
            <p:spPr>
              <a:xfrm flipH="1">
                <a:off x="2976840" y="4508280"/>
                <a:ext cx="400680" cy="1172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928960" y="5663520"/>
                <a:ext cx="96120" cy="102960"/>
              </a:xfrm>
              <a:custGeom>
                <a:avLst/>
                <a:gdLst/>
                <a:ahLst/>
                <a:rect l="l" t="t" r="r" b="b"/>
                <a:pathLst>
                  <a:path w="113" h="130">
                    <a:moveTo>
                      <a:pt x="0" y="0"/>
                    </a:moveTo>
                    <a:lnTo>
                      <a:pt x="21" y="130"/>
                    </a:lnTo>
                    <a:lnTo>
                      <a:pt x="113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042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3146400" y="5759280"/>
              <a:ext cx="5035680" cy="326880"/>
            </a:xfrm>
            <a:prstGeom prst="rect">
              <a:avLst/>
            </a:prstGeom>
            <a:solidFill>
              <a:srgbClr val="e7e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439040" y="5726160"/>
              <a:ext cx="743040" cy="75600"/>
            </a:xfrm>
            <a:prstGeom prst="rect">
              <a:avLst/>
            </a:prstGeom>
            <a:solidFill>
              <a:srgbClr val="e7e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35000" y="3454560"/>
              <a:ext cx="8007480" cy="281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Nokia Sans Title SemiBold"/>
              </a:rPr>
              <a:t>Concept: Product-focused, phased planning 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2394000" y="1647720"/>
            <a:ext cx="0" cy="373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394000" y="5381640"/>
            <a:ext cx="627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452680" y="3476520"/>
            <a:ext cx="1244520" cy="1900440"/>
          </a:xfrm>
          <a:custGeom>
            <a:avLst/>
            <a:gdLst/>
            <a:ahLst/>
            <a:rect l="l" t="t" r="r" b="b"/>
            <a:pathLst>
              <a:path w="724" h="1197">
                <a:moveTo>
                  <a:pt x="0" y="1197"/>
                </a:moveTo>
                <a:cubicBezTo>
                  <a:pt x="27" y="918"/>
                  <a:pt x="44" y="640"/>
                  <a:pt x="165" y="441"/>
                </a:cubicBezTo>
                <a:cubicBezTo>
                  <a:pt x="286" y="242"/>
                  <a:pt x="608" y="92"/>
                  <a:pt x="724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971800" y="4100400"/>
            <a:ext cx="746280" cy="1281240"/>
          </a:xfrm>
          <a:custGeom>
            <a:avLst/>
            <a:gdLst/>
            <a:ahLst/>
            <a:rect l="l" t="t" r="r" b="b"/>
            <a:pathLst>
              <a:path w="434" h="807">
                <a:moveTo>
                  <a:pt x="0" y="807"/>
                </a:moveTo>
                <a:cubicBezTo>
                  <a:pt x="64" y="562"/>
                  <a:pt x="137" y="333"/>
                  <a:pt x="209" y="198"/>
                </a:cubicBezTo>
                <a:cubicBezTo>
                  <a:pt x="281" y="63"/>
                  <a:pt x="387" y="41"/>
                  <a:pt x="434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32040" y="4010040"/>
            <a:ext cx="193680" cy="1652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5400000">
            <a:off x="2609640" y="5324400"/>
            <a:ext cx="228600" cy="495360"/>
          </a:xfrm>
          <a:custGeom>
            <a:avLst/>
            <a:gdLst>
              <a:gd name="textAreaLeft" fmla="*/ 0 w 228600"/>
              <a:gd name="textAreaRight" fmla="*/ 82440 w 228600"/>
              <a:gd name="textAreaTop" fmla="*/ 12600 h 495360"/>
              <a:gd name="textAreaBottom" fmla="*/ 482760 h 4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11560" y="5702400"/>
            <a:ext cx="74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amp-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5400000">
            <a:off x="3558960" y="4870440"/>
            <a:ext cx="228600" cy="1403280"/>
          </a:xfrm>
          <a:custGeom>
            <a:avLst/>
            <a:gdLst>
              <a:gd name="textAreaLeft" fmla="*/ 0 w 228600"/>
              <a:gd name="textAreaRight" fmla="*/ 82440 w 228600"/>
              <a:gd name="textAreaTop" fmla="*/ 36360 h 1403280"/>
              <a:gd name="textAreaBottom" fmla="*/ 1366920 h 14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1520" y="1676520"/>
            <a:ext cx="123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pply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52960" y="4467240"/>
            <a:ext cx="843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is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19480" y="5686560"/>
            <a:ext cx="985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duct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965320" y="3781440"/>
            <a:ext cx="749520" cy="1595520"/>
          </a:xfrm>
          <a:custGeom>
            <a:avLst/>
            <a:gdLst/>
            <a:ahLst/>
            <a:rect l="l" t="t" r="r" b="b"/>
            <a:pathLst>
              <a:path w="724" h="1197">
                <a:moveTo>
                  <a:pt x="0" y="1197"/>
                </a:moveTo>
                <a:cubicBezTo>
                  <a:pt x="27" y="918"/>
                  <a:pt x="44" y="640"/>
                  <a:pt x="165" y="441"/>
                </a:cubicBezTo>
                <a:cubicBezTo>
                  <a:pt x="286" y="242"/>
                  <a:pt x="608" y="92"/>
                  <a:pt x="724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714840" y="279072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420040" y="5610240"/>
            <a:ext cx="7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90720" y="1523880"/>
            <a:ext cx="1238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umulative volume for product (or varia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594560" y="2438280"/>
            <a:ext cx="173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mand foreca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728880" y="2166840"/>
            <a:ext cx="2165400" cy="1301760"/>
          </a:xfrm>
          <a:custGeom>
            <a:avLst/>
            <a:gdLst/>
            <a:ahLst/>
            <a:rect l="l" t="t" r="r" b="b"/>
            <a:pathLst>
              <a:path w="1259" h="820">
                <a:moveTo>
                  <a:pt x="0" y="820"/>
                </a:moveTo>
                <a:cubicBezTo>
                  <a:pt x="93" y="753"/>
                  <a:pt x="349" y="553"/>
                  <a:pt x="559" y="416"/>
                </a:cubicBezTo>
                <a:cubicBezTo>
                  <a:pt x="769" y="279"/>
                  <a:pt x="1113" y="87"/>
                  <a:pt x="1259" y="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714840" y="2486160"/>
            <a:ext cx="2165400" cy="1301760"/>
          </a:xfrm>
          <a:custGeom>
            <a:avLst/>
            <a:gdLst/>
            <a:ahLst/>
            <a:rect l="l" t="t" r="r" b="b"/>
            <a:pathLst>
              <a:path w="1259" h="820">
                <a:moveTo>
                  <a:pt x="0" y="820"/>
                </a:moveTo>
                <a:cubicBezTo>
                  <a:pt x="93" y="753"/>
                  <a:pt x="349" y="553"/>
                  <a:pt x="559" y="416"/>
                </a:cubicBezTo>
                <a:cubicBezTo>
                  <a:pt x="769" y="279"/>
                  <a:pt x="1113" y="87"/>
                  <a:pt x="1259" y="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81280" y="2286000"/>
            <a:ext cx="4095720" cy="1757520"/>
          </a:xfrm>
          <a:custGeom>
            <a:avLst/>
            <a:gdLst/>
            <a:ahLst/>
            <a:rect l="l" t="t" r="r" b="b"/>
            <a:pathLst>
              <a:path w="2435" h="1194">
                <a:moveTo>
                  <a:pt x="81" y="1024"/>
                </a:moveTo>
                <a:cubicBezTo>
                  <a:pt x="118" y="1033"/>
                  <a:pt x="0" y="1194"/>
                  <a:pt x="306" y="1081"/>
                </a:cubicBezTo>
                <a:cubicBezTo>
                  <a:pt x="612" y="968"/>
                  <a:pt x="1576" y="508"/>
                  <a:pt x="1916" y="345"/>
                </a:cubicBezTo>
                <a:cubicBezTo>
                  <a:pt x="2256" y="182"/>
                  <a:pt x="2263" y="158"/>
                  <a:pt x="2349" y="101"/>
                </a:cubicBezTo>
                <a:cubicBezTo>
                  <a:pt x="2435" y="44"/>
                  <a:pt x="2416" y="21"/>
                  <a:pt x="2433" y="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714840" y="2279520"/>
            <a:ext cx="3303360" cy="1181160"/>
          </a:xfrm>
          <a:custGeom>
            <a:avLst/>
            <a:gdLst/>
            <a:ahLst/>
            <a:rect l="l" t="t" r="r" b="b"/>
            <a:pathLst>
              <a:path w="1921" h="744">
                <a:moveTo>
                  <a:pt x="0" y="744"/>
                </a:moveTo>
                <a:cubicBezTo>
                  <a:pt x="41" y="727"/>
                  <a:pt x="155" y="677"/>
                  <a:pt x="250" y="646"/>
                </a:cubicBezTo>
                <a:cubicBezTo>
                  <a:pt x="345" y="615"/>
                  <a:pt x="294" y="665"/>
                  <a:pt x="573" y="557"/>
                </a:cubicBezTo>
                <a:cubicBezTo>
                  <a:pt x="852" y="449"/>
                  <a:pt x="1640" y="116"/>
                  <a:pt x="1921" y="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558880" y="2486160"/>
            <a:ext cx="148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just plans + price 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5540040" y="4292640"/>
            <a:ext cx="228600" cy="2559240"/>
          </a:xfrm>
          <a:custGeom>
            <a:avLst/>
            <a:gdLst>
              <a:gd name="textAreaLeft" fmla="*/ 0 w 228600"/>
              <a:gd name="textAreaRight" fmla="*/ 82440 w 228600"/>
              <a:gd name="textAreaTop" fmla="*/ 67320 h 2559240"/>
              <a:gd name="textAreaBottom" fmla="*/ 2491920 h 2559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10"/>
                  <a:pt x="10800" y="1820"/>
                </a:cubicBezTo>
                <a:lnTo>
                  <a:pt x="10800" y="8980"/>
                </a:lnTo>
                <a:cubicBezTo>
                  <a:pt x="10800" y="9890"/>
                  <a:pt x="16200" y="10800"/>
                  <a:pt x="21600" y="10800"/>
                </a:cubicBezTo>
                <a:cubicBezTo>
                  <a:pt x="16200" y="10800"/>
                  <a:pt x="10800" y="11710"/>
                  <a:pt x="10800" y="12620"/>
                </a:cubicBezTo>
                <a:lnTo>
                  <a:pt x="10800" y="19780"/>
                </a:lnTo>
                <a:cubicBezTo>
                  <a:pt x="10800" y="2069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88000" y="5686560"/>
            <a:ext cx="14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usiness as usual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62520" y="2028960"/>
            <a:ext cx="41256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54240" y="1724040"/>
            <a:ext cx="2146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witch to streamlined plan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273720" y="1724040"/>
            <a:ext cx="660600" cy="5619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7149960" y="5194080"/>
            <a:ext cx="228600" cy="660240"/>
          </a:xfrm>
          <a:custGeom>
            <a:avLst/>
            <a:gdLst>
              <a:gd name="textAreaLeft" fmla="*/ 0 w 228600"/>
              <a:gd name="textAreaRight" fmla="*/ 82440 w 228600"/>
              <a:gd name="textAreaTop" fmla="*/ 16920 h 660240"/>
              <a:gd name="textAreaBottom" fmla="*/ 643320 h 66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934320" y="5638680"/>
            <a:ext cx="1073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amp-dow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64200" y="3705120"/>
            <a:ext cx="193680" cy="165240"/>
          </a:xfrm>
          <a:prstGeom prst="ellipse">
            <a:avLst/>
          </a:prstGeom>
          <a:solidFill>
            <a:srgbClr val="fc0128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97280" y="3781440"/>
            <a:ext cx="495360" cy="304920"/>
          </a:xfrm>
          <a:custGeom>
            <a:avLst/>
            <a:gdLst/>
            <a:ahLst/>
            <a:rect l="l" t="t" r="r" b="b"/>
            <a:pathLst>
              <a:path w="1259" h="820">
                <a:moveTo>
                  <a:pt x="0" y="820"/>
                </a:moveTo>
                <a:cubicBezTo>
                  <a:pt x="93" y="753"/>
                  <a:pt x="349" y="553"/>
                  <a:pt x="559" y="416"/>
                </a:cubicBezTo>
                <a:cubicBezTo>
                  <a:pt x="769" y="279"/>
                  <a:pt x="1113" y="87"/>
                  <a:pt x="1259" y="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1520" y="2209680"/>
            <a:ext cx="193680" cy="165240"/>
          </a:xfrm>
          <a:prstGeom prst="ellipse">
            <a:avLst/>
          </a:prstGeom>
          <a:solidFill>
            <a:srgbClr val="fc0128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83360" y="1343160"/>
            <a:ext cx="19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witch to end-of-life plan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7800" y="3124080"/>
            <a:ext cx="1403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lect method for monitoring chan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38400" y="4114800"/>
            <a:ext cx="1733400" cy="1219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89360" y="5257800"/>
            <a:ext cx="193680" cy="1652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685320" y="6232680"/>
            <a:ext cx="34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ars in life-cycle planning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016760" y="2286000"/>
            <a:ext cx="4953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3400" spc="-1" strike="noStrike">
                <a:solidFill>
                  <a:srgbClr val="000000"/>
                </a:solidFill>
                <a:latin typeface="Nokia Sans Title SemiBold"/>
              </a:rPr>
              <a:t>Smoothing - A key to better visibility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61760" y="920520"/>
            <a:ext cx="8381880" cy="517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Nokia Sans Wide"/>
              </a:rPr>
              <a:t>Taking a simple moving average of the demand improves the demand view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Nokia Sans Wide"/>
              </a:rPr>
              <a:t>Example: customer sell-through, 4 week smoothing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Nokia Sans Wide"/>
              </a:rPr>
              <a:t>Smoothing stabilizes the view, and makes data usable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Nokia Sans Wide"/>
              </a:rPr>
              <a:t>Direct, smoothed visibility to sell-through can be used for e.g. estimating market trends and shares of variable components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220680" y="2649600"/>
            <a:ext cx="4982760" cy="2913120"/>
            <a:chOff x="220680" y="2649600"/>
            <a:chExt cx="4982760" cy="2913120"/>
          </a:xfrm>
        </p:grpSpPr>
        <p:sp>
          <p:nvSpPr>
            <p:cNvPr id="210" name=""/>
            <p:cNvSpPr/>
            <p:nvPr/>
          </p:nvSpPr>
          <p:spPr>
            <a:xfrm>
              <a:off x="220680" y="2649600"/>
              <a:ext cx="4982760" cy="2913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942840" y="3195720"/>
              <a:ext cx="3617640" cy="171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942840" y="4569120"/>
              <a:ext cx="3617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942840" y="4222800"/>
              <a:ext cx="3617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942840" y="3883320"/>
              <a:ext cx="3617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942840" y="3537000"/>
              <a:ext cx="3617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942840" y="3195720"/>
              <a:ext cx="3617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942840" y="3195720"/>
              <a:ext cx="3617640" cy="1714680"/>
            </a:xfrm>
            <a:prstGeom prst="rect">
              <a:avLst/>
            </a:prstGeom>
            <a:noFill/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942840" y="4722840"/>
              <a:ext cx="78840" cy="1875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109160" y="4822920"/>
              <a:ext cx="78840" cy="874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188360" y="4710240"/>
              <a:ext cx="86040" cy="2001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74400" y="4735800"/>
              <a:ext cx="78840" cy="1746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353600" y="4556160"/>
              <a:ext cx="80640" cy="35424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434240" y="4695840"/>
              <a:ext cx="85680" cy="2145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520280" y="4722840"/>
              <a:ext cx="78840" cy="1875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599480" y="4602240"/>
              <a:ext cx="78840" cy="3081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678320" y="4695840"/>
              <a:ext cx="87480" cy="2145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766160" y="4295880"/>
              <a:ext cx="78840" cy="61452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45360" y="4643640"/>
              <a:ext cx="85680" cy="2667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931040" y="4683240"/>
              <a:ext cx="81000" cy="2271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012400" y="4762800"/>
              <a:ext cx="78480" cy="1476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090880" y="4716720"/>
              <a:ext cx="86040" cy="1936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177280" y="4856400"/>
              <a:ext cx="78840" cy="540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256480" y="4029120"/>
              <a:ext cx="87480" cy="8812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343960" y="4756320"/>
              <a:ext cx="78480" cy="1540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422800" y="4616640"/>
              <a:ext cx="78840" cy="2937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502000" y="4829400"/>
              <a:ext cx="87480" cy="810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589840" y="4550040"/>
              <a:ext cx="78840" cy="3603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669040" y="4683240"/>
              <a:ext cx="86040" cy="2271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55080" y="4822920"/>
              <a:ext cx="78480" cy="874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833920" y="4623120"/>
              <a:ext cx="81000" cy="2872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914920" y="4829400"/>
              <a:ext cx="85680" cy="810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079800" y="4802400"/>
              <a:ext cx="78840" cy="1080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159000" y="4602240"/>
              <a:ext cx="87480" cy="3081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46840" y="4768920"/>
              <a:ext cx="78840" cy="1414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326040" y="4883400"/>
              <a:ext cx="85680" cy="270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411720" y="4896000"/>
              <a:ext cx="80640" cy="144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492360" y="4902480"/>
              <a:ext cx="78840" cy="792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571560" y="4876920"/>
              <a:ext cx="86040" cy="334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657960" y="4876920"/>
              <a:ext cx="78480" cy="334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942840" y="4149720"/>
              <a:ext cx="78840" cy="5731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021680" y="3810240"/>
              <a:ext cx="87120" cy="11001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109160" y="4116600"/>
              <a:ext cx="78840" cy="7063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188360" y="4222800"/>
              <a:ext cx="86040" cy="4874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274400" y="3829320"/>
              <a:ext cx="78840" cy="90648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353600" y="4043520"/>
              <a:ext cx="80640" cy="5126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434240" y="4322880"/>
              <a:ext cx="85680" cy="372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520280" y="4029120"/>
              <a:ext cx="78840" cy="6937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599480" y="4003920"/>
              <a:ext cx="78840" cy="5983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678320" y="4023000"/>
              <a:ext cx="87480" cy="6728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66160" y="3543480"/>
              <a:ext cx="78840" cy="75240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845360" y="4322880"/>
              <a:ext cx="85680" cy="3207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31040" y="3583080"/>
              <a:ext cx="81000" cy="11001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012400" y="4543560"/>
              <a:ext cx="78480" cy="2192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090880" y="4135680"/>
              <a:ext cx="86040" cy="5810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177280" y="4456440"/>
              <a:ext cx="78840" cy="399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256480" y="3549960"/>
              <a:ext cx="87480" cy="4791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343960" y="4416480"/>
              <a:ext cx="78480" cy="3398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422800" y="3962520"/>
              <a:ext cx="78840" cy="6541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502000" y="4422960"/>
              <a:ext cx="87480" cy="4064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89840" y="4243680"/>
              <a:ext cx="78840" cy="3063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669040" y="4235760"/>
              <a:ext cx="86040" cy="44748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755080" y="4489560"/>
              <a:ext cx="78480" cy="3333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833920" y="4295880"/>
              <a:ext cx="81000" cy="3272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14920" y="4402440"/>
              <a:ext cx="85680" cy="426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079800" y="4335480"/>
              <a:ext cx="78840" cy="4669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159000" y="4376880"/>
              <a:ext cx="87480" cy="2253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246840" y="4422960"/>
              <a:ext cx="78840" cy="345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326040" y="4322880"/>
              <a:ext cx="85680" cy="5605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411720" y="4222800"/>
              <a:ext cx="80640" cy="67320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492360" y="4216680"/>
              <a:ext cx="78840" cy="68580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571560" y="4356360"/>
              <a:ext cx="86040" cy="5205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657960" y="4316400"/>
              <a:ext cx="78480" cy="5605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736800" y="4402440"/>
              <a:ext cx="87480" cy="507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824280" y="4462560"/>
              <a:ext cx="78840" cy="4478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903480" y="4422960"/>
              <a:ext cx="78840" cy="4874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982680" y="4523040"/>
              <a:ext cx="87480" cy="3873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070520" y="4483440"/>
              <a:ext cx="78840" cy="426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149720" y="4483440"/>
              <a:ext cx="78840" cy="426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228560" y="4556160"/>
              <a:ext cx="85680" cy="3542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314600" y="4510080"/>
              <a:ext cx="80640" cy="4003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395240" y="4602240"/>
              <a:ext cx="86040" cy="3081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481280" y="4816800"/>
              <a:ext cx="78840" cy="9360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931040" y="3362400"/>
              <a:ext cx="81000" cy="2206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012400" y="4383360"/>
              <a:ext cx="78480" cy="16020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090880" y="3929400"/>
              <a:ext cx="86040" cy="2062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177280" y="4062600"/>
              <a:ext cx="78840" cy="3938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56480" y="3262320"/>
              <a:ext cx="87480" cy="2876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343960" y="3949920"/>
              <a:ext cx="78480" cy="4665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502000" y="4077000"/>
              <a:ext cx="87480" cy="3459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589840" y="3883320"/>
              <a:ext cx="78840" cy="3603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669040" y="3829320"/>
              <a:ext cx="86040" cy="4064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755080" y="3762360"/>
              <a:ext cx="78480" cy="72720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33920" y="3816360"/>
              <a:ext cx="81000" cy="4795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914920" y="3816360"/>
              <a:ext cx="85680" cy="5860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079800" y="3716640"/>
              <a:ext cx="78840" cy="6188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159000" y="3776760"/>
              <a:ext cx="87480" cy="6001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246840" y="3803760"/>
              <a:ext cx="78840" cy="61920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326040" y="3949920"/>
              <a:ext cx="85680" cy="3729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411720" y="3837240"/>
              <a:ext cx="80640" cy="3855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492360" y="3910320"/>
              <a:ext cx="78840" cy="3063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571560" y="3862440"/>
              <a:ext cx="86040" cy="4939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657960" y="3962520"/>
              <a:ext cx="78480" cy="3538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736800" y="3710160"/>
              <a:ext cx="87480" cy="6922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824280" y="3676680"/>
              <a:ext cx="78840" cy="7858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903480" y="3843360"/>
              <a:ext cx="78840" cy="57960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982680" y="4016520"/>
              <a:ext cx="87480" cy="5065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070520" y="3876840"/>
              <a:ext cx="78840" cy="60660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149720" y="4043520"/>
              <a:ext cx="78840" cy="4399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228560" y="3810240"/>
              <a:ext cx="85680" cy="7459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314600" y="3970440"/>
              <a:ext cx="80640" cy="5396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395240" y="4143600"/>
              <a:ext cx="86040" cy="4586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481280" y="4143600"/>
              <a:ext cx="78840" cy="67320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942840" y="3962520"/>
              <a:ext cx="78840" cy="18720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109160" y="4050000"/>
              <a:ext cx="78840" cy="6660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188360" y="4176720"/>
              <a:ext cx="86040" cy="460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74400" y="3662640"/>
              <a:ext cx="78840" cy="1666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353600" y="4003920"/>
              <a:ext cx="80640" cy="3960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434240" y="3976920"/>
              <a:ext cx="85680" cy="34596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520280" y="3862440"/>
              <a:ext cx="78840" cy="1666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599480" y="3922920"/>
              <a:ext cx="78840" cy="8100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678320" y="3676680"/>
              <a:ext cx="87480" cy="3463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766160" y="3283200"/>
              <a:ext cx="78840" cy="2602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845360" y="4316400"/>
              <a:ext cx="8568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31040" y="3356280"/>
              <a:ext cx="8100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177280" y="4056120"/>
              <a:ext cx="7884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256480" y="3256200"/>
              <a:ext cx="8748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502000" y="4070520"/>
              <a:ext cx="8748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669040" y="3822840"/>
              <a:ext cx="8604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55080" y="3756240"/>
              <a:ext cx="7848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833920" y="3803760"/>
              <a:ext cx="81000" cy="1260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914920" y="3810240"/>
              <a:ext cx="8568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079800" y="3710160"/>
              <a:ext cx="7884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159000" y="3770640"/>
              <a:ext cx="8748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411720" y="3822840"/>
              <a:ext cx="80640" cy="1440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314600" y="3795840"/>
              <a:ext cx="80640" cy="174600"/>
            </a:xfrm>
            <a:prstGeom prst="rect">
              <a:avLst/>
            </a:prstGeom>
            <a:solidFill>
              <a:srgbClr val="ff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395240" y="4083120"/>
              <a:ext cx="86040" cy="60480"/>
            </a:xfrm>
            <a:prstGeom prst="rect">
              <a:avLst/>
            </a:prstGeom>
            <a:solidFill>
              <a:srgbClr val="ff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481280" y="4077000"/>
              <a:ext cx="78840" cy="66600"/>
            </a:xfrm>
            <a:prstGeom prst="rect">
              <a:avLst/>
            </a:prstGeom>
            <a:solidFill>
              <a:srgbClr val="ff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021680" y="3803760"/>
              <a:ext cx="8712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109160" y="4043520"/>
              <a:ext cx="788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88360" y="4168800"/>
              <a:ext cx="86040" cy="79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274400" y="3649680"/>
              <a:ext cx="78840" cy="1296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353600" y="3989520"/>
              <a:ext cx="80640" cy="1440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434240" y="3970440"/>
              <a:ext cx="856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520280" y="3849840"/>
              <a:ext cx="78840" cy="1260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99480" y="3916440"/>
              <a:ext cx="788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766160" y="3249720"/>
              <a:ext cx="78840" cy="33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845360" y="4310280"/>
              <a:ext cx="8568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090880" y="3916440"/>
              <a:ext cx="86040" cy="1296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177280" y="4050000"/>
              <a:ext cx="7884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256480" y="3243600"/>
              <a:ext cx="87480" cy="1260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343960" y="3943440"/>
              <a:ext cx="784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422800" y="3949920"/>
              <a:ext cx="78840" cy="1260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502000" y="4062600"/>
              <a:ext cx="87480" cy="79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669040" y="3816360"/>
              <a:ext cx="860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755080" y="3743640"/>
              <a:ext cx="78480" cy="1260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833920" y="3795840"/>
              <a:ext cx="81000" cy="79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914920" y="3795840"/>
              <a:ext cx="85680" cy="1440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246840" y="3795840"/>
              <a:ext cx="78840" cy="79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411720" y="3816360"/>
              <a:ext cx="806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492360" y="3903840"/>
              <a:ext cx="788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7960" y="3956040"/>
              <a:ext cx="784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736800" y="3703680"/>
              <a:ext cx="874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824280" y="3670560"/>
              <a:ext cx="7884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903480" y="3837240"/>
              <a:ext cx="7884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982680" y="4010040"/>
              <a:ext cx="874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070520" y="3870360"/>
              <a:ext cx="788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149720" y="4037040"/>
              <a:ext cx="788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314600" y="3789360"/>
              <a:ext cx="806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942840" y="3429000"/>
              <a:ext cx="78840" cy="5335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021680" y="3462480"/>
              <a:ext cx="87120" cy="3412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109160" y="3337200"/>
              <a:ext cx="78840" cy="7063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188360" y="3776760"/>
              <a:ext cx="86040" cy="3920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274400" y="3429000"/>
              <a:ext cx="78840" cy="2206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353600" y="3436920"/>
              <a:ext cx="80640" cy="55260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434240" y="3436920"/>
              <a:ext cx="85680" cy="5335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520280" y="3310200"/>
              <a:ext cx="78840" cy="5396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599480" y="3403800"/>
              <a:ext cx="78840" cy="5126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678320" y="3303720"/>
              <a:ext cx="87480" cy="3729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845360" y="3356280"/>
              <a:ext cx="85680" cy="95400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931040" y="3203640"/>
              <a:ext cx="81000" cy="1526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012400" y="3337200"/>
              <a:ext cx="78480" cy="10461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090880" y="3310200"/>
              <a:ext cx="86040" cy="6062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177280" y="3670560"/>
              <a:ext cx="78840" cy="3794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343960" y="3376800"/>
              <a:ext cx="78480" cy="5666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422800" y="3429000"/>
              <a:ext cx="78840" cy="5209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502000" y="3476880"/>
              <a:ext cx="87480" cy="5857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589840" y="3362400"/>
              <a:ext cx="78840" cy="5209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669040" y="3362400"/>
              <a:ext cx="86040" cy="4539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755080" y="3376800"/>
              <a:ext cx="78480" cy="3668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833920" y="3316320"/>
              <a:ext cx="81000" cy="4795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914920" y="3337200"/>
              <a:ext cx="85680" cy="4586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079800" y="3395880"/>
              <a:ext cx="78840" cy="3142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159000" y="3322800"/>
              <a:ext cx="87480" cy="4478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246840" y="3395880"/>
              <a:ext cx="78840" cy="3999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326040" y="3489480"/>
              <a:ext cx="85680" cy="4604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411720" y="3529080"/>
              <a:ext cx="80640" cy="2872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492360" y="3510000"/>
              <a:ext cx="78840" cy="3938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571560" y="3422880"/>
              <a:ext cx="86040" cy="4395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657960" y="3443400"/>
              <a:ext cx="78480" cy="5126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535320" y="2762280"/>
            <a:ext cx="4713480" cy="2705400"/>
            <a:chOff x="535320" y="2762280"/>
            <a:chExt cx="4713480" cy="2705400"/>
          </a:xfrm>
        </p:grpSpPr>
        <p:sp>
          <p:nvSpPr>
            <p:cNvPr id="411" name=""/>
            <p:cNvSpPr/>
            <p:nvPr/>
          </p:nvSpPr>
          <p:spPr>
            <a:xfrm>
              <a:off x="3800160" y="3408480"/>
              <a:ext cx="87480" cy="30780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888000" y="3382920"/>
              <a:ext cx="78840" cy="3002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967200" y="3462480"/>
              <a:ext cx="78840" cy="3873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046400" y="3541680"/>
              <a:ext cx="87480" cy="4809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133880" y="3589560"/>
              <a:ext cx="78840" cy="29340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213080" y="3675240"/>
              <a:ext cx="78840" cy="37440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292280" y="3441600"/>
              <a:ext cx="85680" cy="3812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377960" y="3608280"/>
              <a:ext cx="80640" cy="1936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458960" y="3835440"/>
              <a:ext cx="86040" cy="2602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545000" y="3456000"/>
              <a:ext cx="78840" cy="63360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251360" y="3395880"/>
              <a:ext cx="86040" cy="393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319840" y="3249720"/>
              <a:ext cx="874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407320" y="3382920"/>
              <a:ext cx="784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818440" y="3382920"/>
              <a:ext cx="784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897280" y="3322800"/>
              <a:ext cx="8100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978280" y="3341880"/>
              <a:ext cx="85680" cy="79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143520" y="3402000"/>
              <a:ext cx="7884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222720" y="3328920"/>
              <a:ext cx="874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389400" y="3495600"/>
              <a:ext cx="856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475440" y="3535560"/>
              <a:ext cx="8064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35280" y="3429000"/>
              <a:ext cx="8604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721320" y="3449520"/>
              <a:ext cx="784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888000" y="3375000"/>
              <a:ext cx="78840" cy="79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967200" y="3456000"/>
              <a:ext cx="7884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046400" y="3535560"/>
              <a:ext cx="8748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133880" y="3583080"/>
              <a:ext cx="7884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292280" y="3435480"/>
              <a:ext cx="8568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377960" y="3595680"/>
              <a:ext cx="80640" cy="1260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58960" y="3822840"/>
              <a:ext cx="86040" cy="1260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45000" y="3449520"/>
              <a:ext cx="7884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005840" y="3222720"/>
              <a:ext cx="78840" cy="2188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85040" y="3222720"/>
              <a:ext cx="87120" cy="2523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172160" y="3216240"/>
              <a:ext cx="78840" cy="1335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251360" y="3216240"/>
              <a:ext cx="86040" cy="1796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37760" y="3222720"/>
              <a:ext cx="78840" cy="2188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416960" y="3208320"/>
              <a:ext cx="80640" cy="241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497600" y="3222720"/>
              <a:ext cx="85680" cy="2268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583280" y="3216240"/>
              <a:ext cx="78840" cy="1065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662480" y="3229200"/>
              <a:ext cx="78840" cy="187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741680" y="3216240"/>
              <a:ext cx="87480" cy="1000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829520" y="3208320"/>
              <a:ext cx="78840" cy="540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908720" y="3216240"/>
              <a:ext cx="85680" cy="1526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075400" y="3222720"/>
              <a:ext cx="78480" cy="1270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154240" y="3222720"/>
              <a:ext cx="86040" cy="1000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240640" y="3235320"/>
              <a:ext cx="78840" cy="4478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319840" y="3208320"/>
              <a:ext cx="87480" cy="414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407320" y="3222720"/>
              <a:ext cx="78480" cy="160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486160" y="3229200"/>
              <a:ext cx="78840" cy="2124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565360" y="3249720"/>
              <a:ext cx="87480" cy="2397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653200" y="3235320"/>
              <a:ext cx="78840" cy="139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732400" y="3216240"/>
              <a:ext cx="86040" cy="1587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818440" y="3222720"/>
              <a:ext cx="78480" cy="160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897280" y="3216240"/>
              <a:ext cx="81000" cy="1065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978280" y="3216240"/>
              <a:ext cx="85680" cy="1256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143520" y="3229200"/>
              <a:ext cx="78840" cy="1728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222720" y="3222720"/>
              <a:ext cx="87480" cy="106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310200" y="3216240"/>
              <a:ext cx="78840" cy="1922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389400" y="3216240"/>
              <a:ext cx="85680" cy="2793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475440" y="3222720"/>
              <a:ext cx="80640" cy="3128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556080" y="3229200"/>
              <a:ext cx="78840" cy="2934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635280" y="3222720"/>
              <a:ext cx="86040" cy="2062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21320" y="3229200"/>
              <a:ext cx="78480" cy="22032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800160" y="3216240"/>
              <a:ext cx="87480" cy="1922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888000" y="3216240"/>
              <a:ext cx="78840" cy="1587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67200" y="3241800"/>
              <a:ext cx="78840" cy="214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046400" y="3316320"/>
              <a:ext cx="87480" cy="2192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133880" y="3416400"/>
              <a:ext cx="78840" cy="166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213080" y="3382920"/>
              <a:ext cx="78840" cy="29232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292280" y="3322800"/>
              <a:ext cx="85680" cy="112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377960" y="3402000"/>
              <a:ext cx="80640" cy="193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458960" y="3441600"/>
              <a:ext cx="86040" cy="3812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545000" y="3316320"/>
              <a:ext cx="78840" cy="133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967200" y="3216240"/>
              <a:ext cx="78840" cy="2556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046400" y="3216240"/>
              <a:ext cx="87480" cy="10008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133880" y="3216240"/>
              <a:ext cx="78840" cy="20016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213080" y="3216240"/>
              <a:ext cx="78840" cy="16668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292280" y="3216240"/>
              <a:ext cx="85680" cy="10656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377960" y="3216240"/>
              <a:ext cx="80640" cy="18576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458960" y="3208320"/>
              <a:ext cx="86040" cy="23328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545000" y="3216240"/>
              <a:ext cx="78840" cy="10008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005840" y="3208320"/>
              <a:ext cx="7884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085040" y="3208320"/>
              <a:ext cx="8712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251360" y="3208320"/>
              <a:ext cx="860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337760" y="3208320"/>
              <a:ext cx="7884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497600" y="3208320"/>
              <a:ext cx="8568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583280" y="3208320"/>
              <a:ext cx="788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662480" y="3222720"/>
              <a:ext cx="7884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741680" y="3208320"/>
              <a:ext cx="8748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908720" y="3208320"/>
              <a:ext cx="8568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994400" y="3208320"/>
              <a:ext cx="8100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075400" y="3216240"/>
              <a:ext cx="784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154240" y="3208320"/>
              <a:ext cx="8604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240640" y="3208320"/>
              <a:ext cx="78840" cy="270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407320" y="3208320"/>
              <a:ext cx="7848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486160" y="3208320"/>
              <a:ext cx="78840" cy="208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565360" y="3208320"/>
              <a:ext cx="87480" cy="41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653200" y="3208320"/>
              <a:ext cx="78840" cy="270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732400" y="3208320"/>
              <a:ext cx="860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818440" y="3208320"/>
              <a:ext cx="7848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897280" y="3208320"/>
              <a:ext cx="8100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978280" y="3208320"/>
              <a:ext cx="8568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143520" y="3208320"/>
              <a:ext cx="78840" cy="208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222720" y="3208320"/>
              <a:ext cx="8748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310200" y="3208320"/>
              <a:ext cx="788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389400" y="3208320"/>
              <a:ext cx="8568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475440" y="3208320"/>
              <a:ext cx="8064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556080" y="3208320"/>
              <a:ext cx="78840" cy="208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635280" y="3208320"/>
              <a:ext cx="8604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721320" y="3208320"/>
              <a:ext cx="78480" cy="208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800160" y="3208320"/>
              <a:ext cx="8748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888000" y="3208320"/>
              <a:ext cx="788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967200" y="3208320"/>
              <a:ext cx="788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046400" y="3208320"/>
              <a:ext cx="8748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133880" y="3208320"/>
              <a:ext cx="788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213080" y="3208320"/>
              <a:ext cx="788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292280" y="3208320"/>
              <a:ext cx="8568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377960" y="3208320"/>
              <a:ext cx="806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545000" y="3208320"/>
              <a:ext cx="788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172160" y="3208320"/>
              <a:ext cx="78840" cy="7920"/>
            </a:xfrm>
            <a:prstGeom prst="rect">
              <a:avLst/>
            </a:prstGeom>
            <a:solidFill>
              <a:srgbClr val="00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662480" y="3208320"/>
              <a:ext cx="78840" cy="14400"/>
            </a:xfrm>
            <a:prstGeom prst="rect">
              <a:avLst/>
            </a:prstGeom>
            <a:solidFill>
              <a:srgbClr val="00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075400" y="3208320"/>
              <a:ext cx="78480" cy="7920"/>
            </a:xfrm>
            <a:prstGeom prst="rect">
              <a:avLst/>
            </a:prstGeom>
            <a:solidFill>
              <a:srgbClr val="00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005840" y="3208320"/>
              <a:ext cx="1440" cy="171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962640" y="492300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962640" y="458172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962640" y="423540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962640" y="389592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962640" y="354960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962640" y="320832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005840" y="4923000"/>
              <a:ext cx="3618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>
              <a:off x="100584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108504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117216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125136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133776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141696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149760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158328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166248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V="1">
              <a:off x="174168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182952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190872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199440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207540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215424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224064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231984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240732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248616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>
              <a:off x="256536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265320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273240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281844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289728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297828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306432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314352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322272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331020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338940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347544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355608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363528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372132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380016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388800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396720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404640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413388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421308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429228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437796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445896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454500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462420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486080" y="2762280"/>
              <a:ext cx="2385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duct mix for example coun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93720" y="484812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14880" y="45086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14880" y="416232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14880" y="38228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14880" y="347508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35320" y="3135240"/>
              <a:ext cx="323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rot="18900000">
              <a:off x="896760" y="50511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18900000">
              <a:off x="1140840" y="50511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18900000">
              <a:off x="1326600" y="508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rot="18900000">
              <a:off x="1572480" y="508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rot="18900000">
              <a:off x="1816560" y="50824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rot="18900000">
              <a:off x="2062800" y="508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rot="18900000">
              <a:off x="2315520" y="508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18900000">
              <a:off x="2561040" y="508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18900000">
              <a:off x="2807280" y="508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rot="18900000">
              <a:off x="3053520" y="508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rot="18900000">
              <a:off x="3296160" y="5081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rot="18900000">
              <a:off x="3543120" y="508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18900000">
              <a:off x="3796200" y="508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18900000">
              <a:off x="4041000" y="5081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rot="18900000">
              <a:off x="4286880" y="5081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594880" y="5315040"/>
              <a:ext cx="399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eek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712040" y="3208320"/>
              <a:ext cx="525960" cy="21668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754880" y="3274920"/>
              <a:ext cx="85680" cy="81000"/>
            </a:xfrm>
            <a:prstGeom prst="rect">
              <a:avLst/>
            </a:prstGeom>
            <a:solidFill>
              <a:srgbClr val="00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876200" y="3235320"/>
              <a:ext cx="372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d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4754520" y="3189240"/>
            <a:ext cx="87480" cy="79560"/>
          </a:xfrm>
          <a:prstGeom prst="rect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892040" y="3149640"/>
            <a:ext cx="37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754520" y="3368520"/>
            <a:ext cx="87480" cy="8100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892040" y="3328920"/>
            <a:ext cx="37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754520" y="3549600"/>
            <a:ext cx="87480" cy="79560"/>
          </a:xfrm>
          <a:prstGeom prst="rect">
            <a:avLst/>
          </a:prstGeom>
          <a:solidFill>
            <a:srgbClr val="cccc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892040" y="3508200"/>
            <a:ext cx="37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 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754520" y="3728880"/>
            <a:ext cx="87480" cy="79560"/>
          </a:xfrm>
          <a:prstGeom prst="rect">
            <a:avLst/>
          </a:prstGeom>
          <a:solidFill>
            <a:srgbClr val="ff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880880" y="368928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754520" y="3908520"/>
            <a:ext cx="87480" cy="81000"/>
          </a:xfrm>
          <a:prstGeom prst="rect">
            <a:avLst/>
          </a:prstGeom>
          <a:solidFill>
            <a:srgbClr val="0066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880880" y="386856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754520" y="4089240"/>
            <a:ext cx="87480" cy="79560"/>
          </a:xfrm>
          <a:prstGeom prst="rect">
            <a:avLst/>
          </a:prstGeom>
          <a:solidFill>
            <a:srgbClr val="ff00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880880" y="40482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754520" y="4268880"/>
            <a:ext cx="87480" cy="7920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879440" y="4229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754520" y="4448160"/>
            <a:ext cx="87480" cy="81000"/>
          </a:xfrm>
          <a:prstGeom prst="rect">
            <a:avLst/>
          </a:prstGeom>
          <a:solidFill>
            <a:srgbClr val="33cc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880880" y="440856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754520" y="4629240"/>
            <a:ext cx="87480" cy="79200"/>
          </a:xfrm>
          <a:prstGeom prst="rect">
            <a:avLst/>
          </a:prstGeom>
          <a:solidFill>
            <a:srgbClr val="80008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880880" y="458964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754520" y="4808520"/>
            <a:ext cx="87480" cy="81000"/>
          </a:xfrm>
          <a:prstGeom prst="rect">
            <a:avLst/>
          </a:prstGeom>
          <a:solidFill>
            <a:srgbClr val="cc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880880" y="47689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754520" y="4989600"/>
            <a:ext cx="87480" cy="79200"/>
          </a:xfrm>
          <a:prstGeom prst="rect">
            <a:avLst/>
          </a:prstGeom>
          <a:solidFill>
            <a:srgbClr val="ff808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880880" y="49482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33280" y="2662200"/>
            <a:ext cx="4983120" cy="2913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4741920" y="3614760"/>
            <a:ext cx="4992120" cy="2847960"/>
            <a:chOff x="4741920" y="3614760"/>
            <a:chExt cx="4992120" cy="2847960"/>
          </a:xfrm>
        </p:grpSpPr>
        <p:sp>
          <p:nvSpPr>
            <p:cNvPr id="635" name=""/>
            <p:cNvSpPr/>
            <p:nvPr/>
          </p:nvSpPr>
          <p:spPr>
            <a:xfrm>
              <a:off x="4741920" y="3614760"/>
              <a:ext cx="4992120" cy="2847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464080" y="4162320"/>
              <a:ext cx="3627000" cy="1646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464080" y="5641920"/>
              <a:ext cx="36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464080" y="5483160"/>
              <a:ext cx="36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464080" y="5315040"/>
              <a:ext cx="36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464080" y="5148360"/>
              <a:ext cx="36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464080" y="4981680"/>
              <a:ext cx="36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464080" y="4822920"/>
              <a:ext cx="36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464080" y="4654440"/>
              <a:ext cx="36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464080" y="4487760"/>
              <a:ext cx="36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464080" y="4329000"/>
              <a:ext cx="36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464080" y="4162320"/>
              <a:ext cx="36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464080" y="4162320"/>
              <a:ext cx="3627000" cy="1646280"/>
            </a:xfrm>
            <a:prstGeom prst="rect">
              <a:avLst/>
            </a:prstGeom>
            <a:noFill/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464080" y="5689440"/>
              <a:ext cx="87480" cy="1191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551920" y="5702400"/>
              <a:ext cx="85680" cy="1062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637600" y="5641920"/>
              <a:ext cx="94680" cy="1666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732280" y="5595840"/>
              <a:ext cx="85680" cy="2127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818320" y="5595840"/>
              <a:ext cx="86040" cy="2127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904360" y="5556240"/>
              <a:ext cx="87120" cy="2523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991840" y="5583240"/>
              <a:ext cx="92880" cy="2253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085080" y="5516640"/>
              <a:ext cx="87120" cy="2919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172200" y="5508720"/>
              <a:ext cx="86040" cy="2998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258600" y="5522760"/>
              <a:ext cx="87480" cy="28584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346080" y="5529240"/>
              <a:ext cx="92520" cy="2793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438960" y="5602320"/>
              <a:ext cx="87480" cy="2062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526800" y="5695920"/>
              <a:ext cx="85680" cy="1126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612480" y="5489640"/>
              <a:ext cx="87480" cy="3189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700320" y="5549760"/>
              <a:ext cx="92520" cy="25884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793200" y="5535720"/>
              <a:ext cx="87480" cy="2728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881040" y="5541840"/>
              <a:ext cx="86040" cy="2667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967080" y="5589720"/>
              <a:ext cx="85680" cy="2188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052760" y="5562720"/>
              <a:ext cx="94680" cy="2458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147800" y="5616720"/>
              <a:ext cx="85680" cy="1918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233480" y="5575320"/>
              <a:ext cx="87480" cy="2332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321320" y="5656320"/>
              <a:ext cx="86040" cy="1522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407360" y="5668920"/>
              <a:ext cx="94320" cy="1396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501680" y="5656320"/>
              <a:ext cx="86040" cy="1522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588080" y="5656320"/>
              <a:ext cx="87480" cy="1522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75920" y="5635800"/>
              <a:ext cx="85680" cy="1728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761600" y="5675400"/>
              <a:ext cx="94680" cy="1332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856280" y="5702400"/>
              <a:ext cx="85680" cy="1062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941960" y="5769000"/>
              <a:ext cx="87480" cy="396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029800" y="5789520"/>
              <a:ext cx="85680" cy="190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8115840" y="5789520"/>
              <a:ext cx="94680" cy="190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210520" y="5796000"/>
              <a:ext cx="86040" cy="126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296560" y="5796000"/>
              <a:ext cx="85680" cy="126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8382600" y="5802480"/>
              <a:ext cx="87480" cy="612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464080" y="5022720"/>
              <a:ext cx="87480" cy="6667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551920" y="4956120"/>
              <a:ext cx="85680" cy="74628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637600" y="5008680"/>
              <a:ext cx="94680" cy="6332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732280" y="5035680"/>
              <a:ext cx="85680" cy="5601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818320" y="4968720"/>
              <a:ext cx="86040" cy="6271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904360" y="5002200"/>
              <a:ext cx="87120" cy="5540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991840" y="4995720"/>
              <a:ext cx="92880" cy="5875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085080" y="4875120"/>
              <a:ext cx="87120" cy="6415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172200" y="4962600"/>
              <a:ext cx="86040" cy="5461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258600" y="4881600"/>
              <a:ext cx="87480" cy="6411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346080" y="5002200"/>
              <a:ext cx="92520" cy="5270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438960" y="5108400"/>
              <a:ext cx="87480" cy="4939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526800" y="5202360"/>
              <a:ext cx="85680" cy="4935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612480" y="5089680"/>
              <a:ext cx="87480" cy="399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700320" y="5156280"/>
              <a:ext cx="92520" cy="39348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793200" y="5095800"/>
              <a:ext cx="87480" cy="4399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881040" y="5102280"/>
              <a:ext cx="86040" cy="4395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967080" y="5195880"/>
              <a:ext cx="85680" cy="3938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052760" y="5148360"/>
              <a:ext cx="94680" cy="4143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147800" y="5268960"/>
              <a:ext cx="85680" cy="3477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233480" y="5241960"/>
              <a:ext cx="87480" cy="3333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321320" y="5289480"/>
              <a:ext cx="86040" cy="3668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407360" y="5322960"/>
              <a:ext cx="94320" cy="345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501680" y="5268960"/>
              <a:ext cx="86040" cy="3873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588080" y="5289480"/>
              <a:ext cx="87480" cy="3668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675920" y="5302080"/>
              <a:ext cx="85680" cy="3337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761600" y="5281560"/>
              <a:ext cx="94680" cy="3938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856280" y="5248440"/>
              <a:ext cx="85680" cy="453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941960" y="5214960"/>
              <a:ext cx="87480" cy="5540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8029800" y="5195880"/>
              <a:ext cx="85680" cy="5936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8115840" y="5189400"/>
              <a:ext cx="94680" cy="6001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8210520" y="5241960"/>
              <a:ext cx="86040" cy="5540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8296560" y="5315040"/>
              <a:ext cx="85680" cy="480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8382600" y="5329080"/>
              <a:ext cx="87480" cy="47340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470080" y="5369040"/>
              <a:ext cx="92520" cy="4395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8562960" y="5389560"/>
              <a:ext cx="87480" cy="4190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8650800" y="5396040"/>
              <a:ext cx="85680" cy="4125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8736480" y="5429160"/>
              <a:ext cx="87480" cy="3794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8824320" y="5423040"/>
              <a:ext cx="92520" cy="3855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917200" y="5450040"/>
              <a:ext cx="87480" cy="3585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9005040" y="5562720"/>
              <a:ext cx="86040" cy="24588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258600" y="4842000"/>
              <a:ext cx="87480" cy="3960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346080" y="4915080"/>
              <a:ext cx="92520" cy="871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438960" y="4989600"/>
              <a:ext cx="87480" cy="11880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526800" y="4923000"/>
              <a:ext cx="85680" cy="2793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612480" y="4795920"/>
              <a:ext cx="87480" cy="2937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700320" y="4781520"/>
              <a:ext cx="92520" cy="3747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793200" y="4808520"/>
              <a:ext cx="87480" cy="2872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881040" y="4815000"/>
              <a:ext cx="86040" cy="2872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967080" y="4896000"/>
              <a:ext cx="85680" cy="2998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052760" y="4875120"/>
              <a:ext cx="94680" cy="2732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147800" y="4822920"/>
              <a:ext cx="85680" cy="4460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233480" y="4768920"/>
              <a:ext cx="87480" cy="4730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321320" y="4741920"/>
              <a:ext cx="86040" cy="5475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407360" y="4735440"/>
              <a:ext cx="94320" cy="5875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501680" y="4722840"/>
              <a:ext cx="86040" cy="5461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588080" y="4708440"/>
              <a:ext cx="87480" cy="5810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675920" y="4708440"/>
              <a:ext cx="85680" cy="5936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761600" y="4756320"/>
              <a:ext cx="94680" cy="5252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856280" y="4781520"/>
              <a:ext cx="85680" cy="4669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941960" y="4815000"/>
              <a:ext cx="87480" cy="3999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8029800" y="4829040"/>
              <a:ext cx="85680" cy="3668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8115840" y="4829040"/>
              <a:ext cx="94680" cy="3603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8210520" y="4795920"/>
              <a:ext cx="86040" cy="4460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296560" y="4729320"/>
              <a:ext cx="85680" cy="5857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8382600" y="4722840"/>
              <a:ext cx="87480" cy="6062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8470080" y="4741920"/>
              <a:ext cx="92520" cy="6271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8562960" y="4781520"/>
              <a:ext cx="87480" cy="6080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8650800" y="4896000"/>
              <a:ext cx="85680" cy="5000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8736480" y="4881600"/>
              <a:ext cx="87480" cy="5475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8824320" y="4869000"/>
              <a:ext cx="92520" cy="5540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8917200" y="4929120"/>
              <a:ext cx="87480" cy="5209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9005040" y="4968720"/>
              <a:ext cx="86040" cy="59400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464080" y="4935600"/>
              <a:ext cx="87480" cy="87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551920" y="4889520"/>
              <a:ext cx="85680" cy="6660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637600" y="4929120"/>
              <a:ext cx="94680" cy="7956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732280" y="4902120"/>
              <a:ext cx="85680" cy="13356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818320" y="4802040"/>
              <a:ext cx="86040" cy="1666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904360" y="4869000"/>
              <a:ext cx="87120" cy="13320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991840" y="4775040"/>
              <a:ext cx="92880" cy="2206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85080" y="4668840"/>
              <a:ext cx="87120" cy="2062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172200" y="4802040"/>
              <a:ext cx="86040" cy="16056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258600" y="4689360"/>
              <a:ext cx="87480" cy="15264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346080" y="4862520"/>
              <a:ext cx="92520" cy="5256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438960" y="4981680"/>
              <a:ext cx="87480" cy="79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526800" y="4915080"/>
              <a:ext cx="85680" cy="79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793200" y="4802040"/>
              <a:ext cx="8748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967080" y="4889520"/>
              <a:ext cx="8568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052760" y="4869000"/>
              <a:ext cx="9468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147800" y="4815000"/>
              <a:ext cx="85680" cy="79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233480" y="4762440"/>
              <a:ext cx="8748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321320" y="4735440"/>
              <a:ext cx="8604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407360" y="4729320"/>
              <a:ext cx="9432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501680" y="4714920"/>
              <a:ext cx="86040" cy="79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675920" y="4702320"/>
              <a:ext cx="8568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941960" y="4808520"/>
              <a:ext cx="8748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029800" y="4822920"/>
              <a:ext cx="8568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8115840" y="4822920"/>
              <a:ext cx="9468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824320" y="4842000"/>
              <a:ext cx="92520" cy="27000"/>
            </a:xfrm>
            <a:prstGeom prst="rect">
              <a:avLst/>
            </a:prstGeom>
            <a:solidFill>
              <a:srgbClr val="ff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8917200" y="4889520"/>
              <a:ext cx="87480" cy="39600"/>
            </a:xfrm>
            <a:prstGeom prst="rect">
              <a:avLst/>
            </a:prstGeom>
            <a:solidFill>
              <a:srgbClr val="ff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9005040" y="4902120"/>
              <a:ext cx="86040" cy="66600"/>
            </a:xfrm>
            <a:prstGeom prst="rect">
              <a:avLst/>
            </a:prstGeom>
            <a:solidFill>
              <a:srgbClr val="ff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551920" y="4881600"/>
              <a:ext cx="85680" cy="79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637600" y="4923000"/>
              <a:ext cx="9468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732280" y="4896000"/>
              <a:ext cx="8568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818320" y="4789440"/>
              <a:ext cx="86040" cy="1260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904360" y="4862520"/>
              <a:ext cx="8712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991840" y="4768920"/>
              <a:ext cx="9288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85080" y="4662360"/>
              <a:ext cx="8712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172200" y="4789440"/>
              <a:ext cx="86040" cy="1260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258600" y="4675320"/>
              <a:ext cx="87480" cy="1404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346080" y="4856040"/>
              <a:ext cx="9252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438960" y="4975200"/>
              <a:ext cx="874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612480" y="4789440"/>
              <a:ext cx="874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700320" y="4775040"/>
              <a:ext cx="9252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793200" y="4795920"/>
              <a:ext cx="8748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881040" y="4808520"/>
              <a:ext cx="860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052760" y="4862520"/>
              <a:ext cx="946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147800" y="4808520"/>
              <a:ext cx="856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233480" y="4756320"/>
              <a:ext cx="8748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321320" y="4729320"/>
              <a:ext cx="8604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407360" y="4722840"/>
              <a:ext cx="9432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588080" y="4702320"/>
              <a:ext cx="8748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761600" y="4748040"/>
              <a:ext cx="94680" cy="82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856280" y="4775040"/>
              <a:ext cx="856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8115840" y="4815000"/>
              <a:ext cx="94680" cy="79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8210520" y="4789440"/>
              <a:ext cx="860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8296560" y="4722840"/>
              <a:ext cx="856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8650800" y="4889520"/>
              <a:ext cx="856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8736480" y="4875120"/>
              <a:ext cx="874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8824320" y="4835520"/>
              <a:ext cx="9252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464080" y="4435560"/>
              <a:ext cx="87480" cy="5000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551920" y="4441680"/>
              <a:ext cx="85680" cy="4399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637600" y="4441680"/>
              <a:ext cx="94680" cy="4813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732280" y="4502160"/>
              <a:ext cx="85680" cy="3938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818320" y="4348080"/>
              <a:ext cx="86040" cy="4413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904360" y="4348080"/>
              <a:ext cx="87120" cy="5144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991840" y="4314960"/>
              <a:ext cx="92880" cy="4539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085080" y="4287960"/>
              <a:ext cx="87120" cy="37440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172200" y="4295880"/>
              <a:ext cx="86040" cy="4935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258600" y="4248000"/>
              <a:ext cx="87480" cy="4273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346080" y="4262400"/>
              <a:ext cx="92520" cy="5936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438960" y="4268880"/>
              <a:ext cx="87480" cy="7063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526800" y="4429080"/>
              <a:ext cx="85680" cy="48600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612480" y="4402080"/>
              <a:ext cx="87480" cy="3873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700320" y="4381560"/>
              <a:ext cx="92520" cy="3934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793200" y="4387680"/>
              <a:ext cx="87480" cy="4082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881040" y="4348080"/>
              <a:ext cx="86040" cy="4604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967080" y="4362480"/>
              <a:ext cx="85680" cy="5270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052760" y="4362480"/>
              <a:ext cx="94680" cy="5000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147800" y="4348080"/>
              <a:ext cx="85680" cy="4604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233480" y="4314960"/>
              <a:ext cx="87480" cy="4413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321320" y="4308480"/>
              <a:ext cx="86040" cy="4208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407360" y="4308480"/>
              <a:ext cx="94320" cy="4143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5115600" y="3714840"/>
            <a:ext cx="3977280" cy="2173320"/>
            <a:chOff x="5115600" y="3714840"/>
            <a:chExt cx="3977280" cy="2173320"/>
          </a:xfrm>
        </p:grpSpPr>
        <p:sp>
          <p:nvSpPr>
            <p:cNvPr id="836" name=""/>
            <p:cNvSpPr/>
            <p:nvPr/>
          </p:nvSpPr>
          <p:spPr>
            <a:xfrm>
              <a:off x="7501680" y="4308480"/>
              <a:ext cx="86040" cy="4064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588080" y="4308480"/>
              <a:ext cx="87480" cy="3938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675920" y="4335480"/>
              <a:ext cx="85680" cy="3668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761600" y="4362480"/>
              <a:ext cx="94680" cy="3855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856280" y="4402080"/>
              <a:ext cx="85680" cy="3729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942320" y="4441680"/>
              <a:ext cx="87480" cy="3668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8029800" y="4448160"/>
              <a:ext cx="85680" cy="3747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8115840" y="4441680"/>
              <a:ext cx="94680" cy="3733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8210520" y="4402080"/>
              <a:ext cx="86040" cy="3873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8296560" y="4362480"/>
              <a:ext cx="85680" cy="3603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8382600" y="4368960"/>
              <a:ext cx="87480" cy="3538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8470440" y="4387680"/>
              <a:ext cx="92520" cy="3542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8562960" y="4429080"/>
              <a:ext cx="87480" cy="3524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650800" y="4521240"/>
              <a:ext cx="85680" cy="3682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8736840" y="4508640"/>
              <a:ext cx="87480" cy="3664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8824320" y="4521240"/>
              <a:ext cx="92520" cy="3142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8917200" y="4581360"/>
              <a:ext cx="87480" cy="3081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9005040" y="4508640"/>
              <a:ext cx="86040" cy="3934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463720" y="4354560"/>
              <a:ext cx="87480" cy="8100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551560" y="4348080"/>
              <a:ext cx="85680" cy="9360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637240" y="4341960"/>
              <a:ext cx="94680" cy="997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732280" y="4375080"/>
              <a:ext cx="85680" cy="1270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84720" y="4281480"/>
              <a:ext cx="8712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612480" y="4395960"/>
              <a:ext cx="8748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967080" y="4354560"/>
              <a:ext cx="85680" cy="79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321320" y="4302000"/>
              <a:ext cx="8604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407360" y="4302000"/>
              <a:ext cx="9432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501680" y="4302000"/>
              <a:ext cx="8604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675920" y="4329000"/>
              <a:ext cx="856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761600" y="4354560"/>
              <a:ext cx="94680" cy="79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856280" y="4395960"/>
              <a:ext cx="8568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942320" y="4435560"/>
              <a:ext cx="8748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029800" y="4441680"/>
              <a:ext cx="856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115840" y="4435560"/>
              <a:ext cx="9468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8210520" y="4395960"/>
              <a:ext cx="8604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8296560" y="4354560"/>
              <a:ext cx="85680" cy="79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8382600" y="4362480"/>
              <a:ext cx="874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8470440" y="4381560"/>
              <a:ext cx="9252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8562960" y="4421160"/>
              <a:ext cx="87480" cy="79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8650800" y="4514760"/>
              <a:ext cx="856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8736840" y="4502160"/>
              <a:ext cx="874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8824320" y="4514760"/>
              <a:ext cx="9252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8917200" y="4575240"/>
              <a:ext cx="8748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9005040" y="4502160"/>
              <a:ext cx="8604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463720" y="4168800"/>
              <a:ext cx="87480" cy="1857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551560" y="4168800"/>
              <a:ext cx="85680" cy="1792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637240" y="4168800"/>
              <a:ext cx="94680" cy="1731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732280" y="4168800"/>
              <a:ext cx="85680" cy="2062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817960" y="4168800"/>
              <a:ext cx="86040" cy="1792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904000" y="4175280"/>
              <a:ext cx="87120" cy="1728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991480" y="4168800"/>
              <a:ext cx="92880" cy="1461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084720" y="4168800"/>
              <a:ext cx="87120" cy="112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172200" y="4168800"/>
              <a:ext cx="86040" cy="1270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258240" y="4168800"/>
              <a:ext cx="87480" cy="79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346080" y="4168800"/>
              <a:ext cx="92520" cy="936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438960" y="4168800"/>
              <a:ext cx="87480" cy="1000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526800" y="4181400"/>
              <a:ext cx="85680" cy="247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612480" y="4175280"/>
              <a:ext cx="87480" cy="220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700320" y="4175280"/>
              <a:ext cx="92520" cy="2062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793200" y="4175280"/>
              <a:ext cx="87480" cy="2124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880680" y="4181400"/>
              <a:ext cx="86040" cy="166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967080" y="4181400"/>
              <a:ext cx="85680" cy="1731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052760" y="4187880"/>
              <a:ext cx="94680" cy="1746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147440" y="4181400"/>
              <a:ext cx="85680" cy="166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233480" y="4175280"/>
              <a:ext cx="87480" cy="139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321320" y="4168800"/>
              <a:ext cx="86040" cy="133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407360" y="4168800"/>
              <a:ext cx="94320" cy="133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501680" y="4175280"/>
              <a:ext cx="86040" cy="12672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588080" y="4175280"/>
              <a:ext cx="87480" cy="133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675920" y="4175280"/>
              <a:ext cx="85680" cy="15372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761600" y="4175280"/>
              <a:ext cx="94680" cy="1792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856280" y="4168800"/>
              <a:ext cx="85680" cy="2271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942320" y="4175280"/>
              <a:ext cx="87480" cy="2602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8029800" y="4175280"/>
              <a:ext cx="85680" cy="2664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8115840" y="4181400"/>
              <a:ext cx="94680" cy="2541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8210520" y="4175280"/>
              <a:ext cx="86040" cy="220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8296560" y="4175280"/>
              <a:ext cx="85680" cy="1792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8382600" y="4175280"/>
              <a:ext cx="87480" cy="187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470440" y="4195800"/>
              <a:ext cx="92520" cy="1857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562960" y="4235400"/>
              <a:ext cx="87480" cy="1857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650800" y="4287960"/>
              <a:ext cx="85680" cy="2268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736840" y="4302000"/>
              <a:ext cx="87480" cy="2001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824320" y="4321080"/>
              <a:ext cx="92520" cy="193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917200" y="4329000"/>
              <a:ext cx="87480" cy="2462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9005040" y="4308480"/>
              <a:ext cx="86040" cy="193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382600" y="4168800"/>
              <a:ext cx="87480" cy="648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470440" y="4168800"/>
              <a:ext cx="92520" cy="2700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562960" y="4168800"/>
              <a:ext cx="87480" cy="6660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650800" y="4168800"/>
              <a:ext cx="85680" cy="11916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8736840" y="4168800"/>
              <a:ext cx="87480" cy="13320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8824320" y="4168800"/>
              <a:ext cx="92520" cy="15228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8917200" y="4168800"/>
              <a:ext cx="87480" cy="16020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9005040" y="4168800"/>
              <a:ext cx="86040" cy="13968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463720" y="4162320"/>
              <a:ext cx="874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551560" y="4162320"/>
              <a:ext cx="856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637240" y="4162320"/>
              <a:ext cx="946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732280" y="4162320"/>
              <a:ext cx="856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817960" y="4162320"/>
              <a:ext cx="8604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904000" y="4168800"/>
              <a:ext cx="8712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258240" y="4162320"/>
              <a:ext cx="874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346080" y="4162320"/>
              <a:ext cx="9252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438960" y="4162320"/>
              <a:ext cx="874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526800" y="4162320"/>
              <a:ext cx="85680" cy="190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612480" y="4162320"/>
              <a:ext cx="8748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700320" y="4162320"/>
              <a:ext cx="9252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793200" y="4162320"/>
              <a:ext cx="8748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880680" y="4162320"/>
              <a:ext cx="86040" cy="190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967080" y="4162320"/>
              <a:ext cx="85680" cy="190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052760" y="4162320"/>
              <a:ext cx="94680" cy="255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147440" y="4162320"/>
              <a:ext cx="85680" cy="190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233480" y="4162320"/>
              <a:ext cx="8748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321320" y="4162320"/>
              <a:ext cx="8604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407360" y="4162320"/>
              <a:ext cx="9432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501680" y="4162320"/>
              <a:ext cx="8604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588080" y="4162320"/>
              <a:ext cx="8748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675920" y="4162320"/>
              <a:ext cx="8568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761600" y="4162320"/>
              <a:ext cx="9468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856280" y="4162320"/>
              <a:ext cx="856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942320" y="4162320"/>
              <a:ext cx="8748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8029800" y="4162320"/>
              <a:ext cx="8568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8115840" y="4162320"/>
              <a:ext cx="94680" cy="190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8210520" y="4162320"/>
              <a:ext cx="8604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8296560" y="4162320"/>
              <a:ext cx="8568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8382600" y="4162320"/>
              <a:ext cx="874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8470440" y="4162320"/>
              <a:ext cx="9252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8562960" y="4162320"/>
              <a:ext cx="874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8650800" y="4162320"/>
              <a:ext cx="856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8736840" y="4162320"/>
              <a:ext cx="874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8824320" y="4162320"/>
              <a:ext cx="9252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8917200" y="4162320"/>
              <a:ext cx="874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9005040" y="4162320"/>
              <a:ext cx="8604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904000" y="4162320"/>
              <a:ext cx="87120" cy="6480"/>
            </a:xfrm>
            <a:prstGeom prst="rect">
              <a:avLst/>
            </a:prstGeom>
            <a:solidFill>
              <a:srgbClr val="00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991480" y="4162320"/>
              <a:ext cx="92880" cy="6480"/>
            </a:xfrm>
            <a:prstGeom prst="rect">
              <a:avLst/>
            </a:prstGeom>
            <a:solidFill>
              <a:srgbClr val="00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084720" y="4162320"/>
              <a:ext cx="87120" cy="6480"/>
            </a:xfrm>
            <a:prstGeom prst="rect">
              <a:avLst/>
            </a:prstGeom>
            <a:solidFill>
              <a:srgbClr val="00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172200" y="4162320"/>
              <a:ext cx="86040" cy="6480"/>
            </a:xfrm>
            <a:prstGeom prst="rect">
              <a:avLst/>
            </a:prstGeom>
            <a:solidFill>
              <a:srgbClr val="00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463720" y="4162320"/>
              <a:ext cx="1440" cy="1646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420520" y="580860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420520" y="564192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420520" y="548316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420520" y="531504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420520" y="514836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420520" y="498168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420520" y="482292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420520" y="465444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420520" y="448776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420520" y="432900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420520" y="416232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463720" y="5808600"/>
              <a:ext cx="3627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flipV="1">
              <a:off x="546372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flipV="1">
              <a:off x="555156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V="1">
              <a:off x="563724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 flipV="1">
              <a:off x="573228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V="1">
              <a:off x="581796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V="1">
              <a:off x="590400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flipV="1">
              <a:off x="599148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 flipV="1">
              <a:off x="608472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V="1">
              <a:off x="617220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V="1">
              <a:off x="625824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flipV="1">
              <a:off x="634608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V="1">
              <a:off x="643896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V="1">
              <a:off x="652680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V="1">
              <a:off x="661248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 flipV="1">
              <a:off x="670032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 flipV="1">
              <a:off x="679320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V="1">
              <a:off x="688068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V="1">
              <a:off x="696708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V="1">
              <a:off x="705276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V="1">
              <a:off x="714744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V="1">
              <a:off x="723348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 flipV="1">
              <a:off x="732132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V="1">
              <a:off x="740736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V="1">
              <a:off x="750168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V="1">
              <a:off x="758808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V="1">
              <a:off x="767592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V="1">
              <a:off x="776160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 flipV="1">
              <a:off x="785628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V="1">
              <a:off x="794232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V="1">
              <a:off x="802980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V="1">
              <a:off x="811584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 flipV="1">
              <a:off x="821052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V="1">
              <a:off x="829656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V="1">
              <a:off x="838260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V="1">
              <a:off x="847044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V="1">
              <a:off x="856296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V="1">
              <a:off x="865080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V="1">
              <a:off x="873684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V="1">
              <a:off x="882432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 flipV="1">
              <a:off x="891720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V="1">
              <a:off x="900504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V="1">
              <a:off x="909144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829480" y="3714840"/>
              <a:ext cx="3164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moothed product mix for example coun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190120" y="573552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115600" y="55688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115600" y="54086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115600" y="524196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115600" y="507528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115600" y="49086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115600" y="47480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115600" y="458136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115600" y="441468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6" name=""/>
          <p:cNvSpPr/>
          <p:nvPr/>
        </p:nvSpPr>
        <p:spPr>
          <a:xfrm>
            <a:off x="5115600" y="425448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5041800" y="408780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rot="18900000">
            <a:off x="5378040" y="59148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 rot="18900000">
            <a:off x="5587200" y="5941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 rot="18900000">
            <a:off x="5853960" y="5941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rot="18900000">
            <a:off x="6113520" y="5941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rot="18900000">
            <a:off x="6381720" y="5941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 rot="18900000">
            <a:off x="6648480" y="5941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rot="18900000">
            <a:off x="6916680" y="5941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rot="18900000">
            <a:off x="7176240" y="5941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rot="18900000">
            <a:off x="7443000" y="5941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rot="18900000">
            <a:off x="7711200" y="5941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rot="18900000">
            <a:off x="7970760" y="5941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 rot="18900000">
            <a:off x="8239320" y="5941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rot="18900000">
            <a:off x="8506080" y="5941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rot="18900000">
            <a:off x="8772480" y="5941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399360" y="6202440"/>
            <a:ext cx="1829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eks (moving average up t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9178920" y="4129200"/>
            <a:ext cx="525600" cy="216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9221760" y="4195800"/>
            <a:ext cx="85680" cy="79200"/>
          </a:xfrm>
          <a:prstGeom prst="rect">
            <a:avLst/>
          </a:prstGeom>
          <a:solidFill>
            <a:srgbClr val="00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9358560" y="4154400"/>
            <a:ext cx="37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9221760" y="4375080"/>
            <a:ext cx="85680" cy="79560"/>
          </a:xfrm>
          <a:prstGeom prst="rect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9358560" y="4335480"/>
            <a:ext cx="37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9221760" y="4554360"/>
            <a:ext cx="85680" cy="8100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9347400" y="451476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9221760" y="4735440"/>
            <a:ext cx="85680" cy="79560"/>
          </a:xfrm>
          <a:prstGeom prst="rect">
            <a:avLst/>
          </a:prstGeom>
          <a:solidFill>
            <a:srgbClr val="cccc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9347400" y="469584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9221760" y="4915080"/>
            <a:ext cx="85680" cy="80640"/>
          </a:xfrm>
          <a:prstGeom prst="rect">
            <a:avLst/>
          </a:prstGeom>
          <a:solidFill>
            <a:srgbClr val="ff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9347400" y="4875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9221760" y="5095800"/>
            <a:ext cx="85680" cy="79560"/>
          </a:xfrm>
          <a:prstGeom prst="rect">
            <a:avLst/>
          </a:prstGeom>
          <a:solidFill>
            <a:srgbClr val="0066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9221760" y="5275440"/>
            <a:ext cx="85680" cy="80640"/>
          </a:xfrm>
          <a:prstGeom prst="rect">
            <a:avLst/>
          </a:prstGeom>
          <a:solidFill>
            <a:srgbClr val="ff00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9221760" y="5456160"/>
            <a:ext cx="85680" cy="7956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9221760" y="5635800"/>
            <a:ext cx="85680" cy="80640"/>
          </a:xfrm>
          <a:prstGeom prst="rect">
            <a:avLst/>
          </a:prstGeom>
          <a:solidFill>
            <a:srgbClr val="33cc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9221760" y="5816520"/>
            <a:ext cx="85680" cy="79560"/>
          </a:xfrm>
          <a:prstGeom prst="rect">
            <a:avLst/>
          </a:prstGeom>
          <a:solidFill>
            <a:srgbClr val="80008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9221760" y="5996160"/>
            <a:ext cx="85680" cy="79200"/>
          </a:xfrm>
          <a:prstGeom prst="rect">
            <a:avLst/>
          </a:prstGeom>
          <a:solidFill>
            <a:srgbClr val="cc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9221760" y="6176880"/>
            <a:ext cx="85680" cy="79560"/>
          </a:xfrm>
          <a:prstGeom prst="rect">
            <a:avLst/>
          </a:prstGeom>
          <a:solidFill>
            <a:srgbClr val="ff808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9359640" y="6135840"/>
            <a:ext cx="393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741920" y="3614760"/>
            <a:ext cx="4992480" cy="28479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 rot="5400000">
            <a:off x="3073320" y="4749840"/>
            <a:ext cx="1447920" cy="2311200"/>
          </a:xfrm>
          <a:custGeom>
            <a:avLst/>
            <a:gdLst>
              <a:gd name="textAreaLeft" fmla="*/ 482760 w 1447920"/>
              <a:gd name="textAreaRight" fmla="*/ 1240200 w 1447920"/>
              <a:gd name="textAreaTop" fmla="*/ 1331280 h 2311200"/>
              <a:gd name="textAreaBottom" fmla="*/ 1979640 h 23112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989440" y="592776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smoot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3400" spc="-1" strike="noStrike">
                <a:solidFill>
                  <a:srgbClr val="000000"/>
                </a:solidFill>
                <a:latin typeface="Nokia Sans Title SemiBold"/>
              </a:rPr>
              <a:t>There are several other ways to co-operate as well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Nokia Sans Wide"/>
              </a:rPr>
              <a:t>There are also other types of information that can be shared, and the information may flow from retailer to supplier just as well as from supplier to retailer: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Nokia Sans Wide"/>
              </a:rPr>
              <a:t>sharing of early sales data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Nokia Sans Wide"/>
              </a:rPr>
              <a:t>sharing of business and promotion plans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Nokia Sans Wide"/>
              </a:rPr>
              <a:t>sharing of exception alerts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Conclusions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Conclusions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rom a supply chain perspective true utilization of visibility is relatively hard to realize, but there seems to be huge potential benefits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One size does not fit all. A key is to understand what needs to be planned and managed throughout the chain, why it is important, and - consequently – how to plan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ere are few good planning concepts for business with high velocity, no ready product life cycle oriented planning concepts available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Understanding of roles across the Supply Chain seems to be essential for practical creation and utilization of visibility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1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9906120" cy="6854760"/>
          </a:xfrm>
          <a:prstGeom prst="rect">
            <a:avLst/>
          </a:prstGeom>
          <a:ln w="0">
            <a:noFill/>
          </a:ln>
        </p:spPr>
      </p:pic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1145880" y="2842920"/>
            <a:ext cx="4892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Thank you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The need for planning and forecasting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14264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recasting and planning are needed to “translate” business decisions to appropriate action: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"/>
          <p:cNvSpPr/>
          <p:nvPr/>
        </p:nvSpPr>
        <p:spPr>
          <a:xfrm>
            <a:off x="775440" y="2183760"/>
            <a:ext cx="2664360" cy="11826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iness dec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int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mo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ortment 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210360" y="2856600"/>
            <a:ext cx="2895480" cy="14526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nventory management and ord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roduction plan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urchasing etc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210200" y="2855880"/>
            <a:ext cx="1320480" cy="580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eca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pl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6" idx="3"/>
            <a:endCxn id="58" idx="1"/>
          </p:cNvCxnSpPr>
          <p:nvPr/>
        </p:nvCxnSpPr>
        <p:spPr>
          <a:xfrm>
            <a:off x="3344760" y="2774880"/>
            <a:ext cx="866160" cy="372240"/>
          </a:xfrm>
          <a:prstGeom prst="bentConnector3">
            <a:avLst>
              <a:gd name="adj1" fmla="val 49896"/>
            </a:avLst>
          </a:prstGeom>
          <a:ln w="1260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60" name=""/>
          <p:cNvCxnSpPr>
            <a:stCxn id="58" idx="3"/>
            <a:endCxn id="57" idx="1"/>
          </p:cNvCxnSpPr>
          <p:nvPr/>
        </p:nvCxnSpPr>
        <p:spPr>
          <a:xfrm>
            <a:off x="5530680" y="3146040"/>
            <a:ext cx="680400" cy="437400"/>
          </a:xfrm>
          <a:prstGeom prst="bentConnector3">
            <a:avLst>
              <a:gd name="adj1" fmla="val 49973"/>
            </a:avLst>
          </a:prstGeom>
          <a:ln w="1260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61" name=""/>
          <p:cNvSpPr/>
          <p:nvPr/>
        </p:nvSpPr>
        <p:spPr>
          <a:xfrm>
            <a:off x="768240" y="4343400"/>
            <a:ext cx="83822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278280" indent="-2782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recasts are needed in every stage of the cha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8280" indent="-27828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OEM: production, inventory, sourcing deci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8280" indent="-27828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Distributor and retailer: purchasing and inventory management; shelf management; category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8280" indent="-27828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tore operations: parameters for automatic ordering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5360" y="6400800"/>
            <a:ext cx="483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urce: Collaborative forecasting in practice ( Johanna Småros, TA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Nokia Sans Title SemiBold"/>
              </a:rPr>
              <a:t>What is “End-to-End” visibility?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2685960"/>
            <a:ext cx="7694640" cy="340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618ffd"/>
              </a:buClr>
              <a:buFont typeface="Nokia Sans Wi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Use efficiently and share with your suppliers the real demand and market trend information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618ffd"/>
              </a:buClr>
              <a:buFont typeface="Nokia Sans Wi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Reacting proactively to changes downstream in the Supply Chain improve everyone´s performance, and benefits the whole chain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618ffd"/>
              </a:buClr>
              <a:buFont typeface="Nokia Sans Wi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Analogy to driving on highway. You slow down or speed up when you see cars way ahead of you slowing down or speeding up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618ffd"/>
              </a:buClr>
              <a:buFont typeface="Nokia Sans Wi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Concretely, visibility is seeing what´s going on volume-wise, mix-wise and otherwise, and using and sharing that for better business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"/>
          <p:cNvSpPr/>
          <p:nvPr/>
        </p:nvSpPr>
        <p:spPr>
          <a:xfrm>
            <a:off x="7564320" y="1797120"/>
            <a:ext cx="1333440" cy="664200"/>
          </a:xfrm>
          <a:prstGeom prst="leftArrow">
            <a:avLst>
              <a:gd name="adj1" fmla="val 51741"/>
              <a:gd name="adj2" fmla="val 507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spAutoFit/>
          </a:bodyPr>
          <a:p>
            <a:pPr algn="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Times New Roman"/>
              </a:rPr>
              <a:t>Deman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271520" y="1817640"/>
            <a:ext cx="1343160" cy="565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895480" y="1806480"/>
            <a:ext cx="1343160" cy="5652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589640" y="1817640"/>
            <a:ext cx="1344600" cy="5652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6141960" y="1817640"/>
            <a:ext cx="1343160" cy="565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3400" spc="-1" strike="noStrike">
                <a:solidFill>
                  <a:srgbClr val="000000"/>
                </a:solidFill>
                <a:latin typeface="Nokia Sans Title SemiBold"/>
              </a:rPr>
              <a:t>Business benefit from visibility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874800" y="1236600"/>
            <a:ext cx="8586720" cy="5145480"/>
            <a:chOff x="874800" y="1236600"/>
            <a:chExt cx="8586720" cy="5145480"/>
          </a:xfrm>
        </p:grpSpPr>
        <p:sp>
          <p:nvSpPr>
            <p:cNvPr id="72" name=""/>
            <p:cNvSpPr/>
            <p:nvPr/>
          </p:nvSpPr>
          <p:spPr>
            <a:xfrm>
              <a:off x="3514680" y="2031840"/>
              <a:ext cx="3151080" cy="23878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91640" y="1236600"/>
              <a:ext cx="3167640" cy="67284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800" spc="-1" strike="noStrike" u="sng">
                  <a:solidFill>
                    <a:srgbClr val="000000"/>
                  </a:solidFill>
                  <a:uFillTx/>
                  <a:latin typeface="Rotis Sans Serif for Nokia"/>
                </a:rPr>
                <a:t>Improved responsivenes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800" spc="-1" strike="noStrike" u="sng">
                  <a:solidFill>
                    <a:srgbClr val="000000"/>
                  </a:solidFill>
                  <a:uFillTx/>
                  <a:latin typeface="Rotis Sans Serif for Nokia"/>
                </a:rPr>
                <a:t>and product availabi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392880" y="4637160"/>
              <a:ext cx="3068640" cy="17449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800" spc="-1" strike="noStrike" u="sng">
                  <a:solidFill>
                    <a:srgbClr val="000000"/>
                  </a:solidFill>
                  <a:uFillTx/>
                  <a:latin typeface="Rotis Sans Serif for Nokia"/>
                </a:rPr>
                <a:t>Improved asset efficienc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75"/>
                </a:spcBef>
                <a:buClr>
                  <a:srgbClr val="000000"/>
                </a:buClr>
                <a:buFont typeface="Rotis Sans Serif for Nokia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800" spc="-1" strike="noStrike">
                  <a:solidFill>
                    <a:srgbClr val="000000"/>
                  </a:solidFill>
                  <a:latin typeface="Rotis Sans Serif for Nokia"/>
                </a:rPr>
                <a:t>Reduced inventory leve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75"/>
                </a:spcBef>
                <a:buClr>
                  <a:srgbClr val="000000"/>
                </a:buClr>
                <a:buFont typeface="Rotis Sans Serif for Nokia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800" spc="-1" strike="noStrike">
                  <a:solidFill>
                    <a:srgbClr val="000000"/>
                  </a:solidFill>
                  <a:latin typeface="Rotis Sans Serif for Nokia"/>
                </a:rPr>
                <a:t>Improved use of capac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74800" y="4572000"/>
              <a:ext cx="2965320" cy="12517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800" spc="-1" strike="noStrike" u="sng">
                  <a:solidFill>
                    <a:srgbClr val="000000"/>
                  </a:solidFill>
                  <a:uFillTx/>
                  <a:latin typeface="Rotis Sans Serif for Nokia"/>
                </a:rPr>
                <a:t>Lower total c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75"/>
                </a:spcBef>
                <a:buClr>
                  <a:srgbClr val="000000"/>
                </a:buClr>
                <a:buFont typeface="Rotis Sans Serif for Nokia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800" spc="-1" strike="noStrike">
                  <a:solidFill>
                    <a:srgbClr val="000000"/>
                  </a:solidFill>
                  <a:latin typeface="Rotis Sans Serif for Nokia"/>
                </a:rPr>
                <a:t>streamlined oper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75"/>
                </a:spcBef>
                <a:buClr>
                  <a:srgbClr val="000000"/>
                </a:buClr>
                <a:buFont typeface="Rotis Sans Serif for Nokia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800" spc="-1" strike="noStrike">
                  <a:solidFill>
                    <a:srgbClr val="000000"/>
                  </a:solidFill>
                  <a:latin typeface="Rotis Sans Serif for Nokia"/>
                </a:rPr>
                <a:t>improved forecast accurac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The Project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E2E Visibility Project - Fundaments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509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11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Nokia Sans Wide"/>
              </a:rPr>
              <a:t>study project</a:t>
            </a: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 to study and clarify the principles of 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333440" indent="0">
              <a:lnSpc>
                <a:spcPct val="110000"/>
              </a:lnSpc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852480" indent="-380880">
              <a:lnSpc>
                <a:spcPct val="110000"/>
              </a:lnSpc>
              <a:buClr>
                <a:srgbClr val="618ffd"/>
              </a:buClr>
              <a:buSzPct val="75000"/>
              <a:buFont typeface="Nokia Sans Wide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tting up and 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852480" indent="-380880">
              <a:lnSpc>
                <a:spcPct val="110000"/>
              </a:lnSpc>
              <a:buClr>
                <a:srgbClr val="618ffd"/>
              </a:buClr>
              <a:buSzPct val="75000"/>
              <a:buFont typeface="Nokia Sans Wide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using 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852480" indent="0">
              <a:lnSpc>
                <a:spcPct val="110000"/>
              </a:lnSpc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852480" indent="0">
              <a:lnSpc>
                <a:spcPct val="110000"/>
              </a:lnSpc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downstream information in Demand-Supply Network management to improve the network efficiency end-to-end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333440" indent="0">
              <a:lnSpc>
                <a:spcPct val="110000"/>
              </a:lnSpc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380880" indent="-380880">
              <a:lnSpc>
                <a:spcPct val="11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Realized as collaborative project including 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333440" indent="-380880">
              <a:lnSpc>
                <a:spcPct val="11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Elcoteq Network Corporation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333440" indent="-380880">
              <a:lnSpc>
                <a:spcPct val="11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Nokia Mobile Phones &amp; Nokia Business Infrastructure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333440" indent="-380880">
              <a:lnSpc>
                <a:spcPct val="11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Perlos Corporation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333440" indent="-380880">
              <a:lnSpc>
                <a:spcPct val="11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lected Mobile Operators (2pcs)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333440" indent="-380880">
              <a:lnSpc>
                <a:spcPct val="11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AI Research Institute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E2E Visibility</a:t>
            </a:r>
            <a:r>
              <a:rPr b="0" lang="fi-FI" sz="3400" spc="-1" strike="noStrike">
                <a:solidFill>
                  <a:srgbClr val="000000"/>
                </a:solidFill>
                <a:latin typeface="Nokia Sans Title SemiBold"/>
              </a:rPr>
              <a:t> Project - E2E Visibility Definition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81" name=""/>
          <p:cNvSpPr/>
          <p:nvPr/>
        </p:nvSpPr>
        <p:spPr>
          <a:xfrm>
            <a:off x="552600" y="1195200"/>
            <a:ext cx="878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cus of this project is on demand visibility and utilization of it in the upstream DS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635040" y="1841400"/>
            <a:ext cx="8764560" cy="4243680"/>
            <a:chOff x="635040" y="1841400"/>
            <a:chExt cx="8764560" cy="4243680"/>
          </a:xfrm>
        </p:grpSpPr>
        <p:grpSp>
          <p:nvGrpSpPr>
            <p:cNvPr id="83" name=""/>
            <p:cNvGrpSpPr/>
            <p:nvPr/>
          </p:nvGrpSpPr>
          <p:grpSpPr>
            <a:xfrm>
              <a:off x="2463840" y="4584240"/>
              <a:ext cx="1599840" cy="1013040"/>
              <a:chOff x="2463840" y="4584240"/>
              <a:chExt cx="1599840" cy="1013040"/>
            </a:xfrm>
          </p:grpSpPr>
          <p:graphicFrame>
            <p:nvGraphicFramePr>
              <p:cNvPr id="84" name=""/>
              <p:cNvGraphicFramePr/>
              <p:nvPr/>
            </p:nvGraphicFramePr>
            <p:xfrm>
              <a:off x="2463840" y="4584240"/>
              <a:ext cx="1561320" cy="6285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8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463840" y="4584240"/>
                        <a:ext cx="1561320" cy="62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6" name=""/>
              <p:cNvSpPr/>
              <p:nvPr/>
            </p:nvSpPr>
            <p:spPr>
              <a:xfrm>
                <a:off x="2463840" y="5284440"/>
                <a:ext cx="15998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i-FI" sz="1600" spc="-1" strike="noStrike">
                    <a:solidFill>
                      <a:srgbClr val="000000"/>
                    </a:solidFill>
                    <a:latin typeface="Arial"/>
                  </a:rPr>
                  <a:t>Factory/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HU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7416720" y="4584240"/>
              <a:ext cx="1447920" cy="1293840"/>
              <a:chOff x="7416720" y="4584240"/>
              <a:chExt cx="1447920" cy="1293840"/>
            </a:xfrm>
          </p:grpSpPr>
          <p:graphicFrame>
            <p:nvGraphicFramePr>
              <p:cNvPr id="88" name=""/>
              <p:cNvGraphicFramePr/>
              <p:nvPr/>
            </p:nvGraphicFramePr>
            <p:xfrm>
              <a:off x="7416720" y="4584240"/>
              <a:ext cx="1428840" cy="5875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8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7416720" y="4584240"/>
                        <a:ext cx="1428840" cy="587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0" name=""/>
              <p:cNvSpPr/>
              <p:nvPr/>
            </p:nvSpPr>
            <p:spPr>
              <a:xfrm>
                <a:off x="7491240" y="5346360"/>
                <a:ext cx="1373400" cy="53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oint-of-Sa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5892840" y="4584240"/>
              <a:ext cx="1371600" cy="1231920"/>
              <a:chOff x="5892840" y="4584240"/>
              <a:chExt cx="1371600" cy="1231920"/>
            </a:xfrm>
          </p:grpSpPr>
          <p:graphicFrame>
            <p:nvGraphicFramePr>
              <p:cNvPr id="92" name=""/>
              <p:cNvGraphicFramePr/>
              <p:nvPr/>
            </p:nvGraphicFramePr>
            <p:xfrm>
              <a:off x="5892840" y="4584240"/>
              <a:ext cx="1338480" cy="6285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93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892840" y="4584240"/>
                        <a:ext cx="1338480" cy="62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4" name=""/>
              <p:cNvSpPr/>
              <p:nvPr/>
            </p:nvSpPr>
            <p:spPr>
              <a:xfrm>
                <a:off x="5892840" y="5284440"/>
                <a:ext cx="1371600" cy="53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i-FI" sz="1600" spc="-1" strike="noStrike">
                    <a:solidFill>
                      <a:srgbClr val="000000"/>
                    </a:solidFill>
                    <a:latin typeface="Arial"/>
                  </a:rPr>
                  <a:t>Trade Custom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4140000" y="4517640"/>
              <a:ext cx="1371600" cy="1079640"/>
              <a:chOff x="4140000" y="4517640"/>
              <a:chExt cx="1371600" cy="1079640"/>
            </a:xfrm>
          </p:grpSpPr>
          <p:sp>
            <p:nvSpPr>
              <p:cNvPr id="96" name=""/>
              <p:cNvSpPr/>
              <p:nvPr/>
            </p:nvSpPr>
            <p:spPr>
              <a:xfrm>
                <a:off x="4140000" y="5284440"/>
                <a:ext cx="13716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i-FI" sz="1600" spc="-1" strike="noStrike">
                    <a:solidFill>
                      <a:srgbClr val="000000"/>
                    </a:solidFill>
                    <a:latin typeface="Arial"/>
                  </a:rPr>
                  <a:t>NM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140000" y="4517640"/>
                <a:ext cx="1371600" cy="752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8" name=""/>
            <p:cNvGrpSpPr/>
            <p:nvPr/>
          </p:nvGrpSpPr>
          <p:grpSpPr>
            <a:xfrm>
              <a:off x="635040" y="4279680"/>
              <a:ext cx="1447560" cy="1302840"/>
              <a:chOff x="635040" y="4279680"/>
              <a:chExt cx="1447560" cy="1302840"/>
            </a:xfrm>
          </p:grpSpPr>
          <p:pic>
            <p:nvPicPr>
              <p:cNvPr id="9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939600" y="4279680"/>
                <a:ext cx="1134720" cy="83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>
                <a:off x="635040" y="5269680"/>
                <a:ext cx="14475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upplier</a:t>
                </a:r>
                <a:r>
                  <a:rPr b="1" lang="fi-FI" sz="1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01" name=""/>
            <p:cNvCxnSpPr>
              <a:stCxn id="97" idx="0"/>
            </p:cNvCxnSpPr>
            <p:nvPr/>
          </p:nvCxnSpPr>
          <p:spPr>
            <a:xfrm rot="5400000">
              <a:off x="4001400" y="3760200"/>
              <a:ext cx="66960" cy="1581840"/>
            </a:xfrm>
            <a:prstGeom prst="bentConnector3">
              <a:avLst>
                <a:gd name="adj1" fmla="val -342702"/>
              </a:avLst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02" name=""/>
            <p:cNvCxnSpPr>
              <a:endCxn id="97" idx="0"/>
            </p:cNvCxnSpPr>
            <p:nvPr/>
          </p:nvCxnSpPr>
          <p:spPr>
            <a:xfrm flipV="1" rot="16200000">
              <a:off x="5660640" y="3681720"/>
              <a:ext cx="66960" cy="1737720"/>
            </a:xfrm>
            <a:prstGeom prst="bentConnector3">
              <a:avLst>
                <a:gd name="adj1" fmla="val 442702"/>
              </a:avLst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03" name=""/>
            <p:cNvCxnSpPr>
              <a:stCxn id="99" idx="0"/>
            </p:cNvCxnSpPr>
            <p:nvPr/>
          </p:nvCxnSpPr>
          <p:spPr>
            <a:xfrm flipH="1" rot="16200000">
              <a:off x="4667040" y="1119240"/>
              <a:ext cx="304920" cy="6623640"/>
            </a:xfrm>
            <a:prstGeom prst="bentConnector3">
              <a:avLst>
                <a:gd name="adj1" fmla="val -74940"/>
              </a:avLst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04" name=""/>
            <p:cNvSpPr/>
            <p:nvPr/>
          </p:nvSpPr>
          <p:spPr>
            <a:xfrm>
              <a:off x="6883200" y="1841400"/>
              <a:ext cx="2516400" cy="96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ight collection of channel data, POS information, other market inf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217760" y="1841400"/>
              <a:ext cx="228456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solidation, sharing and usage of downstream visibilit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701720" y="1841400"/>
              <a:ext cx="2286000" cy="11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tilization of demand data upstream for production, forecasting, and replenishm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06840" y="3593880"/>
              <a:ext cx="3352680" cy="685440"/>
            </a:xfrm>
            <a:prstGeom prst="ellipse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92240" y="3593880"/>
              <a:ext cx="4343400" cy="685440"/>
            </a:xfrm>
            <a:prstGeom prst="ellipse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968800" y="3669840"/>
              <a:ext cx="3057480" cy="685440"/>
            </a:xfrm>
            <a:prstGeom prst="ellipse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0" name=""/>
            <p:cNvCxnSpPr>
              <a:stCxn id="105" idx="2"/>
              <a:endCxn id="107" idx="0"/>
            </p:cNvCxnSpPr>
            <p:nvPr/>
          </p:nvCxnSpPr>
          <p:spPr>
            <a:xfrm flipH="1">
              <a:off x="5283000" y="3031920"/>
              <a:ext cx="76680" cy="562320"/>
            </a:xfrm>
            <a:prstGeom prst="straightConnector1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6" idx="2"/>
              <a:endCxn id="108" idx="0"/>
            </p:cNvCxnSpPr>
            <p:nvPr/>
          </p:nvCxnSpPr>
          <p:spPr>
            <a:xfrm>
              <a:off x="2844720" y="3306240"/>
              <a:ext cx="419760" cy="287640"/>
            </a:xfrm>
            <a:prstGeom prst="straightConnector1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</p:cxnSp>
        <p:cxnSp>
          <p:nvCxnSpPr>
            <p:cNvPr id="112" name=""/>
            <p:cNvCxnSpPr>
              <a:stCxn id="104" idx="2"/>
              <a:endCxn id="109" idx="0"/>
            </p:cNvCxnSpPr>
            <p:nvPr/>
          </p:nvCxnSpPr>
          <p:spPr>
            <a:xfrm flipH="1">
              <a:off x="7497360" y="2815560"/>
              <a:ext cx="645120" cy="854280"/>
            </a:xfrm>
            <a:prstGeom prst="straightConnector1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</p:cxnSp>
        <p:sp>
          <p:nvSpPr>
            <p:cNvPr id="113" name=""/>
            <p:cNvSpPr/>
            <p:nvPr/>
          </p:nvSpPr>
          <p:spPr>
            <a:xfrm>
              <a:off x="2387520" y="5925960"/>
              <a:ext cx="5715000" cy="0"/>
            </a:xfrm>
            <a:prstGeom prst="line">
              <a:avLst/>
            </a:prstGeom>
            <a:ln w="38160">
              <a:solidFill>
                <a:srgbClr val="063de8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424160" y="5799600"/>
              <a:ext cx="100224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pstre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091360" y="5799600"/>
              <a:ext cx="12492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ownstre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3400" spc="-1" strike="noStrike">
                <a:solidFill>
                  <a:srgbClr val="000000"/>
                </a:solidFill>
                <a:latin typeface="Nokia Sans Title SemiBold"/>
              </a:rPr>
              <a:t>Business benefits drive E2E Concept creation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17" name=""/>
          <p:cNvSpPr/>
          <p:nvPr/>
        </p:nvSpPr>
        <p:spPr>
          <a:xfrm>
            <a:off x="5662440" y="917640"/>
            <a:ext cx="3908520" cy="48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Rotis Sans Serif for Nokia"/>
              </a:rPr>
              <a:t>Proceeding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Benchmark stu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Current State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Process mapping E2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Intervie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Data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Concept cre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Pilo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Development roadmap cre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Rotis Sans Serif for Nokia"/>
                <a:ea typeface="Arial"/>
              </a:rPr>
              <a:t>Concept elements are selected and developed based on following criteri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  <a:ea typeface="Arial"/>
              </a:rPr>
              <a:t>They are needed to achieve E2E visib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  <a:ea typeface="Arial"/>
              </a:rPr>
              <a:t>They bring tangible business benef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  <a:ea typeface="Arial"/>
              </a:rPr>
              <a:t>They are suitable to use in mobile phone business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361800" y="1474920"/>
            <a:ext cx="5046840" cy="3931200"/>
            <a:chOff x="361800" y="1474920"/>
            <a:chExt cx="5046840" cy="3931200"/>
          </a:xfrm>
        </p:grpSpPr>
        <p:sp>
          <p:nvSpPr>
            <p:cNvPr id="119" name=""/>
            <p:cNvSpPr/>
            <p:nvPr/>
          </p:nvSpPr>
          <p:spPr>
            <a:xfrm>
              <a:off x="1913400" y="2036880"/>
              <a:ext cx="1851840" cy="1826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578600" y="1474920"/>
              <a:ext cx="2504880" cy="54360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400" spc="-1" strike="noStrike" u="sng">
                  <a:solidFill>
                    <a:srgbClr val="000000"/>
                  </a:solidFill>
                  <a:uFillTx/>
                  <a:latin typeface="Rotis Sans Serif for Nokia"/>
                </a:rPr>
                <a:t>Improved responsivenes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400" spc="-1" strike="noStrike" u="sng">
                  <a:solidFill>
                    <a:srgbClr val="000000"/>
                  </a:solidFill>
                  <a:uFillTx/>
                  <a:latin typeface="Rotis Sans Serif for Nokia"/>
                </a:rPr>
                <a:t>and product availabil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605040" y="4029840"/>
              <a:ext cx="1803600" cy="137628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400" spc="-1" strike="noStrike" u="sng">
                  <a:solidFill>
                    <a:srgbClr val="000000"/>
                  </a:solidFill>
                  <a:uFillTx/>
                  <a:latin typeface="Rotis Sans Serif for Nokia"/>
                </a:rPr>
                <a:t>Improved asset efficienc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524"/>
                </a:spcBef>
                <a:buClr>
                  <a:srgbClr val="000000"/>
                </a:buClr>
                <a:buFont typeface="Rotis Sans Serif for Nokia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400" spc="-1" strike="noStrike">
                  <a:solidFill>
                    <a:srgbClr val="000000"/>
                  </a:solidFill>
                  <a:latin typeface="Rotis Sans Serif for Nokia"/>
                </a:rPr>
                <a:t>Reduced inventory leve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524"/>
                </a:spcBef>
                <a:buClr>
                  <a:srgbClr val="000000"/>
                </a:buClr>
                <a:buFont typeface="Rotis Sans Serif for Nokia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400" spc="-1" strike="noStrike">
                  <a:solidFill>
                    <a:srgbClr val="000000"/>
                  </a:solidFill>
                  <a:latin typeface="Rotis Sans Serif for Nokia"/>
                </a:rPr>
                <a:t>Improved use of capac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61800" y="3979800"/>
              <a:ext cx="1742040" cy="137628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400" spc="-1" strike="noStrike" u="sng">
                  <a:solidFill>
                    <a:srgbClr val="000000"/>
                  </a:solidFill>
                  <a:uFillTx/>
                  <a:latin typeface="Rotis Sans Serif for Nokia"/>
                </a:rPr>
                <a:t>Lower total co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524"/>
                </a:spcBef>
                <a:buClr>
                  <a:srgbClr val="000000"/>
                </a:buClr>
                <a:buFont typeface="Rotis Sans Serif for Nokia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400" spc="-1" strike="noStrike">
                  <a:solidFill>
                    <a:srgbClr val="000000"/>
                  </a:solidFill>
                  <a:latin typeface="Rotis Sans Serif for Nokia"/>
                </a:rPr>
                <a:t>streamlined oper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524"/>
                </a:spcBef>
                <a:buClr>
                  <a:srgbClr val="000000"/>
                </a:buClr>
                <a:buFont typeface="Rotis Sans Serif for Nokia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400" spc="-1" strike="noStrike">
                  <a:solidFill>
                    <a:srgbClr val="000000"/>
                  </a:solidFill>
                  <a:latin typeface="Rotis Sans Serif for Nokia"/>
                </a:rPr>
                <a:t>improved forecast accurac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Findings and Concept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30T19:21:19Z</dcterms:created>
  <dc:creator>Aki Laiho</dc:creator>
  <dc:description>Nokia Standard Presentation Template - A4
v. 6 2002/06/12 Juhani Pitkänen
Nokia Corporate Fonts
Provided by: NBI\IMS\ITP\CP\Office Platforms
NBI Owner:  Eric Beasley</dc:description>
  <cp:keywords/>
  <dc:language>en-US</dc:language>
  <cp:lastModifiedBy>.</cp:lastModifiedBy>
  <cp:lastPrinted>2000-03-20T15:35:04Z</cp:lastPrinted>
  <dcterms:modified xsi:type="dcterms:W3CDTF">2007-10-25T11:12:43Z</dcterms:modified>
  <cp:revision>38</cp:revision>
  <dc:subject/>
  <dc:title>New PowerPoint Template</dc:title>
</cp:coreProperties>
</file>