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8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288588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0240" y="0"/>
            <a:ext cx="8507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1680" y="1268280"/>
            <a:ext cx="71294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46320" y="3212640"/>
            <a:ext cx="5913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1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2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3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4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5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6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308320" y="6453000"/>
            <a:ext cx="6400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3808-CA79-4394-B076-081355CE19AC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57680" y="371520"/>
            <a:ext cx="113652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EFA7-240C-4310-AEB6-A5ACB4BCC9A0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4640" y="333360"/>
            <a:ext cx="85104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8B85-D791-412C-A899-D6317A7B33C9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2604960"/>
            <a:ext cx="792360" cy="70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2438280"/>
            <a:ext cx="769644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2565360"/>
            <a:ext cx="6429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7680" y="1341360"/>
            <a:ext cx="7129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2901960" y="4260960"/>
            <a:ext cx="44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Rodrigo Valdé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Gerente División de Estudi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6960" y="2189160"/>
            <a:ext cx="83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Lucida Sans Unicode"/>
              </a:rPr>
              <a:t>Política monetaria en Ch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3680" y="1557000"/>
            <a:ext cx="930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Desde el año 2000 en Chile, la PM se conduce bajo un esquema pleno de metas de inflac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e esquema tiene como pilares fundamenta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1. El anuncio explícito de una meta de inflación permanen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2. Flotación en el tipo de camb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3. Apoyo clave del marco institucional: posición fiscal sólida y un sistema financiero adecuad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1. Meta permanente de inflación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objetivo es mantener </a:t>
            </a:r>
            <a:r>
              <a:rPr b="0" lang="es-ES_tradnl" sz="2100" spc="-1" strike="noStrike">
                <a:solidFill>
                  <a:srgbClr val="000000"/>
                </a:solidFill>
                <a:latin typeface="Lucida Sans Unicode"/>
              </a:rPr>
              <a:t>la inflación anual 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mayor parte del tiempo en torno a 3%, con un rango de tolerancia de más/menos un punto porcen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iempre, no sólo en diciembr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De manera sostenible en el tiemp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dmitiendo desviaciones transitorias cuando se enfrenta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3997440" y="4869000"/>
            <a:ext cx="21542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. Flotación cambiari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Desde octubre de 1999 el valor del tipo de cambio se determina libremente en el mercado cambi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Sin embargo, el BCCh se reserva el derecho a intervenir en circunstancias excepcionales (dos episodios desde 1999: agosto 2001 y octubre 2002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l esquema de flotación permite mayor independencia en la implementación de la PM y facilita el ajuste de la economía a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real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4040" y="5418000"/>
            <a:ext cx="15843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3. Complemento institucional clav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lítica fiscal responsable (regla de superávit estructural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cuada regulación y supervisión financier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Objetivo operacional de la PM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l BCCh tiene un “horizonte de política” en torno a dos añ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estima que la PM tiene efecto relevante en la inflación a ese horizo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se horizonte permite acomodar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transitorios en la inflación (por definición, ellos se mantienen en la inflación anual durante 12 mes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PM se orienta de manera que la inflación proyectada sea 3% a ese horizonte. Con ell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maximizan las posibilidades de estar cerca de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toma explícitamente en cuenta que la PM tiene efectos sobre la volatilidad de la actividad y de las tasas de interé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unque también se analiza que podría suceder más adelante y posibles riesg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Resultados positivo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Algunas estadísticas (enero 2000 a julio 2007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romedio inflación 12 meses = 2,9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orcentaje del tiempo (meses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Entre 2% y 4% = 73,6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Bajo 2% = 15,4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Sobre 4% = 11,0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Creciente credibilida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648400" y="4797360"/>
            <a:ext cx="1584360" cy="109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42080" y="4797360"/>
            <a:ext cx="17290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 este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análisis es eminentemente prospec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Como la PM toma tiempo en surtir efectos (existen rezagos), es necesario imaginar cómo será la situación económica cuando se manifiesten estos efectos.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s proyecciones juegan un rol clave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única manera de imaginar seriamente el futuro es a partir de ejercicios de proyección desde la realidad ac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royecciones no se cumplen exactamente porque existe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 y conocimiento limitad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M se ajusta para enfrentar las consecuencias de los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48608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lementos fundamentales del proceso de proyeccion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Se apoya en un </a:t>
            </a: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onjunto de modelos estadísticos y económicos, en continua mejoría.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información entregada por los modelos interactúa con el análisis y juicio, el cual es insustitu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De esta interacción resulta un escenario base (más probable) y escenarios alternativos o de riesg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79680" y="4869000"/>
            <a:ext cx="1752480" cy="1417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43680" y="4869000"/>
            <a:ext cx="16761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9021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credibilidad actúa como el “ancla” del sistem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sistemas alternativos, como objetivo de agregados y tipo de cambio fijo, el ancla es evid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 metas, la confianza de los agentes se basa en que el BC ajustará la PM de manera que la inflación sea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a eso es necesario “hacer lo que se dice se hará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gla de política 1989-2003 estimada por Céspedes y Soto (2005)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2960" y="5084640"/>
          <a:ext cx="784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5084640"/>
                    <a:ext cx="784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555920"/>
            <a:ext cx="9309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LOC del BCCh determina sus objetivos (Art. 3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abilidad de la mone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Normal funcionamiento de los pagos internos y ex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es estabilidad de la mone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Por qué es necesari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hace el BC para lograr el primer objetiv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Dinero y precios guardan una estrecha relación en períodos prolongados. La inflación en el largo plazo es un fenómeno monetari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gún la teoría cuantitativa:                        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tonces si la PM es neutral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in embargo, en el horizonte de política, y con un nivel de inflación acotado, el dinero no es especialmente informativ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países con baja inflación la correlación entre crecimiento del dinero e inflación es más débil (V es relativamente menos estable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n Chile, una vez que se controla por costos y brechas, el dinero aporta poco a la predicción de inflación al horizonte de polític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ún así, los distintos agregados se analizan con cuid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38600" y="2708280"/>
          <a:ext cx="151128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8600" y="270828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711680" y="3068640"/>
          <a:ext cx="136836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3068640"/>
                    <a:ext cx="136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080" y="14130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pisodios de alta inflación han estado asociados usualmente a elevados déficits en las cuentas fiscales y a autoridades monetarias no comprometidas con la lucha antiinflacionar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La presencia de rigideces nominales en precios y salarios hace que la política monetaria tenga efecto sobre las variables reales en el corto plazo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la medida que las variables reales, como el empleo o la actividad, se alejen de su tendencia de largo plazo por efecto de la PM, estas fluctuaciones terminan afectando a la inflación en la medida que transcurre el tiemp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eterminantes de la inflación: Ejemplo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urva de Phillips si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903320" y="2133720"/>
          <a:ext cx="64803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2133720"/>
                    <a:ext cx="6480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4960" y="3213000"/>
            <a:ext cx="9382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el  largo plazo (en promedio) ocurre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695680" y="3860640"/>
          <a:ext cx="187776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3860640"/>
                    <a:ext cx="1877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288040" y="3860640"/>
          <a:ext cx="140976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3860640"/>
                    <a:ext cx="1409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14440" y="4913280"/>
            <a:ext cx="9381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o implica qu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652920" y="5316480"/>
          <a:ext cx="192240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2920" y="5316480"/>
                    <a:ext cx="19224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ecanismos de transmisió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Además de influir en las tasas de interés, la PM afecta el tipo de cambio, el crédito y el dinero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Todo ello tiene a su vez efectos en el desempeño del sector real y en cost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Evidentemente muchas otras variables, tanto internas como externas, influyen en el desempeño de cada una de las variables macroeconómica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630600" y="4869000"/>
            <a:ext cx="23749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la inf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0" t="8106" r="51537" b="50676"/>
          <a:stretch/>
        </p:blipFill>
        <p:spPr>
          <a:xfrm>
            <a:off x="1158840" y="1600200"/>
            <a:ext cx="785016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50307" t="9188" r="2523" b="50578"/>
          <a:stretch/>
        </p:blipFill>
        <p:spPr>
          <a:xfrm>
            <a:off x="1182600" y="1590840"/>
            <a:ext cx="7848720" cy="4622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l BCCh decide el nivel de la TPM y maneja la liquidez disponible (circulante y reservas) a través de OMAs de manera que la tasa interbancaria a un día (TIB1) se ubique en ese nive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 TIB1 no tiene efectos directos sobre la economía, pero sí a través de las demás tasas que determina el sistema financiero y se vinculan a la TIB1 por arbitra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833560" y="5035680"/>
            <a:ext cx="1656000" cy="1030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288040" y="4979880"/>
            <a:ext cx="172728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Por ejemplo, la tasa de interés en operaciones a 3 meses no puede diferir mucho del promedio de expectativas de TIB1 por los próximos 90 días (a igual riesgo de crédito)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s tasas de mayor plazo también se ven influidas por la PM a través de las expectativas de TPM a distintos horizont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48040" y="5084640"/>
            <a:ext cx="180036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V. Reunión de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1528560"/>
            <a:ext cx="945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. Los objetivos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V. La reunión de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. Implementación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. Transparencia y estrategia de comunicación del BCC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I. Conclusion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Reunión mensual en que se deciden cambios en la T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renunciada con seis meses de antelació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Habitualmente en dos par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1:30 hrs. – Revisión de antecedent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6:00 hrs. – Análisis de opciones, votación y comunicado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articipan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Votan los 5 Consejeros del BC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articipa el Ministro de Hacienda con derecho a voz (LOC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ersonal del BCCh (varios gerentes, Fiscal, Ministro de Fe, algunos asesor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48 horas antes se distribuye material reservad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la información dispon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royecciones de corto plazo (y mediano plazo si hay IPo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 horas antes se distribuye documento de opciones (análisis de costos y beneficios de las alternativa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n la reunión, presentación y discusión de participantes de distintos tem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3680" y="1557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559320" y="148428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872400" y="141300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368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3774960" y="3933720"/>
            <a:ext cx="3008520" cy="2256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656400" y="378936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560" y="1402920"/>
            <a:ext cx="9677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iclo de 6 semanas de trabajo del personal junto al Consej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Evaluación de proyecciones previas y análisis de desviac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dentificación de escenario central y análisis de riesg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Uso intensivo de modelos y juici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Análisis de temas específicos relevantes para la coyuntur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ngrediente fundamental para la toma de decis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tener escenario bas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evaluar las novedades coyunturales mes a mes y analizar su impacto para el escenario central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omponente clave de la RPM respectiv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647720"/>
            <a:ext cx="967716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proximadamente tres semanas después de la reunión se publica una minuta que incluy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Un resumen de los antecedentes revisados en la reunión y principales puntos de análisi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s opciones de política considerad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os principales argumentos considerados por el Consejo en la decis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 votación de cada Conseje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en Chile (variación % dic. a dic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2600" y="1290600"/>
            <a:ext cx="7993080" cy="4915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61960" y="6143760"/>
            <a:ext cx="52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Fuente: Díaz et al., (2003) e I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Curva de Phillips en EEUU (%), (1960-1989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1039680" y="1309680"/>
            <a:ext cx="8064720" cy="50720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flación y crecimiento (otros factores constante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6548" t="0" r="5125" b="6590"/>
          <a:stretch/>
        </p:blipFill>
        <p:spPr>
          <a:xfrm>
            <a:off x="457200" y="1469880"/>
            <a:ext cx="4724280" cy="4321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6593" t="0" r="-129" b="4961"/>
          <a:stretch/>
        </p:blipFill>
        <p:spPr>
          <a:xfrm>
            <a:off x="5257800" y="1413000"/>
            <a:ext cx="4869000" cy="4378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92160" y="6034680"/>
            <a:ext cx="647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Determinants of Economic Growth, R. Barro (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720" y="1295280"/>
            <a:ext cx="7164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Tasa de C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Meta de inflación en Chile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757080" y="1262160"/>
            <a:ext cx="8347320" cy="5236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391680" y="58770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Tipo de cambio y banda cambiaria en Chi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1984-2006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95320" y="1197000"/>
            <a:ext cx="8136000" cy="50608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. Objetivos de la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xpectativas de inflación (%)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15880" y="1333440"/>
            <a:ext cx="73281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istribución de expectativas de inflación (%)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95320" y="1276200"/>
            <a:ext cx="813744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nque nos hemos acostumbrado, la inflación controlada no era algo habi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2960" y="1413000"/>
            <a:ext cx="7010640" cy="301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95320" y="4437000"/>
            <a:ext cx="849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más de elevada, era muy variable:</a:t>
            </a: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37120" y="5335560"/>
            <a:ext cx="15112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Antes se creía que la PM podía influir sistemáticamente en la actividad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Durante los sesenta se pensaba que se debía tener algo más de inflación para tener persistentemente menor desempleo y mayor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sta idea se resumía en la llamada “Curva de Phillips”, una relación negativa (y supuestamente estable) entre tasa de desempleo y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3990960" y="4762440"/>
            <a:ext cx="2521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Hemos aprendido que la política monetaria tiene límit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32160" y="136116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rendizaje clave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No existe un dilema permanente entre crecimiento e inflación, sino más bien lo contr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Una inflación baja y estable es un prerrequisito para crec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PM no puede resolver problemas estructurales de desempleo o de bajo crecimiento potenc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o que mejor puede hacer la PM es generar un ambiente de estabilidad de preci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6593" t="0" r="-129" b="0"/>
          <a:stretch/>
        </p:blipFill>
        <p:spPr>
          <a:xfrm>
            <a:off x="4361040" y="3306600"/>
            <a:ext cx="1485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Pero un rol importante en la estabilización de corto plaz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2160" y="164988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el corto plazo, la PM sí tiene efecto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obre variables nominales, como los precios, pero también reales, como el empleo y el product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magnitudes y con rezagos que son cambiantes y no plenamente conocid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Y que se modifican incluso con la propia conducción de la 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no neutralidad en el corto plazo admite que la PM pueda ayudar a estabilizar el ciclo económic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ero también se enfrentan dilemas (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tradeoff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Requiere de conducción apropiada, que tome en cuenta este poder y sus lími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 Ley Orgánica del BCCh recoge estas lec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160" y="1433880"/>
            <a:ext cx="902196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stablece como objetivo del BCCh “Velar por la estabilidad de la moneda y del normal funcionamiento del sistema de pagos interno y externo”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o que se entiende com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lcanzar un nivel de inflación baja, estable y sostenible en el tiemp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reservar las funciones primordiales del sistema financiero a través de una regulación y supervisión adecuad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xisten diferentes maneras de organizar la PM para alcanzar el primer obje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agregados monetari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tipo de cambi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inflació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14:45:39Z</dcterms:created>
  <dc:creator>Fabian Gredig </dc:creator>
  <dc:description/>
  <dc:language>en-US</dc:language>
  <cp:lastModifiedBy>BCCH</cp:lastModifiedBy>
  <cp:lastPrinted>2005-03-28T16:39:00Z</cp:lastPrinted>
  <dcterms:modified xsi:type="dcterms:W3CDTF">2007-11-19T12:37:14Z</dcterms:modified>
  <cp:revision>717</cp:revision>
  <dc:subject/>
  <dc:title>PowerPoint Presentation</dc:title>
</cp:coreProperties>
</file>