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10.png" ContentType="image/png"/>
  <Override PartName="/ppt/media/image28.wmf" ContentType="image/x-wmf"/>
  <Override PartName="/ppt/media/image30.png" ContentType="image/png"/>
  <Override PartName="/ppt/media/image5.png" ContentType="image/png"/>
  <Override PartName="/ppt/media/image13.wmf" ContentType="image/x-wmf"/>
  <Override PartName="/ppt/media/image7.wmf" ContentType="image/x-wmf"/>
  <Override PartName="/ppt/media/image12.wmf" ContentType="image/x-wmf"/>
  <Override PartName="/ppt/media/image4.wmf" ContentType="image/x-wmf"/>
  <Override PartName="/ppt/media/image27.wmf" ContentType="image/x-wmf"/>
  <Override PartName="/ppt/media/image8.wmf" ContentType="image/x-wmf"/>
  <Override PartName="/ppt/media/image9.wmf" ContentType="image/x-wmf"/>
  <Override PartName="/ppt/media/image6.wmf" ContentType="image/x-wmf"/>
  <Override PartName="/ppt/media/image11.png" ContentType="image/png"/>
  <Override PartName="/ppt/media/image31.wmf" ContentType="image/x-wmf"/>
  <Override PartName="/ppt/media/image3.wmf" ContentType="image/x-wmf"/>
  <Override PartName="/ppt/media/image26.wmf" ContentType="image/x-wmf"/>
  <Override PartName="/ppt/media/image2.wmf" ContentType="image/x-wmf"/>
  <Override PartName="/ppt/media/image25.wmf" ContentType="image/x-wmf"/>
  <Override PartName="/ppt/media/image29.wmf" ContentType="image/x-wmf"/>
  <Override PartName="/ppt/media/image1.png" ContentType="image/png"/>
  <Override PartName="/ppt/media/image1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png" ContentType="image/png"/>
  <Override PartName="/ppt/media/image21.png" ContentType="image/png"/>
  <Override PartName="/ppt/media/image2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</p:sldIdLst>
  <p:sldSz cx="10288588" cy="6858000"/>
  <p:notesSz cx="69342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79680" y="274320"/>
            <a:ext cx="8192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925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080" y="3964320"/>
            <a:ext cx="925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79680" y="274320"/>
            <a:ext cx="8192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58160" y="160020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14080" y="396432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258160" y="396432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79680" y="274320"/>
            <a:ext cx="8192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298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644280" y="1600200"/>
            <a:ext cx="298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74480" y="1600200"/>
            <a:ext cx="298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14080" y="3964320"/>
            <a:ext cx="298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644280" y="3964320"/>
            <a:ext cx="298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74480" y="3964320"/>
            <a:ext cx="298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79680" y="274320"/>
            <a:ext cx="8192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14080" y="1600200"/>
            <a:ext cx="92581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79680" y="274320"/>
            <a:ext cx="8192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9258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79680" y="274320"/>
            <a:ext cx="8192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4517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258160" y="1600200"/>
            <a:ext cx="4517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79680" y="274320"/>
            <a:ext cx="8192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579680" y="274320"/>
            <a:ext cx="819288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79680" y="274320"/>
            <a:ext cx="8192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258160" y="1600200"/>
            <a:ext cx="4517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4080" y="396432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79680" y="274320"/>
            <a:ext cx="8192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14080" y="1600200"/>
            <a:ext cx="92581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79680" y="274320"/>
            <a:ext cx="8192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4517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258160" y="160020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258160" y="396432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79680" y="274320"/>
            <a:ext cx="8192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258160" y="160020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14080" y="3964320"/>
            <a:ext cx="925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79680" y="274320"/>
            <a:ext cx="8192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925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14080" y="3964320"/>
            <a:ext cx="925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79680" y="274320"/>
            <a:ext cx="8192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58160" y="160020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4080" y="396432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258160" y="396432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79680" y="274320"/>
            <a:ext cx="8192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298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44280" y="1600200"/>
            <a:ext cx="298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774480" y="1600200"/>
            <a:ext cx="298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14080" y="3964320"/>
            <a:ext cx="298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44280" y="3964320"/>
            <a:ext cx="298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774480" y="3964320"/>
            <a:ext cx="298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79680" y="274320"/>
            <a:ext cx="8192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514080" y="1600200"/>
            <a:ext cx="92581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79680" y="274320"/>
            <a:ext cx="8192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9258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79680" y="274320"/>
            <a:ext cx="8192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4517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258160" y="1600200"/>
            <a:ext cx="4517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79680" y="274320"/>
            <a:ext cx="8192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79680" y="274320"/>
            <a:ext cx="8192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9258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1579680" y="274320"/>
            <a:ext cx="819288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79680" y="274320"/>
            <a:ext cx="8192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258160" y="1600200"/>
            <a:ext cx="4517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14080" y="396432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79680" y="274320"/>
            <a:ext cx="8192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4517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258160" y="160020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258160" y="396432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79680" y="274320"/>
            <a:ext cx="8192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258160" y="160020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14080" y="3964320"/>
            <a:ext cx="925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79680" y="274320"/>
            <a:ext cx="8192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925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14080" y="3964320"/>
            <a:ext cx="925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79680" y="274320"/>
            <a:ext cx="8192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58160" y="160020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14080" y="396432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5258160" y="396432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79680" y="274320"/>
            <a:ext cx="8192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298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644280" y="1600200"/>
            <a:ext cx="298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774480" y="1600200"/>
            <a:ext cx="298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514080" y="3964320"/>
            <a:ext cx="298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644280" y="3964320"/>
            <a:ext cx="298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774480" y="3964320"/>
            <a:ext cx="298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79680" y="274320"/>
            <a:ext cx="8192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4517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258160" y="1600200"/>
            <a:ext cx="4517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79680" y="274320"/>
            <a:ext cx="8192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79680" y="274320"/>
            <a:ext cx="819288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79680" y="274320"/>
            <a:ext cx="8192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258160" y="1600200"/>
            <a:ext cx="4517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14080" y="396432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79680" y="274320"/>
            <a:ext cx="8192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4517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58160" y="160020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258160" y="396432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79680" y="274320"/>
            <a:ext cx="8192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58160" y="160020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4080" y="3964320"/>
            <a:ext cx="925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930240" y="0"/>
            <a:ext cx="8507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6257880" y="6453360"/>
            <a:ext cx="3171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2228760" y="6453360"/>
            <a:ext cx="8058240" cy="228600"/>
          </a:xfrm>
          <a:prstGeom prst="rect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471680" y="1268280"/>
            <a:ext cx="7129440" cy="12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 Unicod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146320" y="3212640"/>
            <a:ext cx="591336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Lucida Sans Unicode"/>
              </a:rPr>
              <a:t>Click to edit the outline text format</a:t>
            </a:r>
            <a:endParaRPr b="0" lang="en-US" sz="3200" spc="-1" strike="noStrike">
              <a:solidFill>
                <a:srgbClr val="808080"/>
              </a:solidFill>
              <a:latin typeface="Lucida Sans Unicode"/>
            </a:endParaRPr>
          </a:p>
          <a:p>
            <a:pPr lvl="1" marL="229680" indent="-229680" algn="ctr">
              <a:spcBef>
                <a:spcPts val="799"/>
              </a:spcBef>
              <a:buClr>
                <a:srgbClr val="80808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Lucida Sans Unicode"/>
              </a:rPr>
              <a:t>Second Outline Level</a:t>
            </a:r>
            <a:endParaRPr b="0" lang="en-US" sz="3200" spc="-1" strike="noStrike">
              <a:solidFill>
                <a:srgbClr val="808080"/>
              </a:solidFill>
              <a:latin typeface="Lucida Sans Unicode"/>
            </a:endParaRPr>
          </a:p>
          <a:p>
            <a:pPr lvl="2" marL="229680" indent="-229680" algn="ctr"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Lucida Sans Unicode"/>
              </a:rPr>
              <a:t>Third Outline Level</a:t>
            </a:r>
            <a:endParaRPr b="0" lang="en-US" sz="3200" spc="-1" strike="noStrike">
              <a:solidFill>
                <a:srgbClr val="808080"/>
              </a:solidFill>
              <a:latin typeface="Lucida Sans Unicode"/>
            </a:endParaRPr>
          </a:p>
          <a:p>
            <a:pPr lvl="3" marL="229680" indent="-229680" algn="ctr">
              <a:spcBef>
                <a:spcPts val="799"/>
              </a:spcBef>
              <a:buClr>
                <a:srgbClr val="80808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Lucida Sans Unicode"/>
              </a:rPr>
              <a:t>Fourth Outline Level</a:t>
            </a:r>
            <a:endParaRPr b="0" lang="en-US" sz="3200" spc="-1" strike="noStrike">
              <a:solidFill>
                <a:srgbClr val="808080"/>
              </a:solidFill>
              <a:latin typeface="Lucida Sans Unicode"/>
            </a:endParaRPr>
          </a:p>
          <a:p>
            <a:pPr lvl="4" marL="229680" indent="-229680" algn="ctr">
              <a:spcBef>
                <a:spcPts val="799"/>
              </a:spcBef>
              <a:buClr>
                <a:srgbClr val="80808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Lucida Sans Unicode"/>
              </a:rPr>
              <a:t>Fifth Outline Level</a:t>
            </a:r>
            <a:endParaRPr b="0" lang="en-US" sz="3200" spc="-1" strike="noStrike">
              <a:solidFill>
                <a:srgbClr val="808080"/>
              </a:solidFill>
              <a:latin typeface="Lucida Sans Unicode"/>
            </a:endParaRPr>
          </a:p>
          <a:p>
            <a:pPr lvl="5" marL="229680" indent="-22968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Lucida Sans Unicode"/>
              </a:rPr>
              <a:t>Sixth Outline Level</a:t>
            </a:r>
            <a:endParaRPr b="0" lang="en-US" sz="3200" spc="-1" strike="noStrike">
              <a:solidFill>
                <a:srgbClr val="808080"/>
              </a:solidFill>
              <a:latin typeface="Lucida Sans Unicode"/>
            </a:endParaRPr>
          </a:p>
          <a:p>
            <a:pPr lvl="6" marL="229680" indent="-22968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Lucida Sans Unicode"/>
              </a:rPr>
              <a:t>Seventh Outline Level</a:t>
            </a:r>
            <a:endParaRPr b="0" lang="en-US" sz="3200" spc="-1" strike="noStrike">
              <a:solidFill>
                <a:srgbClr val="808080"/>
              </a:solidFill>
              <a:latin typeface="Lucida Sans Unicode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2308320" y="6453000"/>
            <a:ext cx="6400800" cy="21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Sans Unicode"/>
              </a:rPr>
              <a:t>BANCO CENTRAL DE CHILE</a:t>
            </a:r>
            <a:r>
              <a:rPr b="0" lang="en-US" sz="12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ucida Sans Unicode"/>
              </a:rPr>
              <a:t>                                   13 DE AGOSTO DE 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0" y="6453360"/>
            <a:ext cx="600120" cy="228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08843-BF3D-4F17-8467-BBA66255F751}" type="slidenum">
              <a:rPr b="1" lang="en-US" sz="900" spc="-1" strike="noStrike">
                <a:solidFill>
                  <a:srgbClr val="808080"/>
                </a:solidFill>
                <a:latin typeface="Lucida Sans Unicode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4657680" y="371520"/>
            <a:ext cx="1136520" cy="896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10287000" cy="12952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71360" y="152280"/>
            <a:ext cx="9858600" cy="990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79680" y="274320"/>
            <a:ext cx="8192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 Unicode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514080" y="1600200"/>
            <a:ext cx="9258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43000" indent="-228600" algn="just">
              <a:spcBef>
                <a:spcPts val="700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600200" indent="-228600" algn="just">
              <a:spcBef>
                <a:spcPts val="700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2057400" indent="-228600" algn="just">
              <a:spcBef>
                <a:spcPts val="700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2057400" indent="-228600" algn="just">
              <a:spcBef>
                <a:spcPts val="700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2057400" indent="-228600" algn="just">
              <a:spcBef>
                <a:spcPts val="700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" name=""/>
          <p:cNvSpPr/>
          <p:nvPr/>
        </p:nvSpPr>
        <p:spPr>
          <a:xfrm>
            <a:off x="6257880" y="6453360"/>
            <a:ext cx="3171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28760" y="6453360"/>
            <a:ext cx="8058240" cy="228600"/>
          </a:xfrm>
          <a:prstGeom prst="rect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308320" y="6453360"/>
            <a:ext cx="6400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Sans Unicode"/>
              </a:rPr>
              <a:t>BANCO CENTRAL DE CHILE</a:t>
            </a:r>
            <a:r>
              <a:rPr b="0" lang="en-US" sz="12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ucida Sans Unicode"/>
              </a:rPr>
              <a:t>                                   13 DE AGOSTO DE 2007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6453360"/>
            <a:ext cx="600120" cy="228600"/>
          </a:xfrm>
          <a:prstGeom prst="rect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75CEB-A2DC-41A5-A90C-9C06D9E9EF88}" type="slidenum">
              <a:rPr b="1" lang="en-US" sz="900" spc="-1" strike="noStrike">
                <a:solidFill>
                  <a:srgbClr val="808080"/>
                </a:solidFill>
                <a:latin typeface="Lucida Sans Unicode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04640" y="333360"/>
            <a:ext cx="851040" cy="701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71360" y="152280"/>
            <a:ext cx="9858600" cy="990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257880" y="6453360"/>
            <a:ext cx="3171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28760" y="6453360"/>
            <a:ext cx="8058240" cy="228600"/>
          </a:xfrm>
          <a:prstGeom prst="rect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308320" y="6453360"/>
            <a:ext cx="6400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Sans Unicode"/>
              </a:rPr>
              <a:t>BANCO CENTRAL DE CHILE</a:t>
            </a:r>
            <a:r>
              <a:rPr b="0" lang="en-US" sz="12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ucida Sans Unicode"/>
              </a:rPr>
              <a:t>                                   13 DE AGOSTO DE 2007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6453360"/>
            <a:ext cx="600120" cy="228600"/>
          </a:xfrm>
          <a:prstGeom prst="rect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64C5F-CF46-4060-BEE0-0E861D86529E}" type="slidenum">
              <a:rPr b="1" lang="en-US" sz="900" spc="-1" strike="noStrike">
                <a:solidFill>
                  <a:srgbClr val="808080"/>
                </a:solidFill>
                <a:latin typeface="Lucida Sans Unicode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1403280" y="2604960"/>
            <a:ext cx="792360" cy="70812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1066680" y="2438280"/>
            <a:ext cx="7696440" cy="990720"/>
          </a:xfrm>
          <a:prstGeom prst="rect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340000" y="2565360"/>
            <a:ext cx="642924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rot="16200000">
            <a:off x="-2781000" y="2781360"/>
            <a:ext cx="6858000" cy="1295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14440" y="273600"/>
            <a:ext cx="92595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 Unicode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514440" y="1604520"/>
            <a:ext cx="92595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914400" algn="ctr">
              <a:spcBef>
                <a:spcPts val="601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371600" algn="ctr">
              <a:spcBef>
                <a:spcPts val="601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828800" algn="ctr">
              <a:spcBef>
                <a:spcPts val="601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20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8.wmf"/><Relationship Id="rId9" Type="http://schemas.openxmlformats.org/officeDocument/2006/relationships/slideLayout" Target="../slideLayouts/slideLayout20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image" Target="../media/image26.wmf"/><Relationship Id="rId4" Type="http://schemas.openxmlformats.org/officeDocument/2006/relationships/image" Target="../media/image27.wmf"/><Relationship Id="rId5" Type="http://schemas.openxmlformats.org/officeDocument/2006/relationships/image" Target="../media/image28.wmf"/><Relationship Id="rId6" Type="http://schemas.openxmlformats.org/officeDocument/2006/relationships/image" Target="../media/image29.wmf"/><Relationship Id="rId7" Type="http://schemas.openxmlformats.org/officeDocument/2006/relationships/slideLayout" Target="../slideLayouts/slideLayout1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wmf"/><Relationship Id="rId3" Type="http://schemas.openxmlformats.org/officeDocument/2006/relationships/slide" Target="slide5.xml"/><Relationship Id="rId4" Type="http://schemas.openxmlformats.org/officeDocument/2006/relationships/slideLayout" Target="../slideLayouts/slideLayout1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34.xml"/><Relationship Id="rId2" Type="http://schemas.openxmlformats.org/officeDocument/2006/relationships/image" Target="../media/image4.wmf"/><Relationship Id="rId3" Type="http://schemas.openxmlformats.org/officeDocument/2006/relationships/slide" Target="slide6.xml"/><Relationship Id="rId4" Type="http://schemas.openxmlformats.org/officeDocument/2006/relationships/slideLayout" Target="../slideLayouts/slideLayout1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36.xml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fffff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687680" y="1341360"/>
            <a:ext cx="712944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"/>
          <p:cNvSpPr/>
          <p:nvPr/>
        </p:nvSpPr>
        <p:spPr>
          <a:xfrm>
            <a:off x="2901960" y="4260960"/>
            <a:ext cx="445104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808080"/>
                </a:solidFill>
                <a:latin typeface="Lucida Sans Unicode"/>
              </a:rPr>
              <a:t>Rodrigo Valdés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808080"/>
                </a:solidFill>
                <a:latin typeface="Lucida Sans Unicode"/>
              </a:rPr>
              <a:t>Gerente División de Estudios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966960" y="2189160"/>
            <a:ext cx="835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Lucida Sans Unicode"/>
              </a:rPr>
              <a:t>Política monetaria en Chil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263680" y="2432160"/>
            <a:ext cx="662472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500" spc="-1" strike="noStrike">
                <a:solidFill>
                  <a:srgbClr val="000000"/>
                </a:solidFill>
                <a:latin typeface="Lucida Sans Unicode"/>
              </a:rPr>
              <a:t>II. El esquema de metas de inflación</a:t>
            </a:r>
            <a:endParaRPr b="0" lang="en-US" sz="35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79680" y="274320"/>
            <a:ext cx="8192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Lucida Sans Unicode"/>
              </a:rPr>
              <a:t>Características principales</a:t>
            </a:r>
            <a:br>
              <a:rPr sz="3200"/>
            </a:br>
            <a:r>
              <a:rPr b="0" lang="es-MX" sz="3200" spc="-1" strike="noStrike">
                <a:solidFill>
                  <a:srgbClr val="000000"/>
                </a:solidFill>
                <a:latin typeface="Lucida Sans Unicode"/>
              </a:rPr>
              <a:t>del esquema vigente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63680" y="1557000"/>
            <a:ext cx="930888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2401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Lucida Sans Unicode"/>
              </a:rPr>
              <a:t>Desde el año 2000 en Chile, la PM se conduce bajo un esquema pleno de metas de inflación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just">
              <a:spcBef>
                <a:spcPts val="2401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Lucida Sans Unicode"/>
              </a:rPr>
              <a:t>Este esquema tiene como pilares fundamentales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 algn="just">
              <a:spcBef>
                <a:spcPts val="2401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Lucida Sans Unicode"/>
              </a:rPr>
              <a:t>1. El anuncio explícito de una meta de inflación permanente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 algn="just">
              <a:spcBef>
                <a:spcPts val="2401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Lucida Sans Unicode"/>
              </a:rPr>
              <a:t>2. Flotación en el tipo de cambio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 algn="just">
              <a:spcBef>
                <a:spcPts val="2401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Lucida Sans Unicode"/>
              </a:rPr>
              <a:t>3. Apoyo clave del marco institucional: posición fiscal sólida y un sistema financiero adecuado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79680" y="274320"/>
            <a:ext cx="8192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Lucida Sans Unicode"/>
              </a:rPr>
              <a:t>Características principales</a:t>
            </a:r>
            <a:br>
              <a:rPr sz="3200"/>
            </a:br>
            <a:r>
              <a:rPr b="0" lang="es-MX" sz="3200" spc="-1" strike="noStrike">
                <a:solidFill>
                  <a:srgbClr val="000000"/>
                </a:solidFill>
                <a:latin typeface="Lucida Sans Unicode"/>
              </a:rPr>
              <a:t>del esquema vigente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63680" y="1557360"/>
            <a:ext cx="930888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1100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Lucida Sans Unicode"/>
              </a:rPr>
              <a:t>1. Meta permanente de inflación: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 algn="just">
              <a:spcBef>
                <a:spcPts val="1100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Lucida Sans Unicode"/>
              </a:rPr>
              <a:t>El objetivo es mantener </a:t>
            </a:r>
            <a:r>
              <a:rPr b="0" lang="es-ES_tradnl" sz="2100" spc="-1" strike="noStrike">
                <a:solidFill>
                  <a:srgbClr val="000000"/>
                </a:solidFill>
                <a:latin typeface="Lucida Sans Unicode"/>
              </a:rPr>
              <a:t>la inflación anual </a:t>
            </a:r>
            <a:r>
              <a:rPr b="0" lang="es-ES_tradnl" sz="2200" spc="-1" strike="noStrike">
                <a:solidFill>
                  <a:srgbClr val="000000"/>
                </a:solidFill>
                <a:latin typeface="Lucida Sans Unicode"/>
              </a:rPr>
              <a:t>la mayor parte del tiempo en torno a 3%, con un rango de tolerancia de más/menos un punto porcentual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43000" indent="-228600" algn="just">
              <a:spcBef>
                <a:spcPts val="1100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Lucida Sans Unicode"/>
              </a:rPr>
              <a:t>Siempre, no sólo en diciembre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43000" indent="-228600" algn="just">
              <a:spcBef>
                <a:spcPts val="1100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Lucida Sans Unicode"/>
              </a:rPr>
              <a:t>De manera sostenible en el tiempo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43000" indent="-228600" algn="just">
              <a:spcBef>
                <a:spcPts val="1100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Lucida Sans Unicode"/>
              </a:rPr>
              <a:t>Admitiendo desviaciones transitorias cuando se enfrentan </a:t>
            </a:r>
            <a:r>
              <a:rPr b="0" i="1" lang="es-ES_tradnl" sz="2200" spc="-1" strike="noStrike">
                <a:solidFill>
                  <a:srgbClr val="000000"/>
                </a:solidFill>
                <a:latin typeface="Lucida Sans Unicode"/>
              </a:rPr>
              <a:t>shocks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rcRect l="0" t="0" r="4376" b="0"/>
          <a:stretch/>
        </p:blipFill>
        <p:spPr>
          <a:xfrm>
            <a:off x="3997440" y="4869000"/>
            <a:ext cx="2154240" cy="135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579680" y="274320"/>
            <a:ext cx="8192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Lucida Sans Unicode"/>
              </a:rPr>
              <a:t>Características principales</a:t>
            </a:r>
            <a:br>
              <a:rPr sz="3200"/>
            </a:br>
            <a:r>
              <a:rPr b="0" lang="es-MX" sz="3200" spc="-1" strike="noStrike">
                <a:solidFill>
                  <a:srgbClr val="000000"/>
                </a:solidFill>
                <a:latin typeface="Lucida Sans Unicode"/>
              </a:rPr>
              <a:t>del esquema vigente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63680" y="1557360"/>
            <a:ext cx="930888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1349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 Unicode"/>
              </a:rPr>
              <a:t>2. Flotación cambiaria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 algn="just">
              <a:spcBef>
                <a:spcPts val="1349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 Unicode"/>
              </a:rPr>
              <a:t>Desde octubre de 1999 el valor del tipo de cambio se determina libremente en el mercado cambiario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 algn="just">
              <a:spcBef>
                <a:spcPts val="1349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 Unicode"/>
              </a:rPr>
              <a:t>Sin embargo, el BCCh se reserva el derecho a intervenir en circunstancias excepcionales (dos episodios desde 1999: agosto 2001 y octubre 2002)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 algn="just">
              <a:spcBef>
                <a:spcPts val="1349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 Unicode"/>
              </a:rPr>
              <a:t>El esquema de flotación permite mayor independencia en la implementación de la PM y facilita el ajuste de la economía a </a:t>
            </a:r>
            <a:r>
              <a:rPr b="0" i="1" lang="es-ES_tradnl" sz="2400" spc="-1" strike="noStrike">
                <a:solidFill>
                  <a:srgbClr val="000000"/>
                </a:solidFill>
                <a:latin typeface="Lucida Sans Unicode"/>
              </a:rPr>
              <a:t>shocks</a:t>
            </a:r>
            <a:r>
              <a:rPr b="0" lang="es-ES_tradnl" sz="2400" spc="-1" strike="noStrike">
                <a:solidFill>
                  <a:srgbClr val="000000"/>
                </a:solidFill>
                <a:latin typeface="Lucida Sans Unicode"/>
              </a:rPr>
              <a:t> reales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4064040" y="5418000"/>
            <a:ext cx="1584360" cy="9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579680" y="274320"/>
            <a:ext cx="8192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Lucida Sans Unicode"/>
              </a:rPr>
              <a:t>Características principales</a:t>
            </a:r>
            <a:br>
              <a:rPr sz="3200"/>
            </a:br>
            <a:r>
              <a:rPr b="0" lang="es-MX" sz="3200" spc="-1" strike="noStrike">
                <a:solidFill>
                  <a:srgbClr val="000000"/>
                </a:solidFill>
                <a:latin typeface="Lucida Sans Unicode"/>
              </a:rPr>
              <a:t>del esquema vigente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63680" y="1557360"/>
            <a:ext cx="930888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 Unicode"/>
              </a:rPr>
              <a:t>3. Complemento institucional clave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 Unicode"/>
              </a:rPr>
              <a:t>Política fiscal responsable (regla de superávit estructural)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 Unicode"/>
              </a:rPr>
              <a:t>Adecuada regulación y supervisión financiera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79680" y="274320"/>
            <a:ext cx="8192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400" spc="-1" strike="noStrike">
                <a:solidFill>
                  <a:srgbClr val="000000"/>
                </a:solidFill>
                <a:latin typeface="Lucida Sans Unicode"/>
              </a:rPr>
              <a:t>Objetivo operacional de la PM:</a:t>
            </a:r>
            <a:endParaRPr b="0" lang="en-US" sz="3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63680" y="1557360"/>
            <a:ext cx="930888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spcBef>
                <a:spcPts val="499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Lucida Sans Unicode"/>
              </a:rPr>
              <a:t>El BCCh tiene un “horizonte de política” en torno a dos años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35480" indent="-282960" algn="just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Lucida Sans Unicode"/>
              </a:rPr>
              <a:t>Se estima que la PM tiene efecto relevante en la inflación a ese horizonte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35480" indent="-282960" algn="just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Lucida Sans Unicode"/>
              </a:rPr>
              <a:t>Ese horizonte permite acomodar </a:t>
            </a:r>
            <a:r>
              <a:rPr b="0" i="1" lang="es-ES_tradnl" sz="2000" spc="-1" strike="noStrike">
                <a:solidFill>
                  <a:srgbClr val="000000"/>
                </a:solidFill>
                <a:latin typeface="Lucida Sans Unicode"/>
              </a:rPr>
              <a:t>shocks</a:t>
            </a:r>
            <a:r>
              <a:rPr b="0" lang="es-ES_tradnl" sz="2000" spc="-1" strike="noStrike">
                <a:solidFill>
                  <a:srgbClr val="000000"/>
                </a:solidFill>
                <a:latin typeface="Lucida Sans Unicode"/>
              </a:rPr>
              <a:t> transitorios en la inflación (por definición, ellos se mantienen en la inflación anual durante 12 meses)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354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339480" algn="just">
              <a:spcBef>
                <a:spcPts val="499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Lucida Sans Unicode"/>
              </a:rPr>
              <a:t>La PM se orienta de manera que la inflación proyectada sea 3% a ese horizonte. Con ello: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35480" indent="-282960" algn="just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Lucida Sans Unicode"/>
              </a:rPr>
              <a:t>Se maximizan las posibilidades de estar cerca de 3%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35480" indent="-282960" algn="just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Lucida Sans Unicode"/>
              </a:rPr>
              <a:t>Se toma explícitamente en cuenta que la PM tiene efectos sobre la volatilidad de la actividad y de las tasas de interés.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35480" indent="-282960" algn="just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Lucida Sans Unicode"/>
              </a:rPr>
              <a:t>Aunque también se analiza que podría suceder más adelante y posibles riesgos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8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579680" y="274320"/>
            <a:ext cx="8192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Lucida Sans Unicode"/>
              </a:rPr>
              <a:t>Resultados positivos: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3680" y="1557360"/>
            <a:ext cx="930888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24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Lucida Sans Unicode"/>
              </a:rPr>
              <a:t>Algunas estadísticas (enero 2000 a julio 2007):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 algn="just">
              <a:lnSpc>
                <a:spcPct val="7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24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Lucida Sans Unicode"/>
              </a:rPr>
              <a:t>Promedio inflación 12 meses = 2,9%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24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Lucida Sans Unicode"/>
              </a:rPr>
              <a:t>Porcentaje del tiempo (meses):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624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Lucida Sans Unicode"/>
              </a:rPr>
              <a:t>Entre 2% y 4% = 73,6%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624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Lucida Sans Unicode"/>
              </a:rPr>
              <a:t>Bajo 2% = 15,4%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624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Lucida Sans Unicode"/>
              </a:rPr>
              <a:t>Sobre 4% = 11,0%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0" algn="just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just">
              <a:lnSpc>
                <a:spcPct val="80000"/>
              </a:lnSpc>
              <a:spcBef>
                <a:spcPts val="624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s-ES_tradnl" sz="2500" spc="-1" strike="noStrike">
                <a:solidFill>
                  <a:srgbClr val="000000"/>
                </a:solidFill>
                <a:latin typeface="Lucida Sans Unicode"/>
              </a:rPr>
              <a:t>Creciente credibilidad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5648400" y="4797360"/>
            <a:ext cx="1584360" cy="109692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2"/>
          <a:stretch/>
        </p:blipFill>
        <p:spPr>
          <a:xfrm>
            <a:off x="7642080" y="4797360"/>
            <a:ext cx="1729080" cy="11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579680" y="274320"/>
            <a:ext cx="8192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Lucida Sans Unicode"/>
              </a:rPr>
              <a:t>Elementos claves en este</a:t>
            </a:r>
            <a:br>
              <a:rPr sz="3600"/>
            </a:br>
            <a:r>
              <a:rPr b="0" lang="es-MX" sz="3600" spc="-1" strike="noStrike">
                <a:solidFill>
                  <a:srgbClr val="000000"/>
                </a:solidFill>
                <a:latin typeface="Lucida Sans Unicode"/>
              </a:rPr>
              <a:t>marco de PM: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63680" y="1557360"/>
            <a:ext cx="930888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550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Lucida Sans Unicode"/>
              </a:rPr>
              <a:t>El análisis es eminentemente prospectivo: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550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Lucida Sans Unicode"/>
              </a:rPr>
              <a:t>Como la PM toma tiempo en surtir efectos (existen rezagos), es necesario imaginar cómo será la situación económica cuando se manifiesten estos efectos. 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0" algn="just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just">
              <a:spcBef>
                <a:spcPts val="550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Lucida Sans Unicode"/>
              </a:rPr>
              <a:t>Las proyecciones juegan un rol clave: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550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Lucida Sans Unicode"/>
              </a:rPr>
              <a:t>La única manera de imaginar seriamente el futuro es a partir de ejercicios de proyección desde la realidad actual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550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Lucida Sans Unicode"/>
              </a:rPr>
              <a:t>La proyecciones no se cumplen exactamente porque existen </a:t>
            </a:r>
            <a:r>
              <a:rPr b="0" i="1" lang="es-ES_tradnl" sz="2200" spc="-1" strike="noStrike">
                <a:solidFill>
                  <a:srgbClr val="000000"/>
                </a:solidFill>
                <a:latin typeface="Lucida Sans Unicode"/>
              </a:rPr>
              <a:t>shocks</a:t>
            </a:r>
            <a:r>
              <a:rPr b="0" lang="es-ES_tradnl" sz="2200" spc="-1" strike="noStrike">
                <a:solidFill>
                  <a:srgbClr val="000000"/>
                </a:solidFill>
                <a:latin typeface="Lucida Sans Unicode"/>
              </a:rPr>
              <a:t> y conocimiento limitado.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Lucida Sans Unicode"/>
              </a:rPr>
              <a:t>La PM se ajusta para enfrentar las consecuencias de los </a:t>
            </a:r>
            <a:r>
              <a:rPr b="0" i="1" lang="es-ES_tradnl" sz="2200" spc="-1" strike="noStrike">
                <a:solidFill>
                  <a:srgbClr val="000000"/>
                </a:solidFill>
                <a:latin typeface="Lucida Sans Unicode"/>
              </a:rPr>
              <a:t>shocks.</a:t>
            </a:r>
            <a:r>
              <a:rPr b="0" lang="es-ES_tradnl" sz="20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579680" y="274320"/>
            <a:ext cx="8192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Lucida Sans Unicode"/>
              </a:rPr>
              <a:t>Elementos claves en</a:t>
            </a:r>
            <a:br>
              <a:rPr sz="3600"/>
            </a:br>
            <a:r>
              <a:rPr b="0" lang="es-MX" sz="3600" spc="-1" strike="noStrike">
                <a:solidFill>
                  <a:srgbClr val="000000"/>
                </a:solidFill>
                <a:latin typeface="Lucida Sans Unicode"/>
              </a:rPr>
              <a:t>este marco de PM: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63680" y="1486080"/>
            <a:ext cx="930888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Lucida Sans Unicode"/>
              </a:rPr>
              <a:t>Elementos fundamentales del proceso de proyecciones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Lucida Sans Unicode"/>
              </a:rPr>
              <a:t>Se apoya en un </a:t>
            </a:r>
            <a:r>
              <a:rPr b="0" lang="es-CL" sz="2400" spc="-1" strike="noStrike">
                <a:solidFill>
                  <a:srgbClr val="000000"/>
                </a:solidFill>
                <a:latin typeface="Lucida Sans Unicode"/>
              </a:rPr>
              <a:t>conjunto de modelos estadísticos y económicos, en continua mejoría.</a:t>
            </a:r>
            <a:r>
              <a:rPr b="0" lang="es-ES_tradnl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 Unicode"/>
              </a:rPr>
              <a:t>La información entregada por los modelos interactúa con el análisis y juicio, el cual es insustituible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Lucida Sans Unicode"/>
              </a:rPr>
              <a:t>De esta interacción resulta un escenario base (más probable) y escenarios alternativos o de riesgo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5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2479680" y="4869000"/>
            <a:ext cx="1752480" cy="141768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5143680" y="4869000"/>
            <a:ext cx="1676160" cy="139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579680" y="274320"/>
            <a:ext cx="8192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Lucida Sans Unicode"/>
              </a:rPr>
              <a:t>Elementos claves en</a:t>
            </a:r>
            <a:br>
              <a:rPr sz="3600"/>
            </a:br>
            <a:r>
              <a:rPr b="0" lang="es-MX" sz="3600" spc="-1" strike="noStrike">
                <a:solidFill>
                  <a:srgbClr val="000000"/>
                </a:solidFill>
                <a:latin typeface="Lucida Sans Unicode"/>
              </a:rPr>
              <a:t>este marco de PM: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14440" y="1599840"/>
            <a:ext cx="9021600" cy="34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10000"/>
              </a:lnSpc>
              <a:spcBef>
                <a:spcPts val="499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Lucida Sans Unicode"/>
              </a:rPr>
              <a:t>La credibilidad actúa como el “ancla” del sistema: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Lucida Sans Unicode"/>
              </a:rPr>
              <a:t>En sistemas alternativos, como objetivo de agregados y tipo de cambio fijo, el ancla es evidente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Lucida Sans Unicode"/>
              </a:rPr>
              <a:t>Con metas, la confianza de los agentes se basa en que el BC ajustará la PM de manera que la inflación sea 3%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 algn="just">
              <a:lnSpc>
                <a:spcPct val="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 algn="just">
              <a:lnSpc>
                <a:spcPct val="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just">
              <a:lnSpc>
                <a:spcPct val="120000"/>
              </a:lnSpc>
              <a:spcBef>
                <a:spcPts val="499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Lucida Sans Unicode"/>
              </a:rPr>
              <a:t>Para eso es necesario “hacer lo que se dice se hará”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 algn="just">
              <a:lnSpc>
                <a:spcPct val="120000"/>
              </a:lnSpc>
              <a:spcBef>
                <a:spcPts val="499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Lucida Sans Unicode"/>
              </a:rPr>
              <a:t>Regla de política 1989-2003 estimada por Céspedes y Soto (2005):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1542960" y="5084640"/>
          <a:ext cx="7848720" cy="88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2960" y="5084640"/>
                    <a:ext cx="7848720" cy="88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79680" y="274320"/>
            <a:ext cx="8192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Lucida Sans Unicode"/>
              </a:rPr>
              <a:t>Introducción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42440" y="1555920"/>
            <a:ext cx="930924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Lucida Sans Unicode"/>
              </a:rPr>
              <a:t>La LOC del BCCh determina sus objetivos (Art. 3°)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Lucida Sans Unicode"/>
              </a:rPr>
              <a:t>Estabilidad de la moneda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Lucida Sans Unicode"/>
              </a:rPr>
              <a:t>Normal funcionamiento de los pagos internos y externo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Lucida Sans Unicode"/>
              </a:rPr>
              <a:t>¿Qué es estabilidad de la moneda?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Lucida Sans Unicode"/>
              </a:rPr>
              <a:t>¿Por qué es necesaria?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Lucida Sans Unicode"/>
              </a:rPr>
              <a:t>¿Qué hace el BC para lograr el primer objetivo?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263680" y="2432160"/>
            <a:ext cx="662472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500" spc="-1" strike="noStrike">
                <a:solidFill>
                  <a:srgbClr val="000000"/>
                </a:solidFill>
                <a:latin typeface="Lucida Sans Unicode"/>
              </a:rPr>
              <a:t>III. Inflación y mecanismos de transmisión</a:t>
            </a:r>
            <a:endParaRPr b="0" lang="en-US" sz="35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579680" y="274320"/>
            <a:ext cx="8192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Lucida Sans Unicode"/>
              </a:rPr>
              <a:t>Determinantes de la inflación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9381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just">
              <a:lnSpc>
                <a:spcPct val="90000"/>
              </a:lnSpc>
              <a:spcBef>
                <a:spcPts val="1125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Lucida Sans Unicode"/>
              </a:rPr>
              <a:t>Dinero y precios guardan una estrecha relación en períodos prolongados. La inflación en el largo plazo es un fenómeno monetario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22200" indent="0" algn="just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22200" indent="-322200" algn="just">
              <a:lnSpc>
                <a:spcPct val="90000"/>
              </a:lnSpc>
              <a:spcBef>
                <a:spcPts val="1125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Lucida Sans Unicode"/>
              </a:rPr>
              <a:t>Según la teoría cuantitativa:                        ,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22200" indent="-322200" algn="just">
              <a:lnSpc>
                <a:spcPct val="90000"/>
              </a:lnSpc>
              <a:spcBef>
                <a:spcPts val="1125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Lucida Sans Unicode"/>
              </a:rPr>
              <a:t>Entonces si la PM es neutral: 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22200" indent="0" algn="just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22200" indent="-322200" algn="just">
              <a:lnSpc>
                <a:spcPct val="90000"/>
              </a:lnSpc>
              <a:spcBef>
                <a:spcPts val="1125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Lucida Sans Unicode"/>
              </a:rPr>
              <a:t>Sin embargo, en el horizonte de política, y con un nivel de inflación acotado, el dinero no es especialmente informativo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98400" indent="-268560" algn="just">
              <a:lnSpc>
                <a:spcPct val="90000"/>
              </a:lnSpc>
              <a:spcBef>
                <a:spcPts val="1125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Lucida Sans Unicode"/>
              </a:rPr>
              <a:t>En países con baja inflación la correlación entre crecimiento del dinero e inflación es más débil (V es relativamente menos estable)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98400" indent="-268560" algn="just">
              <a:lnSpc>
                <a:spcPct val="90000"/>
              </a:lnSpc>
              <a:spcBef>
                <a:spcPts val="1125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Lucida Sans Unicode"/>
              </a:rPr>
              <a:t>En Chile, una vez que se controla por costos y brechas, el dinero aporta poco a la predicción de inflación al horizonte de política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98400" indent="-268560" algn="just">
              <a:lnSpc>
                <a:spcPct val="90000"/>
              </a:lnSpc>
              <a:spcBef>
                <a:spcPts val="1125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Lucida Sans Unicode"/>
              </a:rPr>
              <a:t>Aún así, los distintos agregados se analizan con cuidado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4638600" y="2708280"/>
          <a:ext cx="1511280" cy="34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38600" y="2708280"/>
                    <a:ext cx="1511280" cy="34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2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4711680" y="3068640"/>
          <a:ext cx="1368360" cy="436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1680" y="3068640"/>
                    <a:ext cx="1368360" cy="43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579680" y="274320"/>
            <a:ext cx="8192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Lucida Sans Unicode"/>
              </a:rPr>
              <a:t>Determinantes de la inflación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14080" y="1413000"/>
            <a:ext cx="9381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51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Lucida Sans Unicode"/>
              </a:rPr>
              <a:t>Episodios de alta inflación han estado asociados usualmente a elevados déficits en las cuentas fiscales y a autoridades monetarias no comprometidas con la lucha antiinflacionaria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just">
              <a:spcBef>
                <a:spcPts val="1199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Lucida Sans Unicode"/>
              </a:rPr>
              <a:t>La presencia de rigideces nominales en precios y salarios hace que la política monetaria tenga efecto sobre las variables reales en el corto plazo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just">
              <a:spcBef>
                <a:spcPts val="1199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Lucida Sans Unicode"/>
              </a:rPr>
              <a:t>En la medida que las variables reales, como el empleo o la actividad, se alejen de su tendencia de largo plazo por efecto de la PM, estas fluctuaciones terminan afectando a la inflación en la medida que transcurre el tiempo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9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579680" y="274320"/>
            <a:ext cx="8192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400" spc="-1" strike="noStrike">
                <a:solidFill>
                  <a:srgbClr val="000000"/>
                </a:solidFill>
                <a:latin typeface="Lucida Sans Unicode"/>
              </a:rPr>
              <a:t>Determinantes de la inflación: Ejemplo</a:t>
            </a:r>
            <a:endParaRPr b="0" lang="en-US" sz="3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9381960" cy="8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1199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Lucida Sans Unicode"/>
              </a:rPr>
              <a:t>Curva de Phillips simple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1903320" y="2133720"/>
          <a:ext cx="6480360" cy="80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3320" y="2133720"/>
                    <a:ext cx="6480360" cy="80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6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34960" y="3213000"/>
            <a:ext cx="938232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199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Lucida Sans Unicode"/>
              </a:rPr>
              <a:t>En el  largo plazo (en promedio) ocurre 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0" name=""/>
          <p:cNvGraphicFramePr/>
          <p:nvPr/>
        </p:nvGraphicFramePr>
        <p:xfrm>
          <a:off x="2695680" y="3860640"/>
          <a:ext cx="1877760" cy="804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95680" y="3860640"/>
                    <a:ext cx="1877760" cy="80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2" name=""/>
          <p:cNvGraphicFramePr/>
          <p:nvPr/>
        </p:nvGraphicFramePr>
        <p:xfrm>
          <a:off x="5288040" y="3860640"/>
          <a:ext cx="1409760" cy="723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5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288040" y="3860640"/>
                    <a:ext cx="140976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4" name=""/>
          <p:cNvSpPr/>
          <p:nvPr/>
        </p:nvSpPr>
        <p:spPr>
          <a:xfrm>
            <a:off x="514440" y="4913280"/>
            <a:ext cx="938196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199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Lucida Sans Unicode"/>
              </a:rPr>
              <a:t>Esto implica que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3652920" y="5316480"/>
          <a:ext cx="1922400" cy="8492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5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652920" y="5316480"/>
                    <a:ext cx="1922400" cy="84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579680" y="274320"/>
            <a:ext cx="8192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Lucida Sans Unicode"/>
              </a:rPr>
              <a:t>Mecanismos de transmisión</a:t>
            </a:r>
            <a:br>
              <a:rPr sz="3600"/>
            </a:br>
            <a:r>
              <a:rPr b="0" lang="es-MX" sz="3600" spc="-1" strike="noStrike">
                <a:solidFill>
                  <a:srgbClr val="000000"/>
                </a:solidFill>
                <a:latin typeface="Lucida Sans Unicode"/>
              </a:rPr>
              <a:t>de la política monetaria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63680" y="1557360"/>
            <a:ext cx="930888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1437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Lucida Sans Unicode"/>
              </a:rPr>
              <a:t>Además de influir en las tasas de interés, la PM afecta el tipo de cambio, el crédito y el dinero.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just">
              <a:spcBef>
                <a:spcPts val="1437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Lucida Sans Unicode"/>
              </a:rPr>
              <a:t>Todo ello tiene a su vez efectos en el desempeño del sector real y en costos.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1437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Lucida Sans Unicode"/>
              </a:rPr>
              <a:t>Evidentemente muchas otras variables, tanto internas como externas, influyen en el desempeño de cada una de las variables macroeconómicas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0" algn="just">
              <a:lnSpc>
                <a:spcPct val="10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3630600" y="4869000"/>
            <a:ext cx="2374920" cy="1141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579680" y="274320"/>
            <a:ext cx="8192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Lucida Sans Unicode"/>
              </a:rPr>
              <a:t>Ejemplo de transmisión de la política monetaria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06640" y="1328760"/>
            <a:ext cx="886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Lucida Sans Unicode"/>
              </a:rPr>
              <a:t>Efectos de un aumento en la TPM de 25 pb por un año, sobre la inflac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750960" y="6157800"/>
            <a:ext cx="395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Lucida Sans Unicode"/>
              </a:rPr>
              <a:t>Fuente: Banco Central de Chi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1"/>
          <a:srcRect l="0" t="8106" r="51537" b="50676"/>
          <a:stretch/>
        </p:blipFill>
        <p:spPr>
          <a:xfrm>
            <a:off x="1158840" y="1600200"/>
            <a:ext cx="7850160" cy="456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579680" y="274320"/>
            <a:ext cx="8192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Lucida Sans Unicode"/>
              </a:rPr>
              <a:t>Ejemplo de transmisión de la política monetaria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rcRect l="50307" t="9188" r="2523" b="50578"/>
          <a:stretch/>
        </p:blipFill>
        <p:spPr>
          <a:xfrm>
            <a:off x="1182600" y="1590840"/>
            <a:ext cx="7848720" cy="462276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1106640" y="1328760"/>
            <a:ext cx="886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Lucida Sans Unicode"/>
              </a:rPr>
              <a:t>Efectos de un aumento en la TPM de 25 pb por un año, sobre el produc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750960" y="6157800"/>
            <a:ext cx="395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Lucida Sans Unicode"/>
              </a:rPr>
              <a:t>Fuente: Banco Central de Chi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579680" y="274320"/>
            <a:ext cx="8192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Lucida Sans Unicode"/>
              </a:rPr>
              <a:t>Desde la TPM al resto de las tasas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63680" y="1557360"/>
            <a:ext cx="930888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1137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Lucida Sans Unicode"/>
              </a:rPr>
              <a:t>El BCCh decide el nivel de la TPM y maneja la liquidez disponible (circulante y reservas) a través de OMAs de manera que la tasa interbancaria a un día (TIB1) se ubique en ese nivel.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just">
              <a:spcBef>
                <a:spcPts val="1137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Lucida Sans Unicode"/>
              </a:rPr>
              <a:t>La TIB1 no tiene efectos directos sobre la economía, pero sí a través de las demás tasas que determina el sistema financiero y se vinculan a la TIB1 por arbitraje.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2833560" y="5035680"/>
            <a:ext cx="1656000" cy="103032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5288040" y="4979880"/>
            <a:ext cx="1727280" cy="106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79680" y="274320"/>
            <a:ext cx="8192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Lucida Sans Unicode"/>
              </a:rPr>
              <a:t>Desde la TPM al resto de las tasas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63680" y="1557360"/>
            <a:ext cx="930888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1137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Lucida Sans Unicode"/>
              </a:rPr>
              <a:t>Por ejemplo, la tasa de interés en operaciones a 3 meses no puede diferir mucho del promedio de expectativas de TIB1 por los próximos 90 días (a igual riesgo de crédito). 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 algn="just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just">
              <a:spcBef>
                <a:spcPts val="649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Lucida Sans Unicode"/>
              </a:rPr>
              <a:t>Las tasas de mayor plazo también se ven influidas por la PM a través de las expectativas de TPM a distintos horizontes.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 algn="just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6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>
            <a:off x="3848040" y="5084640"/>
            <a:ext cx="1800360" cy="106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2263680" y="2432160"/>
            <a:ext cx="662472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500" spc="-1" strike="noStrike">
                <a:solidFill>
                  <a:srgbClr val="000000"/>
                </a:solidFill>
                <a:latin typeface="Lucida Sans Unicode"/>
              </a:rPr>
              <a:t>IV. Reunión de política monetaria</a:t>
            </a:r>
            <a:endParaRPr b="0" lang="en-US" sz="35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79680" y="274320"/>
            <a:ext cx="8192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 Unicode"/>
              </a:rPr>
              <a:t>Agenda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14440" y="1528560"/>
            <a:ext cx="9453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28120" indent="-528120">
              <a:spcBef>
                <a:spcPts val="2276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Lucida Sans Unicode"/>
              </a:rPr>
              <a:t>I. Los objetivos de la política monetaria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528120" indent="-528120">
              <a:spcBef>
                <a:spcPts val="2276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Lucida Sans Unicode"/>
              </a:rPr>
              <a:t>II. El esquema de metas de inflación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528120" indent="-528120">
              <a:spcBef>
                <a:spcPts val="2276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Lucida Sans Unicode"/>
              </a:rPr>
              <a:t>III. Inflación y mecanismos de transmisión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528120" indent="-528120">
              <a:spcBef>
                <a:spcPts val="2276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Lucida Sans Unicode"/>
              </a:rPr>
              <a:t>IV. La reunión de política monetaria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528120" indent="-528120">
              <a:spcBef>
                <a:spcPts val="2276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Lucida Sans Unicode"/>
              </a:rPr>
              <a:t>V. Implementación de la política monetaria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528120" indent="-528120">
              <a:spcBef>
                <a:spcPts val="2276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Lucida Sans Unicode"/>
              </a:rPr>
              <a:t>VI. Transparencia y estrategia de comunicación del BCCh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528120" indent="-528120">
              <a:spcBef>
                <a:spcPts val="2276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Lucida Sans Unicode"/>
              </a:rPr>
              <a:t>VII. Conclusiones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579680" y="274320"/>
            <a:ext cx="8192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Lucida Sans Unicode"/>
              </a:rPr>
              <a:t>La reunión de política monetaria (RPM)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63680" y="1557360"/>
            <a:ext cx="930888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Lucida Sans Unicode"/>
              </a:rPr>
              <a:t>Reunión mensual en que se deciden cambios en la TPM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Lucida Sans Unicode"/>
              </a:rPr>
              <a:t>Prenunciada con seis meses de antelación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Lucida Sans Unicode"/>
              </a:rPr>
              <a:t>Habitualmente en dos partes: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Lucida Sans Unicode"/>
              </a:rPr>
              <a:t>11:30 hrs. – Revisión de antecedentes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Lucida Sans Unicode"/>
              </a:rPr>
              <a:t>16:00 hrs. – Análisis de opciones, votación y comunicado.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Lucida Sans Unicode"/>
              </a:rPr>
              <a:t>Participantes: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Lucida Sans Unicode"/>
              </a:rPr>
              <a:t>Votan los 5 Consejeros del BCCh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Lucida Sans Unicode"/>
              </a:rPr>
              <a:t>Participa el Ministro de Hacienda con derecho a voz (LOC)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Lucida Sans Unicode"/>
              </a:rPr>
              <a:t>Personal del BCCh (varios gerentes, Fiscal, Ministro de Fe, algunos asesores)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3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579680" y="274320"/>
            <a:ext cx="8192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Lucida Sans Unicode"/>
              </a:rPr>
              <a:t>La reunión de política monetaria (RPM)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63680" y="1557360"/>
            <a:ext cx="930888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 Unicode"/>
              </a:rPr>
              <a:t>48 horas antes se distribuye material reservado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 Unicode"/>
              </a:rPr>
              <a:t>Análisis de la información disponible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 Unicode"/>
              </a:rPr>
              <a:t>Proyecciones de corto plazo (y mediano plazo si hay IPoM)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just">
              <a:spcBef>
                <a:spcPts val="601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 Unicode"/>
              </a:rPr>
              <a:t>2 horas antes se distribuye documento de opciones (análisis de costos y beneficios de las alternativas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just">
              <a:spcBef>
                <a:spcPts val="601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Lucida Sans Unicode"/>
              </a:rPr>
              <a:t>En la reunión, presentación y discusión de participantes de distintos temas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8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79680" y="274320"/>
            <a:ext cx="8192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Lucida Sans Unicode"/>
              </a:rPr>
              <a:t>La reunión de política monetaria (RPM)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2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5" name="" descr=""/>
          <p:cNvPicPr/>
          <p:nvPr/>
        </p:nvPicPr>
        <p:blipFill>
          <a:blip r:embed="rId1"/>
          <a:stretch/>
        </p:blipFill>
        <p:spPr>
          <a:xfrm>
            <a:off x="463680" y="1557360"/>
            <a:ext cx="2808000" cy="2106720"/>
          </a:xfrm>
          <a:prstGeom prst="rect">
            <a:avLst/>
          </a:prstGeom>
          <a:ln w="0">
            <a:noFill/>
          </a:ln>
        </p:spPr>
      </p:pic>
      <p:pic>
        <p:nvPicPr>
          <p:cNvPr id="306" name="" descr=""/>
          <p:cNvPicPr/>
          <p:nvPr/>
        </p:nvPicPr>
        <p:blipFill>
          <a:blip r:embed="rId2"/>
          <a:stretch/>
        </p:blipFill>
        <p:spPr>
          <a:xfrm>
            <a:off x="3559320" y="1484280"/>
            <a:ext cx="3024000" cy="226872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"/>
          <p:cNvPicPr/>
          <p:nvPr/>
        </p:nvPicPr>
        <p:blipFill>
          <a:blip r:embed="rId3"/>
          <a:stretch/>
        </p:blipFill>
        <p:spPr>
          <a:xfrm>
            <a:off x="6872400" y="1413000"/>
            <a:ext cx="3095640" cy="232236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4"/>
          <a:stretch/>
        </p:blipFill>
        <p:spPr>
          <a:xfrm>
            <a:off x="463680" y="3860640"/>
            <a:ext cx="3024000" cy="226872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5"/>
          <a:stretch/>
        </p:blipFill>
        <p:spPr>
          <a:xfrm>
            <a:off x="3774960" y="3933720"/>
            <a:ext cx="3008520" cy="225612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6"/>
          <a:stretch/>
        </p:blipFill>
        <p:spPr>
          <a:xfrm>
            <a:off x="6656400" y="3789360"/>
            <a:ext cx="3295800" cy="2471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579680" y="274320"/>
            <a:ext cx="8192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Lucida Sans Unicode"/>
              </a:rPr>
              <a:t>La reunión de política monetaria (RPM)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304560" y="1402920"/>
            <a:ext cx="96771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550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Lucida Sans Unicode"/>
              </a:rPr>
              <a:t>Ciclo de 6 semanas de trabajo del personal junto al Consejo.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 algn="just">
              <a:spcBef>
                <a:spcPts val="550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Lucida Sans Unicode"/>
              </a:rPr>
              <a:t>Evaluación de proyecciones previas y análisis de desviaciones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 algn="just">
              <a:spcBef>
                <a:spcPts val="550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Lucida Sans Unicode"/>
              </a:rPr>
              <a:t>Identificación de escenario central y análisis de riesgos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 algn="just">
              <a:spcBef>
                <a:spcPts val="550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Lucida Sans Unicode"/>
              </a:rPr>
              <a:t>Uso intensivo de modelos y juicio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 algn="just">
              <a:spcBef>
                <a:spcPts val="550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Lucida Sans Unicode"/>
              </a:rPr>
              <a:t>Análisis de temas específicos relevantes para la coyuntura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just">
              <a:spcBef>
                <a:spcPts val="550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Lucida Sans Unicode"/>
              </a:rPr>
              <a:t>Ingrediente fundamental para la toma de decisiones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 algn="just">
              <a:spcBef>
                <a:spcPts val="550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Lucida Sans Unicode"/>
              </a:rPr>
              <a:t>Permite tener escenario base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 algn="just">
              <a:spcBef>
                <a:spcPts val="550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Lucida Sans Unicode"/>
              </a:rPr>
              <a:t>Permite evaluar las novedades coyunturales mes a mes y analizar su impacto para el escenario central.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just">
              <a:spcBef>
                <a:spcPts val="550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Lucida Sans Unicode"/>
              </a:rPr>
              <a:t>Componente clave de la RPM respectiva.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579680" y="274320"/>
            <a:ext cx="8192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Lucida Sans Unicode"/>
              </a:rPr>
              <a:t>La reunión de política monetaria (RPM)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04560" y="1647720"/>
            <a:ext cx="9677160" cy="40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1500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Lucida Sans Unicode"/>
              </a:rPr>
              <a:t>Aproximadamente tres semanas después de la reunión se publica una minuta que incluye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1500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Lucida Sans Unicode"/>
              </a:rPr>
              <a:t>Un resumen de los antecedentes revisados en la reunión y principales puntos de análisis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1500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Lucida Sans Unicode"/>
              </a:rPr>
              <a:t>Las opciones de política consideradas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1500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Lucida Sans Unicode"/>
              </a:rPr>
              <a:t>Los principales argumentos considerados por el Consejo en la decisión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1500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Lucida Sans Unicode"/>
              </a:rPr>
              <a:t>La votación de cada Consejero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579680" y="274320"/>
            <a:ext cx="8192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Inflación en Chile (variación % dic. a dic.)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182600" y="1290600"/>
            <a:ext cx="7993080" cy="4915080"/>
          </a:xfrm>
          <a:prstGeom prst="rect">
            <a:avLst/>
          </a:prstGeom>
          <a:ln w="0">
            <a:noFill/>
          </a:ln>
        </p:spPr>
      </p:pic>
      <p:sp>
        <p:nvSpPr>
          <p:cNvPr id="326" name=""/>
          <p:cNvSpPr/>
          <p:nvPr/>
        </p:nvSpPr>
        <p:spPr>
          <a:xfrm>
            <a:off x="1461960" y="6143760"/>
            <a:ext cx="523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Lucida Sans Unicode"/>
              </a:rPr>
              <a:t>Fuente: Díaz et al., (2003) e INE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>
            <a:hlinkClick r:id="rId3" action="ppaction://hlinksldjump"/>
          </p:cNvPr>
          <p:cNvSpPr/>
          <p:nvPr/>
        </p:nvSpPr>
        <p:spPr>
          <a:xfrm>
            <a:off x="9372600" y="6019920"/>
            <a:ext cx="609480" cy="380880"/>
          </a:xfrm>
          <a:custGeom>
            <a:avLst/>
            <a:gdLst>
              <a:gd name="textAreaLeft" fmla="*/ 24480 w 609480"/>
              <a:gd name="textAreaRight" fmla="*/ 585000 w 6094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4552" h="21600">
                <a:moveTo>
                  <a:pt x="0" y="0"/>
                </a:moveTo>
                <a:lnTo>
                  <a:pt x="34552" y="0"/>
                </a:lnTo>
                <a:lnTo>
                  <a:pt x="34552" y="21600"/>
                </a:lnTo>
                <a:lnTo>
                  <a:pt x="0" y="21600"/>
                </a:lnTo>
                <a:close/>
              </a:path>
              <a:path fill="lightenLess" w="34552" h="21600">
                <a:moveTo>
                  <a:pt x="0" y="0"/>
                </a:moveTo>
                <a:lnTo>
                  <a:pt x="34552" y="0"/>
                </a:lnTo>
                <a:lnTo>
                  <a:pt x="33152" y="1400"/>
                </a:lnTo>
                <a:lnTo>
                  <a:pt x="1400" y="1400"/>
                </a:lnTo>
                <a:close/>
              </a:path>
              <a:path fill="darken" w="34552" h="21600">
                <a:moveTo>
                  <a:pt x="34552" y="0"/>
                </a:moveTo>
                <a:lnTo>
                  <a:pt x="34552" y="21600"/>
                </a:lnTo>
                <a:lnTo>
                  <a:pt x="33152" y="20200"/>
                </a:lnTo>
                <a:lnTo>
                  <a:pt x="33152" y="1400"/>
                </a:lnTo>
                <a:close/>
              </a:path>
              <a:path fill="darkenLess" w="34552" h="21600">
                <a:moveTo>
                  <a:pt x="34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2" y="20200"/>
                </a:lnTo>
                <a:close/>
              </a:path>
              <a:path fill="lighten" w="34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2" h="21600">
                <a:moveTo>
                  <a:pt x="10269" y="10800"/>
                </a:moveTo>
                <a:lnTo>
                  <a:pt x="24282" y="3794"/>
                </a:lnTo>
                <a:lnTo>
                  <a:pt x="24282" y="17806"/>
                </a:lnTo>
                <a:close/>
              </a:path>
            </a:pathLst>
          </a:custGeom>
          <a:solidFill>
            <a:srgbClr val="009999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579680" y="274320"/>
            <a:ext cx="8192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Lucida Sans Unicode"/>
              </a:rPr>
              <a:t>Curva de Phillips en EEUU (%), (1960-1989)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9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2" name="" descr="">
            <a:hlinkClick r:id="rId1" action="ppaction://hlinksldjump"/>
          </p:cNvPr>
          <p:cNvPicPr/>
          <p:nvPr/>
        </p:nvPicPr>
        <p:blipFill>
          <a:blip r:embed="rId2"/>
          <a:srcRect l="1984" t="3087" r="1016" b="2919"/>
          <a:stretch/>
        </p:blipFill>
        <p:spPr>
          <a:xfrm>
            <a:off x="1039680" y="1309680"/>
            <a:ext cx="8064720" cy="5072040"/>
          </a:xfrm>
          <a:prstGeom prst="rect">
            <a:avLst/>
          </a:prstGeom>
          <a:ln w="0">
            <a:noFill/>
          </a:ln>
        </p:spPr>
      </p:pic>
      <p:sp>
        <p:nvSpPr>
          <p:cNvPr id="333" name="">
            <a:hlinkClick r:id="rId3" action="ppaction://hlinksldjump"/>
          </p:cNvPr>
          <p:cNvSpPr/>
          <p:nvPr/>
        </p:nvSpPr>
        <p:spPr>
          <a:xfrm>
            <a:off x="9372600" y="6019920"/>
            <a:ext cx="609480" cy="380880"/>
          </a:xfrm>
          <a:custGeom>
            <a:avLst/>
            <a:gdLst>
              <a:gd name="textAreaLeft" fmla="*/ 24480 w 609480"/>
              <a:gd name="textAreaRight" fmla="*/ 585000 w 6094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4552" h="21600">
                <a:moveTo>
                  <a:pt x="0" y="0"/>
                </a:moveTo>
                <a:lnTo>
                  <a:pt x="34552" y="0"/>
                </a:lnTo>
                <a:lnTo>
                  <a:pt x="34552" y="21600"/>
                </a:lnTo>
                <a:lnTo>
                  <a:pt x="0" y="21600"/>
                </a:lnTo>
                <a:close/>
              </a:path>
              <a:path fill="lightenLess" w="34552" h="21600">
                <a:moveTo>
                  <a:pt x="0" y="0"/>
                </a:moveTo>
                <a:lnTo>
                  <a:pt x="34552" y="0"/>
                </a:lnTo>
                <a:lnTo>
                  <a:pt x="33152" y="1400"/>
                </a:lnTo>
                <a:lnTo>
                  <a:pt x="1400" y="1400"/>
                </a:lnTo>
                <a:close/>
              </a:path>
              <a:path fill="darken" w="34552" h="21600">
                <a:moveTo>
                  <a:pt x="34552" y="0"/>
                </a:moveTo>
                <a:lnTo>
                  <a:pt x="34552" y="21600"/>
                </a:lnTo>
                <a:lnTo>
                  <a:pt x="33152" y="20200"/>
                </a:lnTo>
                <a:lnTo>
                  <a:pt x="33152" y="1400"/>
                </a:lnTo>
                <a:close/>
              </a:path>
              <a:path fill="darkenLess" w="34552" h="21600">
                <a:moveTo>
                  <a:pt x="34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2" y="20200"/>
                </a:lnTo>
                <a:close/>
              </a:path>
              <a:path fill="lighten" w="34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2" h="21600">
                <a:moveTo>
                  <a:pt x="10269" y="10800"/>
                </a:moveTo>
                <a:lnTo>
                  <a:pt x="24282" y="3794"/>
                </a:lnTo>
                <a:lnTo>
                  <a:pt x="24282" y="17806"/>
                </a:lnTo>
                <a:close/>
              </a:path>
            </a:pathLst>
          </a:custGeom>
          <a:solidFill>
            <a:srgbClr val="009999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579680" y="274320"/>
            <a:ext cx="8192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Lucida Sans Unicode"/>
              </a:rPr>
              <a:t>Inflación y crecimiento (otros factores constantes)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5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8" name="" descr=""/>
          <p:cNvPicPr/>
          <p:nvPr/>
        </p:nvPicPr>
        <p:blipFill>
          <a:blip r:embed="rId1"/>
          <a:srcRect l="6548" t="0" r="5125" b="6590"/>
          <a:stretch/>
        </p:blipFill>
        <p:spPr>
          <a:xfrm>
            <a:off x="457200" y="1469880"/>
            <a:ext cx="4724280" cy="4321440"/>
          </a:xfrm>
          <a:prstGeom prst="rect">
            <a:avLst/>
          </a:prstGeom>
          <a:ln w="0">
            <a:noFill/>
          </a:ln>
        </p:spPr>
      </p:pic>
      <p:pic>
        <p:nvPicPr>
          <p:cNvPr id="339" name="" descr=""/>
          <p:cNvPicPr/>
          <p:nvPr/>
        </p:nvPicPr>
        <p:blipFill>
          <a:blip r:embed="rId2"/>
          <a:srcRect l="6593" t="0" r="-129" b="4961"/>
          <a:stretch/>
        </p:blipFill>
        <p:spPr>
          <a:xfrm>
            <a:off x="5257800" y="1413000"/>
            <a:ext cx="4869000" cy="437832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/>
          <p:nvPr/>
        </p:nvSpPr>
        <p:spPr>
          <a:xfrm>
            <a:off x="992160" y="6034680"/>
            <a:ext cx="647028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Fuente: Determinants of Economic Growth, R. Barro (1997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 rot="10800000">
            <a:off x="720" y="1295280"/>
            <a:ext cx="716400" cy="449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spAutoFit/>
          </a:bodyPr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Tasa de Crecimien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9372600" y="6019920"/>
            <a:ext cx="609480" cy="380880"/>
          </a:xfrm>
          <a:custGeom>
            <a:avLst/>
            <a:gdLst>
              <a:gd name="textAreaLeft" fmla="*/ 24480 w 609480"/>
              <a:gd name="textAreaRight" fmla="*/ 585000 w 6094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4552" h="21600">
                <a:moveTo>
                  <a:pt x="0" y="0"/>
                </a:moveTo>
                <a:lnTo>
                  <a:pt x="34552" y="0"/>
                </a:lnTo>
                <a:lnTo>
                  <a:pt x="34552" y="21600"/>
                </a:lnTo>
                <a:lnTo>
                  <a:pt x="0" y="21600"/>
                </a:lnTo>
                <a:close/>
              </a:path>
              <a:path fill="lightenLess" w="34552" h="21600">
                <a:moveTo>
                  <a:pt x="0" y="0"/>
                </a:moveTo>
                <a:lnTo>
                  <a:pt x="34552" y="0"/>
                </a:lnTo>
                <a:lnTo>
                  <a:pt x="33152" y="1400"/>
                </a:lnTo>
                <a:lnTo>
                  <a:pt x="1400" y="1400"/>
                </a:lnTo>
                <a:close/>
              </a:path>
              <a:path fill="darken" w="34552" h="21600">
                <a:moveTo>
                  <a:pt x="34552" y="0"/>
                </a:moveTo>
                <a:lnTo>
                  <a:pt x="34552" y="21600"/>
                </a:lnTo>
                <a:lnTo>
                  <a:pt x="33152" y="20200"/>
                </a:lnTo>
                <a:lnTo>
                  <a:pt x="33152" y="1400"/>
                </a:lnTo>
                <a:close/>
              </a:path>
              <a:path fill="darkenLess" w="34552" h="21600">
                <a:moveTo>
                  <a:pt x="34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2" y="20200"/>
                </a:lnTo>
                <a:close/>
              </a:path>
              <a:path fill="lighten" w="34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2" h="21600">
                <a:moveTo>
                  <a:pt x="10269" y="10800"/>
                </a:moveTo>
                <a:lnTo>
                  <a:pt x="24282" y="3794"/>
                </a:lnTo>
                <a:lnTo>
                  <a:pt x="24282" y="17806"/>
                </a:lnTo>
                <a:close/>
              </a:path>
            </a:pathLst>
          </a:custGeom>
          <a:solidFill>
            <a:srgbClr val="009999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579680" y="274320"/>
            <a:ext cx="8192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400" spc="-1" strike="noStrike">
                <a:solidFill>
                  <a:srgbClr val="000000"/>
                </a:solidFill>
                <a:latin typeface="Lucida Sans Unicode"/>
              </a:rPr>
              <a:t>Meta de inflación en Chile:</a:t>
            </a:r>
            <a:endParaRPr b="0" lang="en-US" sz="3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4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1"/>
          <a:srcRect l="0" t="0" r="4376" b="0"/>
          <a:stretch/>
        </p:blipFill>
        <p:spPr>
          <a:xfrm>
            <a:off x="757080" y="1262160"/>
            <a:ext cx="8347320" cy="5236920"/>
          </a:xfrm>
          <a:prstGeom prst="rect">
            <a:avLst/>
          </a:prstGeom>
          <a:ln w="0">
            <a:noFill/>
          </a:ln>
        </p:spPr>
      </p:pic>
      <p:sp>
        <p:nvSpPr>
          <p:cNvPr id="348" name=""/>
          <p:cNvSpPr/>
          <p:nvPr/>
        </p:nvSpPr>
        <p:spPr>
          <a:xfrm>
            <a:off x="9391680" y="5877000"/>
            <a:ext cx="609480" cy="380880"/>
          </a:xfrm>
          <a:custGeom>
            <a:avLst/>
            <a:gdLst>
              <a:gd name="textAreaLeft" fmla="*/ 24480 w 609480"/>
              <a:gd name="textAreaRight" fmla="*/ 585000 w 6094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4552" h="21600">
                <a:moveTo>
                  <a:pt x="0" y="0"/>
                </a:moveTo>
                <a:lnTo>
                  <a:pt x="34552" y="0"/>
                </a:lnTo>
                <a:lnTo>
                  <a:pt x="34552" y="21600"/>
                </a:lnTo>
                <a:lnTo>
                  <a:pt x="0" y="21600"/>
                </a:lnTo>
                <a:close/>
              </a:path>
              <a:path fill="lightenLess" w="34552" h="21600">
                <a:moveTo>
                  <a:pt x="0" y="0"/>
                </a:moveTo>
                <a:lnTo>
                  <a:pt x="34552" y="0"/>
                </a:lnTo>
                <a:lnTo>
                  <a:pt x="33152" y="1400"/>
                </a:lnTo>
                <a:lnTo>
                  <a:pt x="1400" y="1400"/>
                </a:lnTo>
                <a:close/>
              </a:path>
              <a:path fill="darken" w="34552" h="21600">
                <a:moveTo>
                  <a:pt x="34552" y="0"/>
                </a:moveTo>
                <a:lnTo>
                  <a:pt x="34552" y="21600"/>
                </a:lnTo>
                <a:lnTo>
                  <a:pt x="33152" y="20200"/>
                </a:lnTo>
                <a:lnTo>
                  <a:pt x="33152" y="1400"/>
                </a:lnTo>
                <a:close/>
              </a:path>
              <a:path fill="darkenLess" w="34552" h="21600">
                <a:moveTo>
                  <a:pt x="34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2" y="20200"/>
                </a:lnTo>
                <a:close/>
              </a:path>
              <a:path fill="lighten" w="34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2" h="21600">
                <a:moveTo>
                  <a:pt x="10269" y="10800"/>
                </a:moveTo>
                <a:lnTo>
                  <a:pt x="24282" y="3794"/>
                </a:lnTo>
                <a:lnTo>
                  <a:pt x="24282" y="17806"/>
                </a:lnTo>
                <a:close/>
              </a:path>
            </a:pathLst>
          </a:custGeom>
          <a:solidFill>
            <a:srgbClr val="009999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579680" y="274320"/>
            <a:ext cx="8192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Lucida Sans Unicode"/>
              </a:rPr>
              <a:t>Tipo de cambio y banda cambiaria en Chile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 (1984-2006)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3" name="" descr=""/>
          <p:cNvPicPr/>
          <p:nvPr/>
        </p:nvPicPr>
        <p:blipFill>
          <a:blip r:embed="rId1"/>
          <a:stretch/>
        </p:blipFill>
        <p:spPr>
          <a:xfrm>
            <a:off x="895320" y="1197000"/>
            <a:ext cx="8136000" cy="5060880"/>
          </a:xfrm>
          <a:prstGeom prst="rect">
            <a:avLst/>
          </a:prstGeom>
          <a:ln w="0">
            <a:noFill/>
          </a:ln>
        </p:spPr>
      </p:pic>
      <p:sp>
        <p:nvSpPr>
          <p:cNvPr id="354" name=""/>
          <p:cNvSpPr/>
          <p:nvPr/>
        </p:nvSpPr>
        <p:spPr>
          <a:xfrm>
            <a:off x="9372600" y="6019920"/>
            <a:ext cx="609480" cy="380880"/>
          </a:xfrm>
          <a:custGeom>
            <a:avLst/>
            <a:gdLst>
              <a:gd name="textAreaLeft" fmla="*/ 24480 w 609480"/>
              <a:gd name="textAreaRight" fmla="*/ 585000 w 6094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4552" h="21600">
                <a:moveTo>
                  <a:pt x="0" y="0"/>
                </a:moveTo>
                <a:lnTo>
                  <a:pt x="34552" y="0"/>
                </a:lnTo>
                <a:lnTo>
                  <a:pt x="34552" y="21600"/>
                </a:lnTo>
                <a:lnTo>
                  <a:pt x="0" y="21600"/>
                </a:lnTo>
                <a:close/>
              </a:path>
              <a:path fill="lightenLess" w="34552" h="21600">
                <a:moveTo>
                  <a:pt x="0" y="0"/>
                </a:moveTo>
                <a:lnTo>
                  <a:pt x="34552" y="0"/>
                </a:lnTo>
                <a:lnTo>
                  <a:pt x="33152" y="1400"/>
                </a:lnTo>
                <a:lnTo>
                  <a:pt x="1400" y="1400"/>
                </a:lnTo>
                <a:close/>
              </a:path>
              <a:path fill="darken" w="34552" h="21600">
                <a:moveTo>
                  <a:pt x="34552" y="0"/>
                </a:moveTo>
                <a:lnTo>
                  <a:pt x="34552" y="21600"/>
                </a:lnTo>
                <a:lnTo>
                  <a:pt x="33152" y="20200"/>
                </a:lnTo>
                <a:lnTo>
                  <a:pt x="33152" y="1400"/>
                </a:lnTo>
                <a:close/>
              </a:path>
              <a:path fill="darkenLess" w="34552" h="21600">
                <a:moveTo>
                  <a:pt x="34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2" y="20200"/>
                </a:lnTo>
                <a:close/>
              </a:path>
              <a:path fill="lighten" w="34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2" h="21600">
                <a:moveTo>
                  <a:pt x="10269" y="10800"/>
                </a:moveTo>
                <a:lnTo>
                  <a:pt x="24282" y="3794"/>
                </a:lnTo>
                <a:lnTo>
                  <a:pt x="24282" y="17806"/>
                </a:lnTo>
                <a:close/>
              </a:path>
            </a:pathLst>
          </a:custGeom>
          <a:solidFill>
            <a:srgbClr val="009999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263680" y="2432160"/>
            <a:ext cx="662472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500" spc="-1" strike="noStrike">
                <a:solidFill>
                  <a:srgbClr val="000000"/>
                </a:solidFill>
                <a:latin typeface="Lucida Sans Unicode"/>
              </a:rPr>
              <a:t>I. Objetivos de la política monetaria</a:t>
            </a:r>
            <a:endParaRPr b="0" lang="en-US" sz="35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579680" y="274320"/>
            <a:ext cx="8192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Lucida Sans Unicode"/>
              </a:rPr>
              <a:t>Expectativas de inflación (%):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6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9372600" y="6019920"/>
            <a:ext cx="609480" cy="380880"/>
          </a:xfrm>
          <a:custGeom>
            <a:avLst/>
            <a:gdLst>
              <a:gd name="textAreaLeft" fmla="*/ 24480 w 609480"/>
              <a:gd name="textAreaRight" fmla="*/ 585000 w 6094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4552" h="21600">
                <a:moveTo>
                  <a:pt x="0" y="0"/>
                </a:moveTo>
                <a:lnTo>
                  <a:pt x="34552" y="0"/>
                </a:lnTo>
                <a:lnTo>
                  <a:pt x="34552" y="21600"/>
                </a:lnTo>
                <a:lnTo>
                  <a:pt x="0" y="21600"/>
                </a:lnTo>
                <a:close/>
              </a:path>
              <a:path fill="lightenLess" w="34552" h="21600">
                <a:moveTo>
                  <a:pt x="0" y="0"/>
                </a:moveTo>
                <a:lnTo>
                  <a:pt x="34552" y="0"/>
                </a:lnTo>
                <a:lnTo>
                  <a:pt x="33152" y="1400"/>
                </a:lnTo>
                <a:lnTo>
                  <a:pt x="1400" y="1400"/>
                </a:lnTo>
                <a:close/>
              </a:path>
              <a:path fill="darken" w="34552" h="21600">
                <a:moveTo>
                  <a:pt x="34552" y="0"/>
                </a:moveTo>
                <a:lnTo>
                  <a:pt x="34552" y="21600"/>
                </a:lnTo>
                <a:lnTo>
                  <a:pt x="33152" y="20200"/>
                </a:lnTo>
                <a:lnTo>
                  <a:pt x="33152" y="1400"/>
                </a:lnTo>
                <a:close/>
              </a:path>
              <a:path fill="darkenLess" w="34552" h="21600">
                <a:moveTo>
                  <a:pt x="34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2" y="20200"/>
                </a:lnTo>
                <a:close/>
              </a:path>
              <a:path fill="lighten" w="34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2" h="21600">
                <a:moveTo>
                  <a:pt x="10269" y="10800"/>
                </a:moveTo>
                <a:lnTo>
                  <a:pt x="24282" y="3794"/>
                </a:lnTo>
                <a:lnTo>
                  <a:pt x="24282" y="17806"/>
                </a:lnTo>
                <a:close/>
              </a:path>
            </a:pathLst>
          </a:custGeom>
          <a:solidFill>
            <a:srgbClr val="009999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1415880" y="1333440"/>
            <a:ext cx="7328160" cy="50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579680" y="274320"/>
            <a:ext cx="8192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400" spc="-1" strike="noStrike">
                <a:solidFill>
                  <a:srgbClr val="000000"/>
                </a:solidFill>
                <a:latin typeface="Lucida Sans Unicode"/>
              </a:rPr>
              <a:t>Distribución de expectativas de inflación (%):</a:t>
            </a:r>
            <a:endParaRPr b="0" lang="en-US" sz="3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9372600" y="6019920"/>
            <a:ext cx="609480" cy="380880"/>
          </a:xfrm>
          <a:custGeom>
            <a:avLst/>
            <a:gdLst>
              <a:gd name="textAreaLeft" fmla="*/ 24480 w 609480"/>
              <a:gd name="textAreaRight" fmla="*/ 585000 w 6094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4552" h="21600">
                <a:moveTo>
                  <a:pt x="0" y="0"/>
                </a:moveTo>
                <a:lnTo>
                  <a:pt x="34552" y="0"/>
                </a:lnTo>
                <a:lnTo>
                  <a:pt x="34552" y="21600"/>
                </a:lnTo>
                <a:lnTo>
                  <a:pt x="0" y="21600"/>
                </a:lnTo>
                <a:close/>
              </a:path>
              <a:path fill="lightenLess" w="34552" h="21600">
                <a:moveTo>
                  <a:pt x="0" y="0"/>
                </a:moveTo>
                <a:lnTo>
                  <a:pt x="34552" y="0"/>
                </a:lnTo>
                <a:lnTo>
                  <a:pt x="33152" y="1400"/>
                </a:lnTo>
                <a:lnTo>
                  <a:pt x="1400" y="1400"/>
                </a:lnTo>
                <a:close/>
              </a:path>
              <a:path fill="darken" w="34552" h="21600">
                <a:moveTo>
                  <a:pt x="34552" y="0"/>
                </a:moveTo>
                <a:lnTo>
                  <a:pt x="34552" y="21600"/>
                </a:lnTo>
                <a:lnTo>
                  <a:pt x="33152" y="20200"/>
                </a:lnTo>
                <a:lnTo>
                  <a:pt x="33152" y="1400"/>
                </a:lnTo>
                <a:close/>
              </a:path>
              <a:path fill="darkenLess" w="34552" h="21600">
                <a:moveTo>
                  <a:pt x="34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2" y="20200"/>
                </a:lnTo>
                <a:close/>
              </a:path>
              <a:path fill="lighten" w="34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2" h="21600">
                <a:moveTo>
                  <a:pt x="10269" y="10800"/>
                </a:moveTo>
                <a:lnTo>
                  <a:pt x="24282" y="3794"/>
                </a:lnTo>
                <a:lnTo>
                  <a:pt x="24282" y="17806"/>
                </a:lnTo>
                <a:close/>
              </a:path>
            </a:pathLst>
          </a:custGeom>
          <a:solidFill>
            <a:srgbClr val="009999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1"/>
          <a:stretch/>
        </p:blipFill>
        <p:spPr>
          <a:xfrm>
            <a:off x="895320" y="1276200"/>
            <a:ext cx="8137440" cy="517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579680" y="274320"/>
            <a:ext cx="8192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Aunque nos hemos acostumbrado, la inflación controlada no era algo habitual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542960" y="1413000"/>
            <a:ext cx="7010640" cy="301788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895320" y="4437000"/>
            <a:ext cx="8496360" cy="77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85000"/>
              </a:lnSpc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Lucida Sans Unicode"/>
              </a:rPr>
              <a:t>Además de elevada, era muy variable:</a:t>
            </a:r>
            <a:r>
              <a:rPr b="1" lang="es-ES_tradnl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4137120" y="5335560"/>
            <a:ext cx="1511280" cy="97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579680" y="274320"/>
            <a:ext cx="8192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400" spc="-1" strike="noStrike">
                <a:solidFill>
                  <a:srgbClr val="000000"/>
                </a:solidFill>
                <a:latin typeface="Lucida Sans Unicode"/>
              </a:rPr>
              <a:t>Antes se creía que la PM podía influir sistemáticamente en la actividad</a:t>
            </a:r>
            <a:endParaRPr b="0" lang="en-US" sz="3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63680" y="1557360"/>
            <a:ext cx="930888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49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Lucida Sans Unicode"/>
              </a:rPr>
              <a:t>Durante los sesenta se pensaba que se debía tener algo más de inflación para tener persistentemente menor desempleo y mayor actividad.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 algn="just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just">
              <a:spcBef>
                <a:spcPts val="649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Lucida Sans Unicode"/>
              </a:rPr>
              <a:t>Esta idea se resumía en la llamada “Curva de Phillips”, una relación negativa (y supuestamente estable) entre tasa de desempleo y actividad.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 algn="just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6" name="" descr="">
            <a:hlinkClick r:id="rId1" action="ppaction://hlinksldjump"/>
          </p:cNvPr>
          <p:cNvPicPr/>
          <p:nvPr/>
        </p:nvPicPr>
        <p:blipFill>
          <a:blip r:embed="rId2"/>
          <a:srcRect l="1984" t="3087" r="1016" b="2919"/>
          <a:stretch/>
        </p:blipFill>
        <p:spPr>
          <a:xfrm>
            <a:off x="3990960" y="4762440"/>
            <a:ext cx="2521080" cy="15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579680" y="274320"/>
            <a:ext cx="8192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Lucida Sans Unicode"/>
              </a:rPr>
              <a:t>Hemos aprendido que la política monetaria tiene límites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632160" y="1361160"/>
            <a:ext cx="9021960" cy="440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14720" indent="-414720" algn="just">
              <a:spcBef>
                <a:spcPts val="700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Lucida Sans Unicode"/>
              </a:rPr>
              <a:t>Aprendizaje clave: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47080" indent="-265680" algn="just">
              <a:spcBef>
                <a:spcPts val="601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 Unicode"/>
              </a:rPr>
              <a:t>No existe un dilema permanente entre crecimiento e inflación, sino más bien lo contrario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47080" indent="-265680" algn="just">
              <a:spcBef>
                <a:spcPts val="601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 Unicode"/>
              </a:rPr>
              <a:t>Una inflación baja y estable es un prerrequisito para crecer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47080" indent="-265680" algn="just">
              <a:spcBef>
                <a:spcPts val="601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47080" indent="-265680" algn="just">
              <a:spcBef>
                <a:spcPts val="601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47080" indent="-265680" algn="just">
              <a:spcBef>
                <a:spcPts val="601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47080" indent="-265680" algn="just">
              <a:spcBef>
                <a:spcPts val="601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 Unicode"/>
              </a:rPr>
              <a:t>La PM no puede resolver problemas estructurales de desempleo o de bajo crecimiento potencial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47080" indent="-265680" algn="just">
              <a:spcBef>
                <a:spcPts val="601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 Unicode"/>
              </a:rPr>
              <a:t>Lo que mejor puede hacer la PM es generar un ambiente de estabilidad de precios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rcRect l="6593" t="0" r="-129" b="0"/>
          <a:stretch/>
        </p:blipFill>
        <p:spPr>
          <a:xfrm>
            <a:off x="4361040" y="3306600"/>
            <a:ext cx="1485720" cy="11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579680" y="274320"/>
            <a:ext cx="8192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Lucida Sans Unicode"/>
              </a:rPr>
              <a:t>Pero un rol importante en la estabilización de corto plazo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32160" y="1649880"/>
            <a:ext cx="9021960" cy="440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37040" indent="-437040" algn="just">
              <a:spcBef>
                <a:spcPts val="550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Lucida Sans Unicode"/>
              </a:rPr>
              <a:t>En el corto plazo, la PM sí tiene efectos: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92800" indent="-280080" algn="just">
              <a:lnSpc>
                <a:spcPct val="100000"/>
              </a:lnSpc>
              <a:spcBef>
                <a:spcPts val="550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Lucida Sans Unicode"/>
              </a:rPr>
              <a:t>Sobre variables nominales, como los precios, pero también reales, como el empleo y el producto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92800" indent="-280080" algn="just">
              <a:lnSpc>
                <a:spcPct val="100000"/>
              </a:lnSpc>
              <a:spcBef>
                <a:spcPts val="550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Lucida Sans Unicode"/>
              </a:rPr>
              <a:t>En magnitudes y con rezagos que son cambiantes y no plenamente conocidos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92800" indent="-280080" algn="just">
              <a:lnSpc>
                <a:spcPct val="100000"/>
              </a:lnSpc>
              <a:spcBef>
                <a:spcPts val="550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Lucida Sans Unicode"/>
              </a:rPr>
              <a:t>Y que se modifican incluso con la propia conducción de la PM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437040" indent="-437040" algn="just">
              <a:spcBef>
                <a:spcPts val="550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Lucida Sans Unicode"/>
              </a:rPr>
              <a:t>La no neutralidad en el corto plazo admite que la PM pueda ayudar a estabilizar el ciclo económico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92800" indent="-280080" algn="just">
              <a:lnSpc>
                <a:spcPct val="100000"/>
              </a:lnSpc>
              <a:spcBef>
                <a:spcPts val="550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Lucida Sans Unicode"/>
              </a:rPr>
              <a:t>Pero también se enfrentan dilemas (</a:t>
            </a:r>
            <a:r>
              <a:rPr b="0" i="1" lang="es-ES_tradnl" sz="2200" spc="-1" strike="noStrike">
                <a:solidFill>
                  <a:srgbClr val="000000"/>
                </a:solidFill>
                <a:latin typeface="Lucida Sans Unicode"/>
              </a:rPr>
              <a:t>tradeoffs</a:t>
            </a:r>
            <a:r>
              <a:rPr b="0" lang="es-ES_tradnl" sz="2200" spc="-1" strike="noStrike">
                <a:solidFill>
                  <a:srgbClr val="000000"/>
                </a:solidFill>
                <a:latin typeface="Lucida Sans Unicode"/>
              </a:rPr>
              <a:t>).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92800" indent="-280080" algn="just">
              <a:lnSpc>
                <a:spcPct val="100000"/>
              </a:lnSpc>
              <a:spcBef>
                <a:spcPts val="550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Lucida Sans Unicode"/>
              </a:rPr>
              <a:t>Requiere de conducción apropiada, que tome en cuenta este poder y sus límites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579680" y="274320"/>
            <a:ext cx="8192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La Ley Orgánica del BCCh recoge estas leccione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632160" y="1433880"/>
            <a:ext cx="9021960" cy="440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14720" indent="-414720" algn="just">
              <a:spcBef>
                <a:spcPts val="275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Lucida Sans Unicode"/>
              </a:rPr>
              <a:t>Establece como objetivo del BCCh “Velar por la estabilidad de la moneda y del normal funcionamiento del sistema de pagos interno y externo”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414720" indent="-414720" algn="just">
              <a:spcBef>
                <a:spcPts val="275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Lucida Sans Unicode"/>
              </a:rPr>
              <a:t>Lo que se entiende como: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47080" indent="-265680" algn="just">
              <a:lnSpc>
                <a:spcPct val="100000"/>
              </a:lnSpc>
              <a:spcBef>
                <a:spcPts val="275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Lucida Sans Unicode"/>
              </a:rPr>
              <a:t>Alcanzar un nivel de inflación baja, estable y sostenible en el tiempo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47080" indent="-265680" algn="just">
              <a:lnSpc>
                <a:spcPct val="100000"/>
              </a:lnSpc>
              <a:spcBef>
                <a:spcPts val="275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Lucida Sans Unicode"/>
              </a:rPr>
              <a:t>Preservar las funciones primordiales del sistema financiero a través de una regulación y supervisión adecuada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414720" indent="-414720" algn="just">
              <a:spcBef>
                <a:spcPts val="275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Lucida Sans Unicode"/>
              </a:rPr>
              <a:t>Existen diferentes maneras de organizar la PM para alcanzar el primer objetivo: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47080" indent="-265680" algn="just">
              <a:spcBef>
                <a:spcPts val="275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Lucida Sans Unicode"/>
              </a:rPr>
              <a:t>Metas de agregados monetarios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47080" indent="-265680" algn="just">
              <a:spcBef>
                <a:spcPts val="275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Lucida Sans Unicode"/>
              </a:rPr>
              <a:t>Metas de tipo de cambio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47080" indent="-265680" algn="just">
              <a:lnSpc>
                <a:spcPct val="100000"/>
              </a:lnSpc>
              <a:spcBef>
                <a:spcPts val="275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Lucida Sans Unicode"/>
              </a:rPr>
              <a:t>Metas de inflación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2T14:45:39Z</dcterms:created>
  <dc:creator>Fabian Gredig </dc:creator>
  <dc:description/>
  <dc:language>en-US</dc:language>
  <cp:lastModifiedBy>BCCH</cp:lastModifiedBy>
  <cp:lastPrinted>2005-03-28T16:39:00Z</cp:lastPrinted>
  <dcterms:modified xsi:type="dcterms:W3CDTF">2007-11-19T12:37:14Z</dcterms:modified>
  <cp:revision>717</cp:revision>
  <dc:subject/>
  <dc:title>PowerPoint Presentation</dc:title>
</cp:coreProperties>
</file>