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3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8.wmf" ContentType="image/x-wmf"/>
  <Override PartName="/ppt/media/image9.wmf" ContentType="image/x-wmf"/>
  <Override PartName="/ppt/media/image6.wmf" ContentType="image/x-wmf"/>
  <Override PartName="/ppt/media/image11.png" ContentType="image/png"/>
  <Override PartName="/ppt/media/image31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png" ContentType="image/png"/>
  <Override PartName="/ppt/media/image21.png" ContentType="image/pn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10288588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0240" y="0"/>
            <a:ext cx="8507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71680" y="1268280"/>
            <a:ext cx="712944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146320" y="3212640"/>
            <a:ext cx="5913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1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2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3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4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5" marL="229680" indent="-229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6" marL="229680" indent="-229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308320" y="6453000"/>
            <a:ext cx="64008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6313-4DF7-4DDB-9CF8-9852DF27AE9C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657680" y="371520"/>
            <a:ext cx="1136520" cy="89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0287000" cy="1295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1360" y="152280"/>
            <a:ext cx="9858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08320" y="6453360"/>
            <a:ext cx="640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713D-BAC5-4E8A-BB3D-D1AC81D0DE49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4640" y="333360"/>
            <a:ext cx="851040" cy="7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1360" y="152280"/>
            <a:ext cx="9858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08320" y="6453360"/>
            <a:ext cx="640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E257-EA4E-4438-938A-73B9F91AC354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03280" y="2604960"/>
            <a:ext cx="792360" cy="708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66680" y="2438280"/>
            <a:ext cx="769644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2565360"/>
            <a:ext cx="6429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781000" y="2781360"/>
            <a:ext cx="6858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87680" y="1341360"/>
            <a:ext cx="7129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"/>
          <p:cNvSpPr/>
          <p:nvPr/>
        </p:nvSpPr>
        <p:spPr>
          <a:xfrm>
            <a:off x="2901960" y="4260960"/>
            <a:ext cx="44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808080"/>
                </a:solidFill>
                <a:latin typeface="Lucida Sans Unicode"/>
              </a:rPr>
              <a:t>Rodrigo Valdé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808080"/>
                </a:solidFill>
                <a:latin typeface="Lucida Sans Unicode"/>
              </a:rPr>
              <a:t>Gerente División de Estudi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66960" y="2189160"/>
            <a:ext cx="83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Lucida Sans Unicode"/>
              </a:rPr>
              <a:t>Política monetaria en Ch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I. El esquema de metas de inflación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3680" y="1557000"/>
            <a:ext cx="930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Desde el año 2000 en Chile, la PM se conduce bajo un esquema pleno de metas de inflació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e esquema tiene como pilares fundamental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1. El anuncio explícito de una meta de inflación permanent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2. Flotación en el tipo de camb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3. Apoyo clave del marco institucional: posición fiscal sólida y un sistema financiero adecuad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1. Meta permanente de inflación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l objetivo es mantener </a:t>
            </a:r>
            <a:r>
              <a:rPr b="0" lang="es-ES_tradnl" sz="2100" spc="-1" strike="noStrike">
                <a:solidFill>
                  <a:srgbClr val="000000"/>
                </a:solidFill>
                <a:latin typeface="Lucida Sans Unicode"/>
              </a:rPr>
              <a:t>la inflación anual 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mayor parte del tiempo en torno a 3%, con un rango de tolerancia de más/menos un punto porcentual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Siempre, no sólo en diciembr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De manera sostenible en el tiemp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Admitiendo desviaciones transitorias cuando se enfrentan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4376" b="0"/>
          <a:stretch/>
        </p:blipFill>
        <p:spPr>
          <a:xfrm>
            <a:off x="3997440" y="4869000"/>
            <a:ext cx="21542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2. Flotación cambiari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Desde octubre de 1999 el valor del tipo de cambio se determina libremente en el mercado cambiar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Sin embargo, el BCCh se reserva el derecho a intervenir en circunstancias excepcionales (dos episodios desde 1999: agosto 2001 y octubre 2002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l esquema de flotación permite mayor independencia en la implementación de la PM y facilita el ajuste de la economía a 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real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64040" y="5418000"/>
            <a:ext cx="158436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3. Complemento institucional clav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olítica fiscal responsable (regla de superávit estructural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decuada regulación y supervisión financier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Objetivo operacional de la PM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l BCCh tiene un “horizonte de política” en torno a dos añ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estima que la PM tiene efecto relevante en la inflación a ese horizo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se horizonte permite acomodar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transitorios en la inflación (por definición, ellos se mantienen en la inflación anual durante 12 meses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 algn="just"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La PM se orienta de manera que la inflación proyectada sea 3% a ese horizonte. Con ell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maximizan las posibilidades de estar cerca de 3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toma explícitamente en cuenta que la PM tiene efectos sobre la volatilidad de la actividad y de las tasas de interé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unque también se analiza que podría suceder más adelante y posibles riesg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Resultados positivo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Algunas estadísticas (enero 2000 a julio 2007)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Promedio inflación 12 meses = 2,9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Porcentaje del tiempo (meses)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Entre 2% y 4% = 73,6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Bajo 2% = 15,4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Sobre 4% = 11,0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Creciente credibilida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648400" y="4797360"/>
            <a:ext cx="1584360" cy="1096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642080" y="4797360"/>
            <a:ext cx="17290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 este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l análisis es eminentemente prospectiv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Como la PM toma tiempo en surtir efectos (existen rezagos), es necesario imaginar cómo será la situación económica cuando se manifiesten estos efectos.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s proyecciones juegan un rol clave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única manera de imaginar seriamente el futuro es a partir de ejercicios de proyección desde la realidad actual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proyecciones no se cumplen exactamente porque existen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 y conocimiento limitado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PM se ajusta para enfrentar las consecuencias de los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.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ste 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3680" y="148608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Elementos fundamentales del proceso de proyeccion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Se apoya en un </a:t>
            </a: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conjunto de modelos estadísticos y económicos, en continua mejoría.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a información entregada por los modelos interactúa con el análisis y juicio, el cual es insustitui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De esta interacción resulta un escenario base (más probable) y escenarios alternativos o de riesg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79680" y="4869000"/>
            <a:ext cx="1752480" cy="1417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143680" y="4869000"/>
            <a:ext cx="167616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ste 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9021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La credibilidad actúa como el “ancla” del sistema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 sistemas alternativos, como objetivo de agregados y tipo de cambio fijo, el ancla es evide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on metas, la confianza de los agentes se basa en que el BC ajustará la PM de manera que la inflación sea 3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ara eso es necesario “hacer lo que se dice se hará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egla de política 1989-2003 estimada por Céspedes y Soto (2005)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42960" y="5084640"/>
          <a:ext cx="7848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2960" y="5084640"/>
                    <a:ext cx="7848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555920"/>
            <a:ext cx="93092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LOC del BCCh determina sus objetivos (Art. 3°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abilidad de la mone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Normal funcionamiento de los pagos internos y extern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Qué es estabilidad de la moned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Por qué es necesari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Qué hace el BC para lograr el primer objetiv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II. Inflación y mecanismos de transmisión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terminantes de la infla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38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Dinero y precios guardan una estrecha relación en períodos prolongados. La inflación en el largo plazo es un fenómeno monetari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gún la teoría cuantitativa:                        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tonces si la PM es neutral: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in embargo, en el horizonte de política, y con un nivel de inflación acotado, el dinero no es especialmente informativ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 países con baja inflación la correlación entre crecimiento del dinero e inflación es más débil (V es relativamente menos estable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En Chile, una vez que se controla por costos y brechas, el dinero aporta poco a la predicción de inflación al horizonte de polític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ún así, los distintos agregados se analizan con cuidad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638600" y="2708280"/>
          <a:ext cx="151128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8600" y="2708280"/>
                    <a:ext cx="151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711680" y="3068640"/>
          <a:ext cx="136836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1680" y="3068640"/>
                    <a:ext cx="136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terminantes de la infla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080" y="1413000"/>
            <a:ext cx="938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pisodios de alta inflación han estado asociados usualmente a elevados déficits en las cuentas fiscales y a autoridades monetarias no comprometidas con la lucha antiinflacionari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La presencia de rigideces nominales en precios y salarios hace que la política monetaria tenga efecto sobre las variables reales en el corto plazo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n la medida que las variables reales, como el empleo o la actividad, se alejen de su tendencia de largo plazo por efecto de la PM, estas fluctuaciones terminan afectando a la inflación en la medida que transcurre el tiemp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Determinantes de la inflación: Ejemplo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3819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Curva de Phillips simp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903320" y="2133720"/>
          <a:ext cx="6480360" cy="8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3320" y="2133720"/>
                    <a:ext cx="64803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4960" y="3213000"/>
            <a:ext cx="9382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n el  largo plazo (en promedio) ocurre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695680" y="3860640"/>
          <a:ext cx="1877760" cy="8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5680" y="3860640"/>
                    <a:ext cx="18777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288040" y="3860640"/>
          <a:ext cx="140976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8040" y="3860640"/>
                    <a:ext cx="14097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14440" y="4913280"/>
            <a:ext cx="9381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o implica qu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652920" y="5316480"/>
          <a:ext cx="192240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2920" y="5316480"/>
                    <a:ext cx="192240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Mecanismos de transmisió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Además de influir en las tasas de interés, la PM afecta el tipo de cambio, el crédito y el dinero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Todo ello tiene a su vez efectos en el desempeño del sector real y en costo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Evidentemente muchas otras variables, tanto internas como externas, influyen en el desempeño de cada una de las variables macroeconómica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630600" y="4869000"/>
            <a:ext cx="2374920" cy="114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jemplo de transmisión 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06640" y="1328760"/>
            <a:ext cx="88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fectos de un aumento en la TPM de 25 pb por un año, sobre la infl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0960" y="615780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0" t="8106" r="51537" b="50676"/>
          <a:stretch/>
        </p:blipFill>
        <p:spPr>
          <a:xfrm>
            <a:off x="1158840" y="1600200"/>
            <a:ext cx="785016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jemplo de transmisión 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50307" t="9188" r="2523" b="50578"/>
          <a:stretch/>
        </p:blipFill>
        <p:spPr>
          <a:xfrm>
            <a:off x="1182600" y="1590840"/>
            <a:ext cx="7848720" cy="4622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106640" y="1328760"/>
            <a:ext cx="88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fectos de un aumento en la TPM de 25 pb por un año, sobre 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0960" y="615780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sde la TPM al resto de las tas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El BCCh decide el nivel de la TPM y maneja la liquidez disponible (circulante y reservas) a través de OMAs de manera que la tasa interbancaria a un día (TIB1) se ubique en ese nivel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La TIB1 no tiene efectos directos sobre la economía, pero sí a través de las demás tasas que determina el sistema financiero y se vinculan a la TIB1 por arbitraj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833560" y="5035680"/>
            <a:ext cx="1656000" cy="10303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288040" y="4979880"/>
            <a:ext cx="1727280" cy="10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sde la TPM al resto de las tas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Por ejemplo, la tasa de interés en operaciones a 3 meses no puede diferir mucho del promedio de expectativas de TIB1 por los próximos 90 días (a igual riesgo de crédito)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Las tasas de mayor plazo también se ven influidas por la PM a través de las expectativas de TPM a distintos horizonte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48040" y="5084640"/>
            <a:ext cx="1800360" cy="10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V. Reunión de política monetaria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1528560"/>
            <a:ext cx="9453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. Los objetivos de la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I. El esquema de metas de inflació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II. Inflación y mecanismos de transmisió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V. La reunión de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. Implementación de la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I. Transparencia y estrategia de comunicación del BCCh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II. Conclusion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Reunión mensual en que se deciden cambios en la TP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renunciada con seis meses de antelación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Habitualmente en dos parte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11:30 hrs. – Revisión de antecedent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16:00 hrs. – Análisis de opciones, votación y comunicado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articipante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Votan los 5 Consejeros del BCCh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Participa el Ministro de Hacienda con derecho a voz (LOC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Personal del BCCh (varios gerentes, Fiscal, Ministro de Fe, algunos asesores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48 horas antes se distribuye material reservad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de la información disponi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royecciones de corto plazo (y mediano plazo si hay IPo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2 horas antes se distribuye documento de opciones (análisis de costos y beneficios de las alternativa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En la reunión, presentación y discusión de participantes de distintos tem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63680" y="1557360"/>
            <a:ext cx="2808000" cy="2106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559320" y="148428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872400" y="141300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63680" y="386064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3774960" y="3933720"/>
            <a:ext cx="3008520" cy="2256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6656400" y="3789360"/>
            <a:ext cx="329580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560" y="1402920"/>
            <a:ext cx="9677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Ciclo de 6 semanas de trabajo del personal junto al Consejo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Evaluación de proyecciones previas y análisis de desviacion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Identificación de escenario central y análisis de riesgo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Uso intensivo de modelos y juici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Análisis de temas específicos relevantes para la coyuntur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Ingrediente fundamental para la toma de decision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ermite tener escenario bas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ermite evaluar las novedades coyunturales mes a mes y analizar su impacto para el escenario central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Componente clave de la RPM respectiv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647720"/>
            <a:ext cx="967716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Aproximadamente tres semanas después de la reunión se publica una minuta que incluy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Un resumen de los antecedentes revisados en la reunión y principales puntos de análisi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as opciones de política considerad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os principales argumentos considerados por el Consejo en la decisió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a votación de cada Conseje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en Chile (variación % dic. a dic.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2600" y="1290600"/>
            <a:ext cx="7993080" cy="49150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61960" y="6143760"/>
            <a:ext cx="52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Fuente: Díaz et al., (2003) e IN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Curva de Phillips en EEUU (%), (1960-1989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>
            <a:hlinkClick r:id="rId1" action="ppaction://hlinksldjump"/>
          </p:cNvPr>
          <p:cNvPicPr/>
          <p:nvPr/>
        </p:nvPicPr>
        <p:blipFill>
          <a:blip r:embed="rId2"/>
          <a:srcRect l="1984" t="3087" r="1016" b="2919"/>
          <a:stretch/>
        </p:blipFill>
        <p:spPr>
          <a:xfrm>
            <a:off x="1039680" y="1309680"/>
            <a:ext cx="8064720" cy="507204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Inflación y crecimiento (otros factores constantes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6548" t="0" r="5125" b="6590"/>
          <a:stretch/>
        </p:blipFill>
        <p:spPr>
          <a:xfrm>
            <a:off x="457200" y="1469880"/>
            <a:ext cx="4724280" cy="43214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rcRect l="6593" t="0" r="-129" b="4961"/>
          <a:stretch/>
        </p:blipFill>
        <p:spPr>
          <a:xfrm>
            <a:off x="5257800" y="1413000"/>
            <a:ext cx="4869000" cy="43783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92160" y="6034680"/>
            <a:ext cx="6470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ente: Determinants of Economic Growth, R. Barro (199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720" y="1295280"/>
            <a:ext cx="71640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Tasa de Crec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Meta de inflación en Chile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0" t="0" r="4376" b="0"/>
          <a:stretch/>
        </p:blipFill>
        <p:spPr>
          <a:xfrm>
            <a:off x="757080" y="1262160"/>
            <a:ext cx="8347320" cy="5236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391680" y="58770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Tipo de cambio y banda cambiaria en Chil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(1984-2006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95320" y="1197000"/>
            <a:ext cx="8136000" cy="50608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. Objetivos de la política monetaria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xpectativas de inflación (%)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415880" y="1333440"/>
            <a:ext cx="73281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Distribución de expectativas de inflación (%)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95320" y="1276200"/>
            <a:ext cx="813744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unque nos hemos acostumbrado, la inflación controlada no era algo habitu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42960" y="1413000"/>
            <a:ext cx="7010640" cy="3017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95320" y="4437000"/>
            <a:ext cx="849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5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demás de elevada, era muy variable:</a:t>
            </a: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137120" y="5335560"/>
            <a:ext cx="15112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Antes se creía que la PM podía influir sistemáticamente en la actividad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Durante los sesenta se pensaba que se debía tener algo más de inflación para tener persistentemente menor desempleo y mayor activida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Esta idea se resumía en la llamada “Curva de Phillips”, una relación negativa (y supuestamente estable) entre tasa de desempleo y activida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rcRect l="1984" t="3087" r="1016" b="2919"/>
          <a:stretch/>
        </p:blipFill>
        <p:spPr>
          <a:xfrm>
            <a:off x="3990960" y="4762440"/>
            <a:ext cx="2521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Hemos aprendido que la política monetaria tiene límit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32160" y="1361160"/>
            <a:ext cx="9021960" cy="44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4720" indent="-41472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prendizaje clave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No existe un dilema permanente entre crecimiento e inflación, sino más bien lo contrar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Una inflación baja y estable es un prerrequisito para crec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a PM no puede resolver problemas estructurales de desempleo o de bajo crecimiento potenci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o que mejor puede hacer la PM es generar un ambiente de estabilidad de preci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6593" t="0" r="-129" b="0"/>
          <a:stretch/>
        </p:blipFill>
        <p:spPr>
          <a:xfrm>
            <a:off x="4361040" y="3306600"/>
            <a:ext cx="148572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Pero un rol importante en la estabilización de corto plazo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32160" y="1649880"/>
            <a:ext cx="9021960" cy="44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7040" indent="-4370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n el corto plazo, la PM sí tiene efecto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Sobre variables nominales, como los precios, pero también reales, como el empleo y el product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n magnitudes y con rezagos que son cambiantes y no plenamente conocido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Y que se modifican incluso con la propia conducción de la P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7040" indent="-4370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no neutralidad en el corto plazo admite que la PM pueda ayudar a estabilizar el ciclo económic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Pero también se enfrentan dilemas (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tradeoffs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Requiere de conducción apropiada, que tome en cuenta este poder y sus lími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 Ley Orgánica del BCCh recoge estas leccio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32160" y="1433880"/>
            <a:ext cx="902196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stablece como objetivo del BCCh “Velar por la estabilidad de la moneda y del normal funcionamiento del sistema de pagos interno y externo”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o que se entiende com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Alcanzar un nivel de inflación baja, estable y sostenible en el tiemp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Preservar las funciones primordiales del sistema financiero a través de una regulación y supervisión adecuad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xisten diferentes maneras de organizar la PM para alcanzar el primer objetiv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agregados monetario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tipo de cambi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inflació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14:45:39Z</dcterms:created>
  <dc:creator>Fabian Gredig </dc:creator>
  <dc:description/>
  <dc:language>en-US</dc:language>
  <cp:lastModifiedBy>BCCH</cp:lastModifiedBy>
  <cp:lastPrinted>2005-03-28T16:39:00Z</cp:lastPrinted>
  <dcterms:modified xsi:type="dcterms:W3CDTF">2007-11-19T12:37:14Z</dcterms:modified>
  <cp:revision>717</cp:revision>
  <dc:subject/>
  <dc:title>PowerPoint Presentation</dc:title>
</cp:coreProperties>
</file>