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EE7-5B9C-4785-8F8E-B0895D0C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353B-3E81-4573-8036-36C36B1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EC7-896A-4150-9F4A-6A723647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ACD3-EFD3-445C-A887-D98F10C3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7C94-37E3-4CE6-BBA8-956E2C7F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76-8D12-4D49-840E-4C28BB2D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EE23-31E9-46AD-911F-33DCDF4C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D006-AEE9-4A52-9530-62F10332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CDD0-5BF1-44E7-A94F-8FEAAADC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C66A-51F0-4A31-8FDF-3E3DB11A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91BF-6E02-4D5F-A4B9-29F51B81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143-3259-47FE-A246-B40F5A9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2C26-6B80-448B-AC23-7B0B915FB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005360"/>
            <a:ext cx="777384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REFORMAS A LA JUSTICIA </a:t>
            </a:r>
            <a:br>
              <a:rPr sz="3600"/>
            </a:br>
            <a:r>
              <a:rPr b="1" lang="es-CL" sz="3600" spc="-1" strike="noStrike">
                <a:solidFill>
                  <a:srgbClr val="ffffcc"/>
                </a:solidFill>
                <a:latin typeface="Arial"/>
              </a:rPr>
              <a:t>EN LAS AMÉRIC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3840" y="5734080"/>
            <a:ext cx="86421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¿Mejoran Nuestros Sistemas Judiciale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47640" y="260280"/>
            <a:ext cx="6078600" cy="29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aumentado su cober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5280" y="1341360"/>
          <a:ext cx="8497800" cy="5280120"/>
        </p:xfrm>
        <a:graphic>
          <a:graphicData uri="http://schemas.openxmlformats.org/drawingml/2006/table">
            <a:tbl>
              <a:tblPr/>
              <a:tblGrid>
                <a:gridCol w="2530440"/>
                <a:gridCol w="1494000"/>
                <a:gridCol w="1520640"/>
                <a:gridCol w="1462320"/>
                <a:gridCol w="1490400"/>
              </a:tblGrid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ro. jueces cada 100.000 habita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íodo de la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Argentina (PJ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6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0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7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5,0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México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4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Nicaragu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0-20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1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003-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24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Times New Roman"/>
                        </a:rPr>
                        <a:t>1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439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Ha aumentado sustantivamente la demanda por sus servicios: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ffffcc"/>
                </a:solidFill>
                <a:latin typeface="Arial"/>
              </a:rPr>
              <a:t>Índice de litigiosidad 2005/2006 (Número de causas ingresadas por cada 100.000 habitan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7760" cy="4522680"/>
        </p:xfrm>
        <a:graphic>
          <a:graphicData uri="http://schemas.openxmlformats.org/drawingml/2006/table">
            <a:tbl>
              <a:tblPr/>
              <a:tblGrid>
                <a:gridCol w="4037760"/>
              </a:tblGrid>
              <a:tr h="452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268280"/>
          <a:ext cx="9112320" cy="518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12320" cy="51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flipH="1">
            <a:off x="-360" y="1413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208480" y="225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Han sido capaces de aumentar su capacidad de res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26120" y="1422360"/>
            <a:ext cx="0" cy="0"/>
          </a:xfrm>
          <a:prstGeom prst="line">
            <a:avLst/>
          </a:prstGeom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99320" y="15429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826920" y="1628640"/>
          <a:ext cx="7272360" cy="4432320"/>
        </p:xfrm>
        <a:graphic>
          <a:graphicData uri="http://schemas.openxmlformats.org/drawingml/2006/table">
            <a:tbl>
              <a:tblPr/>
              <a:tblGrid>
                <a:gridCol w="3095640"/>
                <a:gridCol w="2849760"/>
                <a:gridCol w="1326960"/>
              </a:tblGrid>
              <a:tr h="398880"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ASA DE RESOLU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(casos resueltos / casos ingresad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8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1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3120" y="188748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SIN EMBARGO, estos cambios no son percibidos por nuestros ciudadanos quienes siguen teniendo una mala imagen y desconfianza sobre el funcionamiento del sistema jud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4880" y="616572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Latinobar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iveles preocupantes de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desconfianza respecto a la justi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-1549440" y="1557360"/>
          <a:ext cx="11880720" cy="483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9440" y="1557360"/>
                    <a:ext cx="1188072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4400" y="43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Evolución de la confianza en el Poder</a:t>
            </a:r>
            <a:br>
              <a:rPr sz="2800"/>
            </a:b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Judicial Sudamérica, entre 2003 y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1300320"/>
          <a:ext cx="9129600" cy="55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0320"/>
                    <a:ext cx="9129600" cy="55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80" y="6521400"/>
            <a:ext cx="14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993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volución de la confianza en el Poder Judicial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México, Centroamérica y el Caribe, </a:t>
            </a:r>
            <a:br>
              <a:rPr sz="2400"/>
            </a:b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entre 2003 y 200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17360" y="1125360"/>
          <a:ext cx="9026640" cy="589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125360"/>
                    <a:ext cx="9026640" cy="58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 flipH="1">
            <a:off x="-36720" y="134136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1800" y="649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cc"/>
                </a:solidFill>
                <a:latin typeface="Arial"/>
              </a:rPr>
              <a:t>Fuente: C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A lo anterior hay que agr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corrupción 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Percepciones sobre sistema discriminatorio (pobres, género, otros sectores vulnera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tantemente los ciudadanos señalan dentro de sus principales problemas los vinculados a la justicia y su seguridad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0"/>
          <a:ext cx="918684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86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187560" y="244800"/>
            <a:ext cx="8798040" cy="6261840"/>
            <a:chOff x="187560" y="244800"/>
            <a:chExt cx="8798040" cy="6261840"/>
          </a:xfrm>
        </p:grpSpPr>
        <p:sp>
          <p:nvSpPr>
            <p:cNvPr id="122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46160" y="1432440"/>
              <a:ext cx="7937640" cy="3945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48760" y="4768200"/>
              <a:ext cx="137520" cy="609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493280" y="4445640"/>
              <a:ext cx="137520" cy="9320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839240" y="4338720"/>
              <a:ext cx="139320" cy="1039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5560" y="4194360"/>
              <a:ext cx="137520" cy="118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29720" y="3657600"/>
              <a:ext cx="137520" cy="1720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75680" y="3548160"/>
              <a:ext cx="135720" cy="1829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20200" y="3476880"/>
              <a:ext cx="137880" cy="1900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64360" y="3333240"/>
              <a:ext cx="137880" cy="20444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08880" y="3118320"/>
              <a:ext cx="139320" cy="2259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56640" y="3081960"/>
              <a:ext cx="135720" cy="22957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01160" y="2796120"/>
              <a:ext cx="137520" cy="2581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45680" y="2723400"/>
              <a:ext cx="137520" cy="26542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289840" y="2652480"/>
              <a:ext cx="137520" cy="27255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35800" y="2542680"/>
              <a:ext cx="137880" cy="2835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980320" y="2364480"/>
              <a:ext cx="139320" cy="3013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326640" y="2330280"/>
              <a:ext cx="137520" cy="304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670800" y="2186280"/>
              <a:ext cx="137520" cy="3191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016760" y="1969560"/>
              <a:ext cx="137880" cy="3408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361280" y="1898280"/>
              <a:ext cx="137880" cy="3479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05800" y="1864440"/>
              <a:ext cx="137880" cy="3513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49960" y="1827720"/>
              <a:ext cx="139320" cy="3549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97720" y="1791360"/>
              <a:ext cx="137520" cy="35866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742240" y="1720080"/>
              <a:ext cx="137520" cy="3657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6160" y="1432440"/>
              <a:ext cx="1440" cy="3945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46160" y="5378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46160" y="53067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46160" y="52336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6160" y="51631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46160" y="5090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5019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046160" y="4946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6160" y="48772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46160" y="4804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46160" y="47336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6160" y="4660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4590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46160" y="4516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46160" y="44456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46160" y="4372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43020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46160" y="4231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46160" y="4158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46160" y="4087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46160" y="4014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46160" y="3943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46160" y="3872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46160" y="38012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46160" y="37281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46160" y="36576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46160" y="35845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46160" y="3513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46160" y="3440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46160" y="3369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6160" y="3296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46160" y="32256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46160" y="31525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46160" y="30819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46160" y="30088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46160" y="29383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46160" y="28670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46160" y="279612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46160" y="2723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6160" y="265248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46160" y="257940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46160" y="2508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46160" y="24375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046160" y="23644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46160" y="2293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046160" y="2220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46160" y="214956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46160" y="20768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46160" y="200592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046160" y="19328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46160" y="1864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046160" y="1791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046160" y="172008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46160" y="164700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46160" y="157644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46160" y="1503360"/>
              <a:ext cx="29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46160" y="1432440"/>
              <a:ext cx="298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04400" y="5378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04400" y="501948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04400" y="4660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004400" y="430200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4400" y="394308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04400" y="358452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04400" y="322560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04400" y="28670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04400" y="250884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004400" y="214956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04400" y="1791360"/>
              <a:ext cx="82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04400" y="1432440"/>
              <a:ext cx="82080" cy="2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46160" y="5378040"/>
              <a:ext cx="793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104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39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1735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20811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24274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27716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3116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34606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80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15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49676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84128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51876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5531760" y="5335200"/>
              <a:ext cx="1440" cy="87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587628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2222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5685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912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25724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760320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794772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829332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8637840" y="5335200"/>
              <a:ext cx="180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8984160" y="5335200"/>
              <a:ext cx="1440" cy="8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219320" y="2508840"/>
              <a:ext cx="7589880" cy="2368440"/>
            </a:xfrm>
            <a:custGeom>
              <a:avLst/>
              <a:gdLst/>
              <a:ahLst/>
              <a:rect l="l" t="t" r="r" b="b"/>
              <a:pathLst>
                <a:path w="4689" h="1351">
                  <a:moveTo>
                    <a:pt x="0" y="1330"/>
                  </a:moveTo>
                  <a:lnTo>
                    <a:pt x="213" y="1351"/>
                  </a:lnTo>
                  <a:lnTo>
                    <a:pt x="426" y="1146"/>
                  </a:lnTo>
                  <a:lnTo>
                    <a:pt x="639" y="1207"/>
                  </a:lnTo>
                  <a:lnTo>
                    <a:pt x="852" y="757"/>
                  </a:lnTo>
                  <a:lnTo>
                    <a:pt x="1065" y="778"/>
                  </a:lnTo>
                  <a:lnTo>
                    <a:pt x="1279" y="491"/>
                  </a:lnTo>
                  <a:lnTo>
                    <a:pt x="1492" y="716"/>
                  </a:lnTo>
                  <a:lnTo>
                    <a:pt x="1705" y="368"/>
                  </a:lnTo>
                  <a:lnTo>
                    <a:pt x="1918" y="450"/>
                  </a:lnTo>
                  <a:lnTo>
                    <a:pt x="2131" y="573"/>
                  </a:lnTo>
                  <a:lnTo>
                    <a:pt x="2345" y="552"/>
                  </a:lnTo>
                  <a:lnTo>
                    <a:pt x="2558" y="430"/>
                  </a:lnTo>
                  <a:lnTo>
                    <a:pt x="2771" y="327"/>
                  </a:lnTo>
                  <a:lnTo>
                    <a:pt x="2984" y="225"/>
                  </a:lnTo>
                  <a:lnTo>
                    <a:pt x="3197" y="205"/>
                  </a:lnTo>
                  <a:lnTo>
                    <a:pt x="3410" y="41"/>
                  </a:lnTo>
                  <a:lnTo>
                    <a:pt x="3624" y="102"/>
                  </a:lnTo>
                  <a:lnTo>
                    <a:pt x="3837" y="20"/>
                  </a:lnTo>
                  <a:lnTo>
                    <a:pt x="4050" y="164"/>
                  </a:lnTo>
                  <a:lnTo>
                    <a:pt x="4263" y="82"/>
                  </a:lnTo>
                  <a:lnTo>
                    <a:pt x="4476" y="61"/>
                  </a:lnTo>
                  <a:lnTo>
                    <a:pt x="4689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84040" y="480240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30000" y="4841280"/>
              <a:ext cx="66960" cy="7236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74520" y="448020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9040" y="45874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63200" y="37994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909160" y="3835800"/>
              <a:ext cx="6732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55480" y="333324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00000" y="3726360"/>
              <a:ext cx="6840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41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45960" y="3116520"/>
              <a:ext cx="6696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290120" y="32601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34640" y="34768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80600" y="34383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8"/>
                  </a:lnTo>
                  <a:lnTo>
                    <a:pt x="21" y="35"/>
                  </a:lnTo>
                  <a:lnTo>
                    <a:pt x="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326920" y="322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71440" y="30456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015600" y="286704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60120" y="283068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706080" y="2542680"/>
              <a:ext cx="67320" cy="74880"/>
            </a:xfrm>
            <a:custGeom>
              <a:avLst/>
              <a:gdLst/>
              <a:ahLst/>
              <a:rect l="l" t="t" r="r" b="b"/>
              <a:pathLst>
                <a:path w="40" h="35">
                  <a:moveTo>
                    <a:pt x="20" y="0"/>
                  </a:moveTo>
                  <a:lnTo>
                    <a:pt x="40" y="17"/>
                  </a:lnTo>
                  <a:lnTo>
                    <a:pt x="20" y="35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52400" y="265032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396560" y="250632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41080" y="2759400"/>
              <a:ext cx="6840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41" y="17"/>
                  </a:lnTo>
                  <a:lnTo>
                    <a:pt x="21" y="34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87040" y="261576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431560" y="2579400"/>
              <a:ext cx="66960" cy="72720"/>
            </a:xfrm>
            <a:custGeom>
              <a:avLst/>
              <a:gdLst/>
              <a:ahLst/>
              <a:rect l="l" t="t" r="r" b="b"/>
              <a:pathLst>
                <a:path w="40" h="34">
                  <a:moveTo>
                    <a:pt x="20" y="0"/>
                  </a:moveTo>
                  <a:lnTo>
                    <a:pt x="40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775720" y="2472120"/>
              <a:ext cx="68760" cy="7272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41" y="17"/>
                  </a:lnTo>
                  <a:lnTo>
                    <a:pt x="20" y="34"/>
                  </a:lnTo>
                  <a:lnTo>
                    <a:pt x="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80920" y="244800"/>
              <a:ext cx="5234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, de cumplimiento de convenios y leye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957040" y="500040"/>
              <a:ext cx="3013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</a:t>
              </a: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9400" y="529416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5240" y="49356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5240" y="457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95240" y="4218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5240" y="3859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240" y="3501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240" y="3141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240" y="2783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5240" y="242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5240" y="2066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0720" y="170748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0720" y="13485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8900000">
              <a:off x="327600" y="5798520"/>
              <a:ext cx="88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18900000">
              <a:off x="1069200" y="564156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8900000">
              <a:off x="1554480" y="5583600"/>
              <a:ext cx="287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8900000">
              <a:off x="1732320" y="565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8900000">
              <a:off x="1944360" y="570348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8900000">
              <a:off x="1936440" y="5843880"/>
              <a:ext cx="1018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18900000">
              <a:off x="2057040" y="5929560"/>
              <a:ext cx="1262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8900000">
              <a:off x="3254400" y="558828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8900000">
              <a:off x="3519360" y="56289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8900000">
              <a:off x="3648240" y="57128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8900000">
              <a:off x="4147920" y="56548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8900000">
              <a:off x="4495320" y="564624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8900000">
              <a:off x="5022360" y="557532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8900000">
              <a:off x="5128560" y="5672160"/>
              <a:ext cx="53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8900000">
              <a:off x="5437440" y="5691240"/>
              <a:ext cx="576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8900000">
              <a:off x="5965920" y="5616000"/>
              <a:ext cx="37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8900000">
              <a:off x="6221880" y="5644080"/>
              <a:ext cx="47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8900000">
              <a:off x="6495480" y="568008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8900000">
              <a:off x="6778440" y="570600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8900000">
              <a:off x="7193520" y="56696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8900000">
              <a:off x="7538760" y="5671800"/>
              <a:ext cx="540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8900000">
              <a:off x="7836840" y="5697720"/>
              <a:ext cx="59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8900000">
              <a:off x="8480520" y="5572800"/>
              <a:ext cx="25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66600" y="330228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33240" y="973080"/>
              <a:ext cx="1564200" cy="218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278600" y="1039320"/>
              <a:ext cx="268920" cy="878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577760" y="1005120"/>
              <a:ext cx="42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43680" y="1082520"/>
              <a:ext cx="27036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42680" y="1046160"/>
              <a:ext cx="68760" cy="7488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1" y="0"/>
                  </a:moveTo>
                  <a:lnTo>
                    <a:pt x="41" y="17"/>
                  </a:lnTo>
                  <a:lnTo>
                    <a:pt x="21" y="35"/>
                  </a:lnTo>
                  <a:lnTo>
                    <a:pt x="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42840" y="1005120"/>
              <a:ext cx="25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Los Sistemas de Justicia de América Latina han experimentado cambios notables en los últimos 10 años, que han aumentado su importancia, poder e independencia y han mejorado los servicios que entreg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8400" y="655560"/>
            <a:ext cx="9015480" cy="6044400"/>
            <a:chOff x="68400" y="655560"/>
            <a:chExt cx="9015480" cy="6044400"/>
          </a:xfrm>
        </p:grpSpPr>
        <p:sp>
          <p:nvSpPr>
            <p:cNvPr id="310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187280" y="47260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187280" y="42181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187280" y="37116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87280" y="32036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87280" y="269568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87280" y="218772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87280" y="168120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87280" y="1173240"/>
              <a:ext cx="7799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7280" y="1173240"/>
              <a:ext cx="7799400" cy="40590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68280" y="4060800"/>
              <a:ext cx="106560" cy="1171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36840" y="4432320"/>
              <a:ext cx="106200" cy="799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5040" y="4187880"/>
              <a:ext cx="106200" cy="1044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073240" y="4122720"/>
              <a:ext cx="109440" cy="1109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344680" y="4348080"/>
              <a:ext cx="106560" cy="8841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12880" y="4132440"/>
              <a:ext cx="106560" cy="10998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51080" y="4840200"/>
              <a:ext cx="106560" cy="392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19640" y="4721400"/>
              <a:ext cx="106200" cy="5108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87840" y="4599000"/>
              <a:ext cx="106200" cy="633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56040" y="4535640"/>
              <a:ext cx="109440" cy="696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7480" y="4508640"/>
              <a:ext cx="106560" cy="723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95680" y="4459320"/>
              <a:ext cx="106560" cy="7729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764240" y="4354560"/>
              <a:ext cx="107640" cy="877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33880" y="4332240"/>
              <a:ext cx="106560" cy="9000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302080" y="4313160"/>
              <a:ext cx="106560" cy="9190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70640" y="4299120"/>
              <a:ext cx="108000" cy="9331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840280" y="4248000"/>
              <a:ext cx="106560" cy="9842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08840" y="4165560"/>
              <a:ext cx="107640" cy="10666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8480" y="4114800"/>
              <a:ext cx="106560" cy="1117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647040" y="4103640"/>
              <a:ext cx="107640" cy="11286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16680" y="3913200"/>
              <a:ext cx="106560" cy="13190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184880" y="3849840"/>
              <a:ext cx="106560" cy="1382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53440" y="3836880"/>
              <a:ext cx="108000" cy="13953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23080" y="3797280"/>
              <a:ext cx="106560" cy="143496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91640" y="3760920"/>
              <a:ext cx="107640" cy="1471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61280" y="3733920"/>
              <a:ext cx="106560" cy="14983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529480" y="3660840"/>
              <a:ext cx="108000" cy="157140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799480" y="1530360"/>
              <a:ext cx="106560" cy="370188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187280" y="1173240"/>
              <a:ext cx="1800" cy="4059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46240" y="5232240"/>
              <a:ext cx="41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46240" y="47260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146240" y="42181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6240" y="37116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6240" y="32036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46240" y="269568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46240" y="218772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146240" y="168120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6240" y="1173240"/>
              <a:ext cx="41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187280" y="5232240"/>
              <a:ext cx="77994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1187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1455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1724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19922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263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2532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2800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070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338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606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87504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146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14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683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9528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221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5489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759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027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97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5660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835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1042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73724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76420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9106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1802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8448840" y="5232240"/>
              <a:ext cx="144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7184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8986680" y="5232240"/>
              <a:ext cx="1800" cy="4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80440" y="662040"/>
              <a:ext cx="489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Número de días necesarios para hacer valer un contrato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41480" y="919080"/>
              <a:ext cx="133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cc"/>
                  </a:solidFill>
                  <a:latin typeface="Times New Roman"/>
                </a:rPr>
                <a:t>Banco Mundi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228680" y="3825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6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97240" y="4197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765440" y="39528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035440" y="38876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305080" y="4113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573280" y="389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480" y="4605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380040" y="44863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48240" y="43639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917880" y="4300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7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87880" y="4273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8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56080" y="42242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726080" y="4119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94280" y="4097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62840" y="4078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32480" y="40640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00680" y="4013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240" y="39304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2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38880" y="387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08880" y="3868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7080" y="3678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45280" y="3614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415280" y="3602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83480" y="35622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6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2040" y="3525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21680" y="3498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491680" y="3425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699040" y="12952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.45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10520" y="51483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61480" y="46418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61480" y="41338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1480" y="3627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61480" y="3119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6240" y="26114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6240" y="210348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2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6240" y="159696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4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86240" y="1089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6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8900000">
              <a:off x="-129240" y="5909760"/>
              <a:ext cx="179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mérica Latina y el Carib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8900000">
              <a:off x="151200" y="5901480"/>
              <a:ext cx="1777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oriental y del pací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8900000">
              <a:off x="656640" y="5805000"/>
              <a:ext cx="147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Europa y asia Cent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900000">
              <a:off x="1041480" y="5756040"/>
              <a:ext cx="1317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Medio Este y Af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8900000">
              <a:off x="1675440" y="5606640"/>
              <a:ext cx="84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sia del su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8900000">
              <a:off x="1548720" y="5773320"/>
              <a:ext cx="135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ffcc"/>
                  </a:solidFill>
                  <a:latin typeface="Arial"/>
                </a:rPr>
                <a:t>Africa subsahari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900000">
              <a:off x="2592360" y="556200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900000">
              <a:off x="2957400" y="552420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18900000">
              <a:off x="2840760" y="568260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18900000">
              <a:off x="3338640" y="558576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900000">
              <a:off x="3705120" y="55447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18900000">
              <a:off x="4206240" y="54478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8900000">
              <a:off x="4330800" y="551196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00000">
              <a:off x="4572360" y="552240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8900000">
              <a:off x="4781880" y="554652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18900000">
              <a:off x="5309280" y="543672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8900000">
              <a:off x="5380560" y="552096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900000">
              <a:off x="5715000" y="549540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8900000">
              <a:off x="6108480" y="54417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8900000">
              <a:off x="6072480" y="556812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900000">
              <a:off x="6392880" y="554760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8900000">
              <a:off x="6653520" y="555264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18900000">
              <a:off x="6859080" y="55782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8900000">
              <a:off x="7407720" y="546048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900000">
              <a:off x="6792840" y="58320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900000">
              <a:off x="7897320" y="548136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8900000">
              <a:off x="8066880" y="552096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900000">
              <a:off x="8200800" y="557964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19440" y="65556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Dí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182520" y="304920"/>
            <a:ext cx="8812080" cy="6378120"/>
            <a:chOff x="182520" y="304920"/>
            <a:chExt cx="8812080" cy="6378120"/>
          </a:xfrm>
        </p:grpSpPr>
        <p:sp>
          <p:nvSpPr>
            <p:cNvPr id="460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3320" y="1187280"/>
              <a:ext cx="8259840" cy="42008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880" y="4890960"/>
              <a:ext cx="144360" cy="497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00240" y="4470480"/>
              <a:ext cx="142920" cy="91764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58800" y="4432320"/>
              <a:ext cx="142920" cy="955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916280" y="4395960"/>
              <a:ext cx="144360" cy="9921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276640" y="4203720"/>
              <a:ext cx="144360" cy="1184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635200" y="3975120"/>
              <a:ext cx="144360" cy="1413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95560" y="3708360"/>
              <a:ext cx="142920" cy="1679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354480" y="3630600"/>
              <a:ext cx="144360" cy="17575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13040" y="3440160"/>
              <a:ext cx="142920" cy="1947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71960" y="3247920"/>
              <a:ext cx="144360" cy="21402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430880" y="3135240"/>
              <a:ext cx="144360" cy="22528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791240" y="3095640"/>
              <a:ext cx="142560" cy="22924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49800" y="3021120"/>
              <a:ext cx="144360" cy="23670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508720" y="2981160"/>
              <a:ext cx="144360" cy="24069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869080" y="2943360"/>
              <a:ext cx="142920" cy="24447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226200" y="2905200"/>
              <a:ext cx="144360" cy="24829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86560" y="2867040"/>
              <a:ext cx="142920" cy="252108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945480" y="2790720"/>
              <a:ext cx="144360" cy="25974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304040" y="2714760"/>
              <a:ext cx="144360" cy="267336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4400" y="2674800"/>
              <a:ext cx="144360" cy="2713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23320" y="2065320"/>
              <a:ext cx="142920" cy="33228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381880" y="1720800"/>
              <a:ext cx="142920" cy="36673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740800" y="1568520"/>
              <a:ext cx="144360" cy="381960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33320" y="1187280"/>
              <a:ext cx="1800" cy="4200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3720" y="53881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93720" y="50054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93720" y="462276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93720" y="42418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93720" y="38606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93720" y="34783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3720" y="309564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3720" y="271476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93720" y="233208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93720" y="1951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3720" y="156852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93720" y="118728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3320" y="5388120"/>
              <a:ext cx="8259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333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1092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1452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18097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21700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25290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8875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2479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606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96540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43243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46832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50436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54021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576252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61196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64785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83892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19784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55820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91676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827388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8634240" y="5343120"/>
              <a:ext cx="180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993160" y="5343120"/>
              <a:ext cx="1440" cy="87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12960" y="2370240"/>
              <a:ext cx="7900920" cy="2751120"/>
            </a:xfrm>
            <a:custGeom>
              <a:avLst/>
              <a:gdLst/>
              <a:ahLst/>
              <a:rect l="l" t="t" r="r" b="b"/>
              <a:pathLst>
                <a:path w="4880" h="1569">
                  <a:moveTo>
                    <a:pt x="0" y="1503"/>
                  </a:moveTo>
                  <a:lnTo>
                    <a:pt x="222" y="1285"/>
                  </a:lnTo>
                  <a:lnTo>
                    <a:pt x="444" y="1569"/>
                  </a:lnTo>
                  <a:lnTo>
                    <a:pt x="665" y="1198"/>
                  </a:lnTo>
                  <a:lnTo>
                    <a:pt x="887" y="850"/>
                  </a:lnTo>
                  <a:lnTo>
                    <a:pt x="1109" y="915"/>
                  </a:lnTo>
                  <a:lnTo>
                    <a:pt x="1331" y="828"/>
                  </a:lnTo>
                  <a:lnTo>
                    <a:pt x="1553" y="697"/>
                  </a:lnTo>
                  <a:lnTo>
                    <a:pt x="1775" y="436"/>
                  </a:lnTo>
                  <a:lnTo>
                    <a:pt x="1996" y="719"/>
                  </a:lnTo>
                  <a:lnTo>
                    <a:pt x="2218" y="675"/>
                  </a:lnTo>
                  <a:lnTo>
                    <a:pt x="2440" y="523"/>
                  </a:lnTo>
                  <a:lnTo>
                    <a:pt x="2662" y="414"/>
                  </a:lnTo>
                  <a:lnTo>
                    <a:pt x="2884" y="218"/>
                  </a:lnTo>
                  <a:lnTo>
                    <a:pt x="3105" y="654"/>
                  </a:lnTo>
                  <a:lnTo>
                    <a:pt x="3327" y="458"/>
                  </a:lnTo>
                  <a:lnTo>
                    <a:pt x="3549" y="305"/>
                  </a:lnTo>
                  <a:lnTo>
                    <a:pt x="3771" y="283"/>
                  </a:lnTo>
                  <a:lnTo>
                    <a:pt x="3993" y="174"/>
                  </a:lnTo>
                  <a:lnTo>
                    <a:pt x="4215" y="479"/>
                  </a:lnTo>
                  <a:lnTo>
                    <a:pt x="4436" y="153"/>
                  </a:lnTo>
                  <a:lnTo>
                    <a:pt x="4658" y="109"/>
                  </a:lnTo>
                  <a:lnTo>
                    <a:pt x="4880" y="0"/>
                  </a:lnTo>
                </a:path>
              </a:pathLst>
            </a:custGeom>
            <a:noFill/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79480" y="496872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238400" y="458640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598760" y="508464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55880" y="443376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314440" y="382428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674800" y="393696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33720" y="37846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394080" y="355608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753000" y="3097080"/>
              <a:ext cx="6804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110120" y="359424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70480" y="3516480"/>
              <a:ext cx="6804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3"/>
                  </a:lnTo>
                  <a:lnTo>
                    <a:pt x="21" y="47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29040" y="324972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4"/>
                  </a:lnTo>
                  <a:lnTo>
                    <a:pt x="22" y="47"/>
                  </a:lnTo>
                  <a:lnTo>
                    <a:pt x="0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189400" y="3059280"/>
              <a:ext cx="66960" cy="7272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548320" y="27162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905440" y="347976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65800" y="3137040"/>
              <a:ext cx="6840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24720" y="2868480"/>
              <a:ext cx="6804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985080" y="2828880"/>
              <a:ext cx="66600" cy="74520"/>
            </a:xfrm>
            <a:custGeom>
              <a:avLst/>
              <a:gdLst/>
              <a:ahLst/>
              <a:rect l="l" t="t" r="r" b="b"/>
              <a:pathLst>
                <a:path w="42" h="47">
                  <a:moveTo>
                    <a:pt x="21" y="0"/>
                  </a:moveTo>
                  <a:lnTo>
                    <a:pt x="42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343640" y="263844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702560" y="3173400"/>
              <a:ext cx="68400" cy="7308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2" y="0"/>
                  </a:moveTo>
                  <a:lnTo>
                    <a:pt x="43" y="23"/>
                  </a:lnTo>
                  <a:lnTo>
                    <a:pt x="22" y="46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61480" y="2602080"/>
              <a:ext cx="68040" cy="7272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21" y="0"/>
                  </a:moveTo>
                  <a:lnTo>
                    <a:pt x="43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420040" y="252396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2" y="0"/>
                  </a:moveTo>
                  <a:lnTo>
                    <a:pt x="43" y="23"/>
                  </a:lnTo>
                  <a:lnTo>
                    <a:pt x="22" y="47"/>
                  </a:lnTo>
                  <a:lnTo>
                    <a:pt x="0" y="23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780400" y="233352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42" y="23"/>
                  </a:lnTo>
                  <a:lnTo>
                    <a:pt x="21" y="46"/>
                  </a:lnTo>
                  <a:lnTo>
                    <a:pt x="0" y="2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730960" y="304920"/>
              <a:ext cx="423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Lugar a nivel mundial de control de la corrupción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67560" y="525600"/>
              <a:ext cx="3499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cc"/>
                  </a:solidFill>
                  <a:latin typeface="Arial"/>
                </a:rPr>
                <a:t>Informe de competitividad mundial, 2004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58000" y="5303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760" y="4921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2760" y="4538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2760" y="41576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2760" y="3776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2760" y="33940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2760" y="30114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2760" y="2630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2760" y="22478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2760" y="1866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07520" y="148428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07520" y="11034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18900000">
              <a:off x="570960" y="5601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h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8900000">
              <a:off x="372240" y="5836680"/>
              <a:ext cx="107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stados Uni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8900000">
              <a:off x="1144800" y="5665320"/>
              <a:ext cx="53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anad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18900000">
              <a:off x="1472400" y="5675040"/>
              <a:ext cx="57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Uru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900000">
              <a:off x="1676520" y="5741280"/>
              <a:ext cx="782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l Salv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900000">
              <a:off x="2384280" y="5595480"/>
              <a:ext cx="32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erú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900000">
              <a:off x="2494440" y="57002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lomb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18900000">
              <a:off x="2980080" y="5649120"/>
              <a:ext cx="48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Méx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8900000">
              <a:off x="3137760" y="573228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Costa 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8900000">
              <a:off x="3775680" y="5614560"/>
              <a:ext cx="38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ras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8900000">
              <a:off x="3483000" y="5887440"/>
              <a:ext cx="123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Trinidad y Tobag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18900000">
              <a:off x="4350240" y="567648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nam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8900000">
              <a:off x="4611240" y="5716080"/>
              <a:ext cx="697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Nicaragu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18900000">
              <a:off x="5069520" y="5675040"/>
              <a:ext cx="57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Ecuad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8900000">
              <a:off x="5425920" y="5678280"/>
              <a:ext cx="56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Jama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18900000">
              <a:off x="5722920" y="570312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Argent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18900000">
              <a:off x="6029640" y="5722200"/>
              <a:ext cx="72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Venezue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8900000">
              <a:off x="6367320" y="5735160"/>
              <a:ext cx="749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Guatemal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18900000">
              <a:off x="6959160" y="5635440"/>
              <a:ext cx="45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Boli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8900000">
              <a:off x="6483240" y="598608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República Dominic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18900000">
              <a:off x="7520040" y="5699880"/>
              <a:ext cx="65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Paragua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18900000">
              <a:off x="7869240" y="5706360"/>
              <a:ext cx="663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ondur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18900000">
              <a:off x="8498520" y="559080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Hait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16200000">
              <a:off x="61560" y="3185640"/>
              <a:ext cx="424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cc"/>
                  </a:solidFill>
                  <a:latin typeface="Arial"/>
                </a:rPr>
                <a:t>L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3680" y="1343160"/>
              <a:ext cx="156348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7960" y="1409760"/>
              <a:ext cx="270000" cy="87120"/>
            </a:xfrm>
            <a:prstGeom prst="rect">
              <a:avLst/>
            </a:prstGeom>
            <a:solidFill>
              <a:srgbClr val="9933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326120" y="1374840"/>
              <a:ext cx="56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3-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883040" y="1454040"/>
              <a:ext cx="270000" cy="180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983120" y="1415880"/>
              <a:ext cx="68400" cy="7488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1" y="0"/>
                  </a:moveTo>
                  <a:lnTo>
                    <a:pt x="43" y="24"/>
                  </a:lnTo>
                  <a:lnTo>
                    <a:pt x="21" y="47"/>
                  </a:lnTo>
                  <a:lnTo>
                    <a:pt x="0" y="2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98760" y="137484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¿Cómo explicar esta dis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9528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yores atribuciones implican mayores demandas y un alza en las expectativas, todo lo cual evidencia con más claridad los problemas de los sistemas jud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Los sistemas judiciales tienen un agudo problema para relacionarse con los ciudadanos: entregar información, participar en el debate público, etc. (diferencias entre experiencias y percepcio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Mala calidad de la política y volubilidad del apoyo político a los procesos de refor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de las refor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ffffcc"/>
                </a:solidFill>
                <a:latin typeface="Arial"/>
              </a:rPr>
              <a:t>De diseño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Unidimensionalismo: muchas de las reformas se agotan en los temas “jurídicos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Cooptación de la comunidad lega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Poco espacio para la Innov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Desarrollo técnico parcial: sólo principios o ideas generales, incapaces de reemplazar práctica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Reformas descoordinadas: rol de la cooperación internacional (cada uno con su agend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ffffcc"/>
                </a:solidFill>
                <a:latin typeface="Arial"/>
              </a:rPr>
              <a:t>De estrategia: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 la integralidad: listado de supermercado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ffffcc"/>
                </a:solidFill>
                <a:latin typeface="Arial"/>
              </a:rPr>
              <a:t>Versus reformas parciales (Ej. Gestión y Reforma Procesal Pena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Trampa del consenso: reformas </a:t>
            </a: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sin los jueces (que no pueden implementarse)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de los jueces (que no cambian nad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Trampa de los Planes Pilot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Versus reformas gradu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cc"/>
                </a:solidFill>
                <a:latin typeface="Arial"/>
              </a:rPr>
              <a:t>Problema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300" spc="-1" strike="noStrike">
                <a:solidFill>
                  <a:srgbClr val="ffffcc"/>
                </a:solidFill>
                <a:latin typeface="Arial"/>
              </a:rPr>
              <a:t>De implementación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Liderazgos poco adecuados: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Problemas de gobierno judici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ffffcc"/>
                </a:solidFill>
                <a:latin typeface="Arial"/>
              </a:rPr>
              <a:t>Cooptación por las cúpulas de los Sistemas Judicia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ffffcc"/>
                </a:solidFill>
                <a:latin typeface="Arial"/>
              </a:rPr>
              <a:t>Falta de apoyo político: Desaparición de las fuentes de apoyo iniciales: Gobierno, Parlamento, Medios de Comunicación, Sociedad Civil (¿Quién es el cliente?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900" spc="-1" strike="noStrike">
                <a:solidFill>
                  <a:srgbClr val="ffffcc"/>
                </a:solidFill>
                <a:latin typeface="Arial"/>
              </a:rPr>
              <a:t>Falta de información, seguimiento y evaluació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2085120" y="4815000"/>
            <a:ext cx="500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ww.cejamericas.or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68016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aumentado sus compet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268280"/>
          <a:ext cx="8136000" cy="5230800"/>
        </p:xfrm>
        <a:graphic>
          <a:graphicData uri="http://schemas.openxmlformats.org/drawingml/2006/table">
            <a:tbl>
              <a:tblPr/>
              <a:tblGrid>
                <a:gridCol w="2720880"/>
                <a:gridCol w="2754360"/>
                <a:gridCol w="26607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RIBUNAL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SALA CONSTITUCIO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cc"/>
                </a:solidFill>
                <a:latin typeface="Arial"/>
              </a:rPr>
              <a:t>Han reformado sus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68360" y="1341360"/>
          <a:ext cx="8229600" cy="5372280"/>
        </p:xfrm>
        <a:graphic>
          <a:graphicData uri="http://schemas.openxmlformats.org/drawingml/2006/table">
            <a:tbl>
              <a:tblPr/>
              <a:tblGrid>
                <a:gridCol w="2330280"/>
                <a:gridCol w="1820880"/>
                <a:gridCol w="2282760"/>
                <a:gridCol w="179568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iene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inquisi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ó a sistem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cusato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stá en vía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ambiar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nam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920" y="115560"/>
            <a:ext cx="77263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Están invirtiendo en mejorar su gestión</a:t>
            </a:r>
            <a:br>
              <a:rPr sz="3200"/>
            </a:br>
            <a:r>
              <a:rPr b="1" lang="es-MX" sz="1400" spc="-1" strike="noStrike">
                <a:solidFill>
                  <a:srgbClr val="ffffcc"/>
                </a:solidFill>
                <a:latin typeface="Arial"/>
              </a:rPr>
              <a:t>En Millones de dólares. Créditos cerrados y en ejecución últimos 10 añ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74680" y="1197000"/>
          <a:ext cx="6926400" cy="5549760"/>
        </p:xfrm>
        <a:graphic>
          <a:graphicData uri="http://schemas.openxmlformats.org/drawingml/2006/table">
            <a:tbl>
              <a:tblPr/>
              <a:tblGrid>
                <a:gridCol w="2476800"/>
                <a:gridCol w="1846080"/>
                <a:gridCol w="1301760"/>
                <a:gridCol w="130176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anco Mundi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I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5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4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2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8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2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5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0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3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6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15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44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661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aíses con presupuestos constitucionalmente o por ley garantizad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sta 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l Salv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Nicar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ragu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anam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Puerto R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República Dominic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Venezu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Muchos han logrado estabilidad presupues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-36720" y="126828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Los presupuestos judiciales han </a:t>
            </a:r>
            <a:br>
              <a:rPr sz="3200"/>
            </a:b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crecido </a:t>
            </a:r>
            <a:r>
              <a:rPr b="1" lang="es-MX" sz="2800" spc="-1" strike="noStrike">
                <a:solidFill>
                  <a:srgbClr val="ffffcc"/>
                </a:solidFill>
                <a:latin typeface="Arial"/>
              </a:rPr>
              <a:t>(dólares per cáp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457200" y="1600200"/>
          <a:ext cx="8229600" cy="4929120"/>
        </p:xfrm>
        <a:graphic>
          <a:graphicData uri="http://schemas.openxmlformats.org/drawingml/2006/table">
            <a:tbl>
              <a:tblPr/>
              <a:tblGrid>
                <a:gridCol w="2081160"/>
                <a:gridCol w="2121120"/>
                <a:gridCol w="1811160"/>
                <a:gridCol w="221616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3-2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% Vari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rgenti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58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-24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635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Brasil (feder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3,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1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23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9,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,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6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uerto R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5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5,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pública Dominic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55,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med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1,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Nuevos mecanismos de selección de Magistrados de Cortes Supremas (República Dominicana y Argent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Rol de las Escuelas Judiciales en las políticas de personal (Chile y Colomb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Políticas para la disminución de la provisionalidad de los jueces (Per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Mejoras en las remuneraciones judi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os casos de Ecuador y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3240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Han mejorado sus sistemas de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lección y la estabilidad en los carg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-36720" y="119700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519120" y="1125360"/>
          <a:ext cx="8229600" cy="5548320"/>
        </p:xfrm>
        <a:graphic>
          <a:graphicData uri="http://schemas.openxmlformats.org/drawingml/2006/table">
            <a:tbl>
              <a:tblPr/>
              <a:tblGrid>
                <a:gridCol w="3521160"/>
                <a:gridCol w="4708440"/>
              </a:tblGrid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Í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ño creación Escuela Judi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Argentina (Distintas provinci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2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oli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Desde década de los 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h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lomb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 (actu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Costa 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cu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El Salv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Guatema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Hond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México (Feder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Nicaragu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ara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Rep. Dominic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Urugu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19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Venezue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cc"/>
                          </a:solidFill>
                          <a:latin typeface="Arial"/>
                          <a:ea typeface="Arial"/>
                        </a:rPr>
                        <a:t>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67690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Se están preocupando de capacitar </a:t>
            </a:r>
            <a:br>
              <a:rPr sz="3000"/>
            </a:br>
            <a:r>
              <a:rPr b="1" lang="es-MX" sz="3000" spc="-1" strike="noStrike">
                <a:solidFill>
                  <a:srgbClr val="ffffcc"/>
                </a:solidFill>
                <a:latin typeface="Arial"/>
              </a:rPr>
              <a:t>a su perso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36720" y="1052640"/>
            <a:ext cx="8001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45320" y="0"/>
            <a:ext cx="149868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6:18:11Z</dcterms:created>
  <dc:creator>Juan Enrique Vargas </dc:creator>
  <dc:description/>
  <dc:language>en-US</dc:language>
  <cp:lastModifiedBy> </cp:lastModifiedBy>
  <dcterms:modified xsi:type="dcterms:W3CDTF">2007-11-12T13:57:21Z</dcterms:modified>
  <cp:revision>78</cp:revision>
  <dc:subject/>
  <dc:title>FINANCIAMIENTO PRIVADO DE LA JUSTIC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7814278</vt:r8>
  </property>
  <property fmtid="{D5CDD505-2E9C-101B-9397-08002B2CF9AE}" pid="3" name="_AuthorEmail">
    <vt:lpwstr>andrea.cabezon@cejamericas.org</vt:lpwstr>
  </property>
  <property fmtid="{D5CDD505-2E9C-101B-9397-08002B2CF9AE}" pid="4" name="_AuthorEmailDisplayName">
    <vt:lpwstr>Andrea Cabezón</vt:lpwstr>
  </property>
  <property fmtid="{D5CDD505-2E9C-101B-9397-08002B2CF9AE}" pid="5" name="_EmailSubject">
    <vt:lpwstr>PPT SISTEMAS JUDICIALES</vt:lpwstr>
  </property>
  <property fmtid="{D5CDD505-2E9C-101B-9397-08002B2CF9AE}" pid="6" name="_ReviewingToolsShownOnce">
    <vt:lpwstr/>
  </property>
</Properties>
</file>