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5D2-CA65-41F3-AACC-975658DD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800-D5C9-4575-B6A1-4D80ADDE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647-4B42-494C-9E7B-7CA97BAA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533-DA9F-48A7-BF4D-117354AC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042-B638-4C75-9942-6A50BA2F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FE6-FCEC-4D45-BDCB-6BE368E9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EC7-29CA-4164-BA5E-A1BF9752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8A6-19B5-4D37-A741-F3BAE901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A52-3345-4C95-A2CD-2FFAEB08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464-D1B3-4E8E-A773-5C8FD734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8FA-B854-4212-A7CA-F3C1E8F4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B7A-5605-412D-B60F-E14227A7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536D-9C26-46D2-8DAD-B4C299EB0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05360"/>
            <a:ext cx="77738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Arial"/>
              </a:rPr>
              <a:t>REFORMAS A LA JUSTICIA </a:t>
            </a:r>
            <a:br>
              <a:rPr sz="3600"/>
            </a:br>
            <a:r>
              <a:rPr b="1" lang="es-CL" sz="3600" spc="-1" strike="noStrike">
                <a:solidFill>
                  <a:srgbClr val="ffffcc"/>
                </a:solidFill>
                <a:latin typeface="Arial"/>
              </a:rPr>
              <a:t>EN LAS AMÉ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3840" y="5734080"/>
            <a:ext cx="8642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¿Mejoran Nuestros Sistemas Judicia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0786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aumentado su co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5280" y="1341360"/>
          <a:ext cx="8497800" cy="5280120"/>
        </p:xfrm>
        <a:graphic>
          <a:graphicData uri="http://schemas.openxmlformats.org/drawingml/2006/table">
            <a:tbl>
              <a:tblPr/>
              <a:tblGrid>
                <a:gridCol w="2530440"/>
                <a:gridCol w="1494000"/>
                <a:gridCol w="1520640"/>
                <a:gridCol w="1462320"/>
                <a:gridCol w="14904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ro. jueces cada 100.000 habit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íodo de la 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rgentina (PJ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6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,0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,0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México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icarag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5,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4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rome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5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43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a aumentado sustantivamente la demanda por sus servicios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ffffcc"/>
                </a:solidFill>
                <a:latin typeface="Arial"/>
              </a:rPr>
              <a:t>Índice de litigiosidad 2005/2006 (Número de causas ingresadas por cada 100.000 habit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7760" cy="4522680"/>
        </p:xfrm>
        <a:graphic>
          <a:graphicData uri="http://schemas.openxmlformats.org/drawingml/2006/table">
            <a:tbl>
              <a:tblPr/>
              <a:tblGrid>
                <a:gridCol w="4037760"/>
              </a:tblGrid>
              <a:tr h="452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268280"/>
          <a:ext cx="911232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123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flipH="1">
            <a:off x="-360" y="1413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208480" y="2254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sido capaces de aumentar su capacidad de 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26120" y="1422360"/>
            <a:ext cx="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99320" y="1542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1628640"/>
          <a:ext cx="7272360" cy="4432320"/>
        </p:xfrm>
        <a:graphic>
          <a:graphicData uri="http://schemas.openxmlformats.org/drawingml/2006/table">
            <a:tbl>
              <a:tblPr/>
              <a:tblGrid>
                <a:gridCol w="3095640"/>
                <a:gridCol w="2849760"/>
                <a:gridCol w="1326960"/>
              </a:tblGrid>
              <a:tr h="39888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ASA DE RESOL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(casos resueltos / casos ingresad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uerto 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3120" y="18874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N EMBARGO, estos cambios no son percibidos por nuestros ciudadanos quienes siguen teniendo una mala imagen y desconfianza sobre el funcionamiento del sistema jud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4880" y="616572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Latinobar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Niveles preocupantes de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desconfianza respecto a la justi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-1549440" y="1557360"/>
          <a:ext cx="11880720" cy="48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49440" y="1557360"/>
                    <a:ext cx="1188072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4400" y="43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Evolución de la confianza en el Poder</a:t>
            </a:r>
            <a:br>
              <a:rPr sz="2800"/>
            </a:b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Judicial Sudamérica, entre 2003 y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1300320"/>
          <a:ext cx="9129600" cy="55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00320"/>
                    <a:ext cx="9129600" cy="55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0" y="6521400"/>
            <a:ext cx="14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993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volución de la confianza en el Poder Judicial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México, Centroamérica y el Caribe,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ntre 2003 y 200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7360" y="1125360"/>
          <a:ext cx="9026640" cy="589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125360"/>
                    <a:ext cx="90266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flipH="1">
            <a:off x="-36720" y="134136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1800" y="64911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A lo anterior hay que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corrupción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sistema discriminatorio (pobres, género, otros sectores vulnera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onstantemente los ciudadanos señalan dentro de sus principales problemas los vinculados a la justicia y su seguridad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0"/>
          <a:ext cx="91868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86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87560" y="244800"/>
            <a:ext cx="8798040" cy="6261840"/>
            <a:chOff x="187560" y="244800"/>
            <a:chExt cx="8798040" cy="6261840"/>
          </a:xfrm>
        </p:grpSpPr>
        <p:sp>
          <p:nvSpPr>
            <p:cNvPr id="122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8760" y="4768200"/>
              <a:ext cx="137520" cy="609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93280" y="4445640"/>
              <a:ext cx="137520" cy="9320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39240" y="4338720"/>
              <a:ext cx="139320" cy="1039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85560" y="4194360"/>
              <a:ext cx="137520" cy="118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29720" y="3657600"/>
              <a:ext cx="137520" cy="1720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75680" y="3548160"/>
              <a:ext cx="135720" cy="1829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0200" y="3476880"/>
              <a:ext cx="137880" cy="190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64360" y="3333240"/>
              <a:ext cx="137880" cy="20444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08880" y="3118320"/>
              <a:ext cx="139320" cy="2259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6640" y="3081960"/>
              <a:ext cx="135720" cy="2295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01160" y="2796120"/>
              <a:ext cx="137520" cy="2581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45680" y="2723400"/>
              <a:ext cx="137520" cy="2654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89840" y="2652480"/>
              <a:ext cx="137520" cy="2725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35800" y="2542680"/>
              <a:ext cx="137880" cy="2835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80320" y="2364480"/>
              <a:ext cx="139320" cy="3013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26640" y="2330280"/>
              <a:ext cx="137520" cy="304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70800" y="2186280"/>
              <a:ext cx="137520" cy="3191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6760" y="1969560"/>
              <a:ext cx="137880" cy="3408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61280" y="1898280"/>
              <a:ext cx="137880" cy="3479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05800" y="1864440"/>
              <a:ext cx="137880" cy="3513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49960" y="1827720"/>
              <a:ext cx="139320" cy="3549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97720" y="1791360"/>
              <a:ext cx="137520" cy="3586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742240" y="1720080"/>
              <a:ext cx="137520" cy="3657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46160" y="1432440"/>
              <a:ext cx="1440" cy="394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46160" y="5378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46160" y="53067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6160" y="52336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46160" y="51631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46160" y="5090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5019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46160" y="4946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46160" y="48772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46160" y="4804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46160" y="47336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46160" y="4660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46160" y="4590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46160" y="4516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46160" y="44456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46160" y="4372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46160" y="4302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46160" y="4231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46160" y="4158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46160" y="4087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6160" y="4014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46160" y="3943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46160" y="3872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46160" y="38012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6160" y="37281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46160" y="36576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6160" y="3584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46160" y="3513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6160" y="3440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46160" y="3369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46160" y="3296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46160" y="3225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46160" y="3152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46160" y="3081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46160" y="3008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46160" y="2938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46160" y="2867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46160" y="27961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46160" y="2723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46160" y="2652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46160" y="2579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46160" y="2508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46160" y="243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46160" y="23644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46160" y="2293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46160" y="2220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46160" y="2149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46160" y="20768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46160" y="2005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46160" y="1932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46160" y="1864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46160" y="1791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46160" y="1720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46160" y="1647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46160" y="1576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46160" y="1503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46160" y="14324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04400" y="5378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04400" y="501948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04400" y="4660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04400" y="430200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04400" y="394308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04400" y="358452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04400" y="322560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04400" y="2867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04400" y="25088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04400" y="2149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04400" y="179136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04400" y="143244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46160" y="5378040"/>
              <a:ext cx="793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04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39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735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0811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4274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7716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11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46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80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15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4967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84128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1876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531760" y="5335200"/>
              <a:ext cx="1440" cy="87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87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22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5685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912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2572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603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7947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29332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378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984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19320" y="2508840"/>
              <a:ext cx="7589880" cy="2368440"/>
            </a:xfrm>
            <a:custGeom>
              <a:avLst/>
              <a:gdLst/>
              <a:ahLst/>
              <a:rect l="l" t="t" r="r" b="b"/>
              <a:pathLst>
                <a:path w="4689" h="1351">
                  <a:moveTo>
                    <a:pt x="0" y="1330"/>
                  </a:moveTo>
                  <a:lnTo>
                    <a:pt x="213" y="1351"/>
                  </a:lnTo>
                  <a:lnTo>
                    <a:pt x="426" y="1146"/>
                  </a:lnTo>
                  <a:lnTo>
                    <a:pt x="639" y="1207"/>
                  </a:lnTo>
                  <a:lnTo>
                    <a:pt x="852" y="757"/>
                  </a:lnTo>
                  <a:lnTo>
                    <a:pt x="1065" y="778"/>
                  </a:lnTo>
                  <a:lnTo>
                    <a:pt x="1279" y="491"/>
                  </a:lnTo>
                  <a:lnTo>
                    <a:pt x="1492" y="716"/>
                  </a:lnTo>
                  <a:lnTo>
                    <a:pt x="1705" y="368"/>
                  </a:lnTo>
                  <a:lnTo>
                    <a:pt x="1918" y="450"/>
                  </a:lnTo>
                  <a:lnTo>
                    <a:pt x="2131" y="573"/>
                  </a:lnTo>
                  <a:lnTo>
                    <a:pt x="2345" y="552"/>
                  </a:lnTo>
                  <a:lnTo>
                    <a:pt x="2558" y="430"/>
                  </a:lnTo>
                  <a:lnTo>
                    <a:pt x="2771" y="327"/>
                  </a:lnTo>
                  <a:lnTo>
                    <a:pt x="2984" y="225"/>
                  </a:lnTo>
                  <a:lnTo>
                    <a:pt x="3197" y="205"/>
                  </a:lnTo>
                  <a:lnTo>
                    <a:pt x="3410" y="41"/>
                  </a:lnTo>
                  <a:lnTo>
                    <a:pt x="3624" y="102"/>
                  </a:lnTo>
                  <a:lnTo>
                    <a:pt x="3837" y="20"/>
                  </a:lnTo>
                  <a:lnTo>
                    <a:pt x="4050" y="164"/>
                  </a:lnTo>
                  <a:lnTo>
                    <a:pt x="4263" y="82"/>
                  </a:lnTo>
                  <a:lnTo>
                    <a:pt x="4476" y="61"/>
                  </a:lnTo>
                  <a:lnTo>
                    <a:pt x="4689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84040" y="480240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30000" y="4841280"/>
              <a:ext cx="66960" cy="7236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74520" y="448020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9040" y="45874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200" y="37994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09160" y="3835800"/>
              <a:ext cx="6732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55480" y="333324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00000" y="3726360"/>
              <a:ext cx="6840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5960" y="311652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90120" y="32601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34640" y="34768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80600" y="34383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26920" y="322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71440" y="304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15600" y="28670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60120" y="28306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06080" y="2542680"/>
              <a:ext cx="6732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52400" y="265032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96560" y="250632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41080" y="275940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87040" y="26157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31560" y="25794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775720" y="247212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0920" y="244800"/>
              <a:ext cx="523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, de cumplimiento de convenios y ley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57040" y="500040"/>
              <a:ext cx="301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</a:t>
              </a: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9400" y="52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5240" y="4935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5240" y="4576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5240" y="4218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5240" y="3859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5240" y="3501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5240" y="31417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240" y="2783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5240" y="242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5240" y="2066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0720" y="1707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720" y="13485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327600" y="579852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1069200" y="564156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1554480" y="5583600"/>
              <a:ext cx="28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1732320" y="565056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1944360" y="570348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1936440" y="5843880"/>
              <a:ext cx="101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2057040" y="5929560"/>
              <a:ext cx="126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3254400" y="5588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3519360" y="56289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3648240" y="571284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8900000">
              <a:off x="4147920" y="56548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8900000">
              <a:off x="4495320" y="564624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8900000">
              <a:off x="5022360" y="557532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8900000">
              <a:off x="5128560" y="5672160"/>
              <a:ext cx="53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8900000">
              <a:off x="5437440" y="569124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8900000">
              <a:off x="5965920" y="561600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8900000">
              <a:off x="6221880" y="56440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900000">
              <a:off x="6495480" y="568008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900000">
              <a:off x="6778440" y="570600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8900000">
              <a:off x="7193520" y="566964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8900000">
              <a:off x="7538760" y="567180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900000">
              <a:off x="7836840" y="569772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8900000">
              <a:off x="8480520" y="55728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66600" y="33022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33240" y="973080"/>
              <a:ext cx="1564200" cy="218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78600" y="1039320"/>
              <a:ext cx="268920" cy="87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77760" y="1005120"/>
              <a:ext cx="42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43680" y="1082520"/>
              <a:ext cx="27036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42680" y="10461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7"/>
                  </a:lnTo>
                  <a:lnTo>
                    <a:pt x="21" y="35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42840" y="10051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os Sistemas de Justicia de América Latina han experimentado cambios notables en los últimos 10 años, que han aumentado su importancia, poder e independencia y han mejorado los servicios que entr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8400" y="655560"/>
            <a:ext cx="9015480" cy="6044400"/>
            <a:chOff x="68400" y="655560"/>
            <a:chExt cx="9015480" cy="6044400"/>
          </a:xfrm>
        </p:grpSpPr>
        <p:sp>
          <p:nvSpPr>
            <p:cNvPr id="310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87280" y="47260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87280" y="42181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7280" y="37116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87280" y="32036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87280" y="26956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87280" y="21877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87280" y="16812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87280" y="11732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68280" y="4060800"/>
              <a:ext cx="106560" cy="1171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36840" y="4432320"/>
              <a:ext cx="106200" cy="799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5040" y="4187880"/>
              <a:ext cx="106200" cy="1044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73240" y="4122720"/>
              <a:ext cx="109440" cy="1109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44680" y="4348080"/>
              <a:ext cx="106560" cy="8841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12880" y="4132440"/>
              <a:ext cx="106560" cy="10998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51080" y="4840200"/>
              <a:ext cx="106560" cy="392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19640" y="4721400"/>
              <a:ext cx="106200" cy="510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87840" y="4599000"/>
              <a:ext cx="106200" cy="633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56040" y="4535640"/>
              <a:ext cx="109440" cy="696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27480" y="4508640"/>
              <a:ext cx="106560" cy="723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95680" y="4459320"/>
              <a:ext cx="106560" cy="772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64240" y="4354560"/>
              <a:ext cx="107640" cy="877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33880" y="4332240"/>
              <a:ext cx="106560" cy="9000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02080" y="4313160"/>
              <a:ext cx="106560" cy="919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70640" y="4299120"/>
              <a:ext cx="108000" cy="933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40280" y="4248000"/>
              <a:ext cx="106560" cy="984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08840" y="4165560"/>
              <a:ext cx="107640" cy="1066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8480" y="4114800"/>
              <a:ext cx="106560" cy="1117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47040" y="4103640"/>
              <a:ext cx="107640" cy="1128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16680" y="3913200"/>
              <a:ext cx="106560" cy="1319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84880" y="3849840"/>
              <a:ext cx="106560" cy="1382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53440" y="3836880"/>
              <a:ext cx="108000" cy="1395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23080" y="3797280"/>
              <a:ext cx="106560" cy="1434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91640" y="3760920"/>
              <a:ext cx="107640" cy="1471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61280" y="3733920"/>
              <a:ext cx="106560" cy="1498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529480" y="3660840"/>
              <a:ext cx="108000" cy="1571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799480" y="1530360"/>
              <a:ext cx="106560" cy="37018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87280" y="1173240"/>
              <a:ext cx="1800" cy="40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46240" y="523224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46240" y="47260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46240" y="42181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46240" y="37116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6240" y="32036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46240" y="26956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46240" y="21877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46240" y="16812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46240" y="11732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87280" y="5232240"/>
              <a:ext cx="779940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187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455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724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9922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263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532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800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070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338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606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8750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146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14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683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9528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221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489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759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027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297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566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835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04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372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7642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910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8180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8448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8718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8986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80440" y="662040"/>
              <a:ext cx="489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Número de días necesarios para hacer valer un contrat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41480" y="919080"/>
              <a:ext cx="133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28680" y="3825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97240" y="4197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65440" y="39528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35440" y="3887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05080" y="4113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73280" y="389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480" y="4605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80040" y="4486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48240" y="43639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17880" y="4300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87880" y="4273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56080" y="4224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26080" y="4119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94280" y="4097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62840" y="4078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32480" y="4064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00680" y="4013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69240" y="3930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38880" y="387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08880" y="3868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77080" y="3678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45280" y="3614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15280" y="3602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83480" y="3562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2040" y="3525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21680" y="3498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491680" y="3425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699040" y="12952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4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10520" y="51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1480" y="4641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61480" y="41338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1480" y="362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61480" y="3119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6240" y="26114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6240" y="2103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6240" y="15969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6240" y="1089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8900000">
              <a:off x="-129240" y="5909760"/>
              <a:ext cx="179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mérica Latina y el Cari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8900000">
              <a:off x="151200" y="5901480"/>
              <a:ext cx="177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oriental y del pacíf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8900000">
              <a:off x="656640" y="5805000"/>
              <a:ext cx="147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Europa y asia Cent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8900000">
              <a:off x="1041480" y="5756040"/>
              <a:ext cx="131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Medio Este y Af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8900000">
              <a:off x="1675440" y="560664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del su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8900000">
              <a:off x="1548720" y="5773320"/>
              <a:ext cx="135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Africa subsahari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8900000">
              <a:off x="2592360" y="556200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8900000">
              <a:off x="2957400" y="55242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8900000">
              <a:off x="2840760" y="568260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8900000">
              <a:off x="3338640" y="558576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8900000">
              <a:off x="3705120" y="55447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8900000">
              <a:off x="4206240" y="54478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8900000">
              <a:off x="4330800" y="551196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00000">
              <a:off x="4572360" y="55224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8900000">
              <a:off x="4781880" y="554652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8900000">
              <a:off x="5309280" y="543672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8900000">
              <a:off x="5380560" y="552096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8900000">
              <a:off x="5715000" y="549540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8900000">
              <a:off x="6108480" y="54417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8900000">
              <a:off x="6072480" y="556812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900000">
              <a:off x="6392880" y="554760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8900000">
              <a:off x="6653520" y="55526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8900000">
              <a:off x="6859080" y="55782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8900000">
              <a:off x="7407720" y="546048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8900000">
              <a:off x="6792840" y="583200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8900000">
              <a:off x="7897320" y="548136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8900000">
              <a:off x="8066880" y="55209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900000">
              <a:off x="8200800" y="557964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19440" y="6555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D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182520" y="304920"/>
            <a:ext cx="8812080" cy="6378120"/>
            <a:chOff x="182520" y="304920"/>
            <a:chExt cx="8812080" cy="6378120"/>
          </a:xfrm>
        </p:grpSpPr>
        <p:sp>
          <p:nvSpPr>
            <p:cNvPr id="460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9880" y="4890960"/>
              <a:ext cx="144360" cy="497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00240" y="4470480"/>
              <a:ext cx="142920" cy="917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58800" y="4432320"/>
              <a:ext cx="142920" cy="955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16280" y="4395960"/>
              <a:ext cx="144360" cy="992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76640" y="4203720"/>
              <a:ext cx="144360" cy="1184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35200" y="3975120"/>
              <a:ext cx="144360" cy="1413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95560" y="3708360"/>
              <a:ext cx="142920" cy="1679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54480" y="3630600"/>
              <a:ext cx="144360" cy="1757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13040" y="3440160"/>
              <a:ext cx="142920" cy="1947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71960" y="3247920"/>
              <a:ext cx="144360" cy="2140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30880" y="3135240"/>
              <a:ext cx="144360" cy="2252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91240" y="3095640"/>
              <a:ext cx="142560" cy="2292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49800" y="3021120"/>
              <a:ext cx="144360" cy="2367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08720" y="2981160"/>
              <a:ext cx="144360" cy="2406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69080" y="2943360"/>
              <a:ext cx="142920" cy="2444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26200" y="2905200"/>
              <a:ext cx="144360" cy="2482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86560" y="2867040"/>
              <a:ext cx="142920" cy="2521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45480" y="2790720"/>
              <a:ext cx="144360" cy="259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04040" y="2714760"/>
              <a:ext cx="144360" cy="2673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64400" y="2674800"/>
              <a:ext cx="144360" cy="271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23320" y="2065320"/>
              <a:ext cx="142920" cy="3322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81880" y="1720800"/>
              <a:ext cx="142920" cy="3667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740800" y="1568520"/>
              <a:ext cx="144360" cy="3819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33320" y="1187280"/>
              <a:ext cx="1800" cy="420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3720" y="53881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3720" y="50054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3720" y="4622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3720" y="42418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3720" y="38606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3720" y="34783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3720" y="3095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3720" y="27147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3720" y="23320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3720" y="1951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3720" y="15685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3720" y="1187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3320" y="5388120"/>
              <a:ext cx="8259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333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1092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1452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18097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21700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5290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8875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2479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606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96540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43243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4683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043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4021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57625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61196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4785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68389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197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5582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9167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82738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86342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89931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12960" y="2370240"/>
              <a:ext cx="7900920" cy="2751120"/>
            </a:xfrm>
            <a:custGeom>
              <a:avLst/>
              <a:gdLst/>
              <a:ahLst/>
              <a:rect l="l" t="t" r="r" b="b"/>
              <a:pathLst>
                <a:path w="4880" h="1569">
                  <a:moveTo>
                    <a:pt x="0" y="1503"/>
                  </a:moveTo>
                  <a:lnTo>
                    <a:pt x="222" y="1285"/>
                  </a:lnTo>
                  <a:lnTo>
                    <a:pt x="444" y="1569"/>
                  </a:lnTo>
                  <a:lnTo>
                    <a:pt x="665" y="1198"/>
                  </a:lnTo>
                  <a:lnTo>
                    <a:pt x="887" y="850"/>
                  </a:lnTo>
                  <a:lnTo>
                    <a:pt x="1109" y="915"/>
                  </a:lnTo>
                  <a:lnTo>
                    <a:pt x="1331" y="828"/>
                  </a:lnTo>
                  <a:lnTo>
                    <a:pt x="1553" y="697"/>
                  </a:lnTo>
                  <a:lnTo>
                    <a:pt x="1775" y="436"/>
                  </a:lnTo>
                  <a:lnTo>
                    <a:pt x="1996" y="719"/>
                  </a:lnTo>
                  <a:lnTo>
                    <a:pt x="2218" y="675"/>
                  </a:lnTo>
                  <a:lnTo>
                    <a:pt x="2440" y="523"/>
                  </a:lnTo>
                  <a:lnTo>
                    <a:pt x="2662" y="414"/>
                  </a:lnTo>
                  <a:lnTo>
                    <a:pt x="2884" y="218"/>
                  </a:lnTo>
                  <a:lnTo>
                    <a:pt x="3105" y="654"/>
                  </a:lnTo>
                  <a:lnTo>
                    <a:pt x="3327" y="458"/>
                  </a:lnTo>
                  <a:lnTo>
                    <a:pt x="3549" y="305"/>
                  </a:lnTo>
                  <a:lnTo>
                    <a:pt x="3771" y="283"/>
                  </a:lnTo>
                  <a:lnTo>
                    <a:pt x="3993" y="174"/>
                  </a:lnTo>
                  <a:lnTo>
                    <a:pt x="4215" y="479"/>
                  </a:lnTo>
                  <a:lnTo>
                    <a:pt x="4436" y="153"/>
                  </a:lnTo>
                  <a:lnTo>
                    <a:pt x="4658" y="109"/>
                  </a:lnTo>
                  <a:lnTo>
                    <a:pt x="4880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79480" y="49687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38400" y="458640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8760" y="50846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55880" y="443376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14440" y="382428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74800" y="393696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33720" y="37846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94080" y="355608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53000" y="3097080"/>
              <a:ext cx="6804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10120" y="359424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70480" y="351648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829040" y="32497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89400" y="3059280"/>
              <a:ext cx="66960" cy="727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48320" y="27162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05440" y="34797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65800" y="313704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24720" y="286848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85080" y="2828880"/>
              <a:ext cx="66600" cy="745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1" y="0"/>
                  </a:moveTo>
                  <a:lnTo>
                    <a:pt x="42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43640" y="26384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02560" y="31734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061480" y="260208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20040" y="252396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80400" y="23335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30960" y="304920"/>
              <a:ext cx="423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 de control de la corrup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67560" y="525600"/>
              <a:ext cx="349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, 2004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8000" y="5303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2760" y="4921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2760" y="4538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2760" y="4157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2760" y="3776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2760" y="3394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2760" y="3011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2760" y="263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2760" y="2247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2760" y="1866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7520" y="1484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7520" y="1103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8900000">
              <a:off x="570960" y="5601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8900000">
              <a:off x="372240" y="583668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8900000">
              <a:off x="1144800" y="56653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8900000">
              <a:off x="1472400" y="56750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8900000">
              <a:off x="1676520" y="574128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8900000">
              <a:off x="2384280" y="559548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8900000">
              <a:off x="2494440" y="570024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8900000">
              <a:off x="2980080" y="56491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8900000">
              <a:off x="3137760" y="573228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8900000">
              <a:off x="3775680" y="561456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8900000">
              <a:off x="3483000" y="588744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8900000">
              <a:off x="4350240" y="56764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8900000">
              <a:off x="4611240" y="571608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8900000">
              <a:off x="5069520" y="56750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8900000">
              <a:off x="5425920" y="567828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8900000">
              <a:off x="5722920" y="57031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8900000">
              <a:off x="6029640" y="572220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8900000">
              <a:off x="6367320" y="573516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8900000">
              <a:off x="6959160" y="56354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8900000">
              <a:off x="6483240" y="598608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8900000">
              <a:off x="7520040" y="569988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8900000">
              <a:off x="7869240" y="570636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8900000">
              <a:off x="8498520" y="55908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6200000">
              <a:off x="61560" y="31856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73680" y="1343160"/>
              <a:ext cx="156348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017960" y="1409760"/>
              <a:ext cx="270000" cy="87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26120" y="1374840"/>
              <a:ext cx="56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83040" y="1454040"/>
              <a:ext cx="27000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83120" y="141588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98760" y="13748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¿Cómo explicar esta dista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yores atribuciones implican mayores demandas y un alza en las expectativas, todo lo cual evidencia con más claridad los problemas de los sistemas jud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s sistemas judiciales tienen un agudo problema para relacionarse con los ciudadanos: entregar información, participar en el debate público, etc. (diferencias entre experiencias y percep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la calidad de la política y volubilidad del apoyo político a los procesos de re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de las refor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ffffcc"/>
                </a:solidFill>
                <a:latin typeface="Arial"/>
              </a:rPr>
              <a:t>De diseñ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Unidimensionalismo: muchas de las reformas se agotan en los temas “jurídicos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Cooptación de la comunidad leg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Poco espacio para la Innov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Desarrollo técnico parcial: sólo principios o ideas generales, incapaces de reemplazar práctic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Reformas descoordinadas: rol de la cooperación internacional (cada uno con su agend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cc"/>
                </a:solidFill>
                <a:latin typeface="Arial"/>
              </a:rPr>
              <a:t>De estrategia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 la integralidad: listado de supermercado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cc"/>
                </a:solidFill>
                <a:latin typeface="Arial"/>
              </a:rPr>
              <a:t>Versus reformas parciales (Ej. Gestión y Reforma Procesal Pena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l consenso: reformas </a:t>
            </a: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sin los jueces (que no pueden implementars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de los jueces (que no cambian nad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Trampa de los Planes Pilo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gradu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ffffcc"/>
                </a:solidFill>
                <a:latin typeface="Arial"/>
              </a:rPr>
              <a:t>De implementación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Liderazgos poco adecuados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Problemas de gobierno judic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Cooptación por las cúpulas de los Sistemas Judici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Falta de apoyo político: Desaparición de las fuentes de apoyo iniciales: Gobierno, Parlamento, Medios de Comunicación, Sociedad Civil (¿Quién es el cliente?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Falta de información, seguimiento y evalu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085120" y="4815000"/>
            <a:ext cx="500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ww.cejamerica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680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aumentado sus compe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268280"/>
          <a:ext cx="8136000" cy="5230800"/>
        </p:xfrm>
        <a:graphic>
          <a:graphicData uri="http://schemas.openxmlformats.org/drawingml/2006/table">
            <a:tbl>
              <a:tblPr/>
              <a:tblGrid>
                <a:gridCol w="2720880"/>
                <a:gridCol w="2754360"/>
                <a:gridCol w="2660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RIBUNAL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SALA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reformado sus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1341360"/>
          <a:ext cx="8229600" cy="5372280"/>
        </p:xfrm>
        <a:graphic>
          <a:graphicData uri="http://schemas.openxmlformats.org/drawingml/2006/table">
            <a:tbl>
              <a:tblPr/>
              <a:tblGrid>
                <a:gridCol w="2330280"/>
                <a:gridCol w="1820880"/>
                <a:gridCol w="2282760"/>
                <a:gridCol w="17956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iene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inquisi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ó a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cus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stá en vías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ar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7726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Están invirtiendo en mejorar su gestión</a:t>
            </a:r>
            <a:br>
              <a:rPr sz="3200"/>
            </a:br>
            <a:r>
              <a:rPr b="1" lang="es-MX" sz="1400" spc="-1" strike="noStrike">
                <a:solidFill>
                  <a:srgbClr val="ffffcc"/>
                </a:solidFill>
                <a:latin typeface="Arial"/>
              </a:rPr>
              <a:t>En Millones de dólares. Créditos cerrados y en ejecución últimos 10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4680" y="1197000"/>
          <a:ext cx="6926400" cy="5549760"/>
        </p:xfrm>
        <a:graphic>
          <a:graphicData uri="http://schemas.openxmlformats.org/drawingml/2006/table">
            <a:tbl>
              <a:tblPr/>
              <a:tblGrid>
                <a:gridCol w="2476800"/>
                <a:gridCol w="1846080"/>
                <a:gridCol w="1301760"/>
                <a:gridCol w="130176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anco Mund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5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6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1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4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aíses con presupuestos constitucionalmente o por ley garantizad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Costa 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l Salv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Nicar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ara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anam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uerto 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República Dominic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Muchos han logrado estabilidad presupues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Los presupuestos judiciales han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crecido </a:t>
            </a: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(dólares per cáp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457200" y="1600200"/>
          <a:ext cx="8229600" cy="4929120"/>
        </p:xfrm>
        <a:graphic>
          <a:graphicData uri="http://schemas.openxmlformats.org/drawingml/2006/table">
            <a:tbl>
              <a:tblPr/>
              <a:tblGrid>
                <a:gridCol w="2081160"/>
                <a:gridCol w="2121120"/>
                <a:gridCol w="1811160"/>
                <a:gridCol w="22161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-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genti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8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4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asil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3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erto 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5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Nuevos mecanismos de selección de Magistrados de Cortes Supremas (República Dominicana y Argent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Rol de las Escuelas Judiciales en las políticas de personal (Chile y Colom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olíticas para la disminución de la provisionalidad de los jueces (Per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Mejoras en las remuneraciones judi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Los casos de Ecuador y Vene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Han mejorado sus sistemas de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lección y la estabilidad en los car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19120" y="1125360"/>
          <a:ext cx="8229600" cy="5548320"/>
        </p:xfrm>
        <a:graphic>
          <a:graphicData uri="http://schemas.openxmlformats.org/drawingml/2006/table">
            <a:tbl>
              <a:tblPr/>
              <a:tblGrid>
                <a:gridCol w="3521160"/>
                <a:gridCol w="47084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ño creación Escuela Jud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Distintas provinci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década de los 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 (act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 (Fede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6769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 están preocupando de capacitar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a su pers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6:18:11Z</dcterms:created>
  <dc:creator>Juan Enrique Vargas </dc:creator>
  <dc:description/>
  <dc:language>en-US</dc:language>
  <cp:lastModifiedBy> </cp:lastModifiedBy>
  <dcterms:modified xsi:type="dcterms:W3CDTF">2007-11-12T13:57:21Z</dcterms:modified>
  <cp:revision>78</cp:revision>
  <dc:subject/>
  <dc:title>FINANCIAMIENTO PRIVADO DE LA JUSTIC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7814278</vt:r8>
  </property>
  <property fmtid="{D5CDD505-2E9C-101B-9397-08002B2CF9AE}" pid="3" name="_AuthorEmail">
    <vt:lpwstr>andrea.cabezon@cejamericas.org</vt:lpwstr>
  </property>
  <property fmtid="{D5CDD505-2E9C-101B-9397-08002B2CF9AE}" pid="4" name="_AuthorEmailDisplayName">
    <vt:lpwstr>Andrea Cabezón</vt:lpwstr>
  </property>
  <property fmtid="{D5CDD505-2E9C-101B-9397-08002B2CF9AE}" pid="5" name="_EmailSubject">
    <vt:lpwstr>PPT SISTEMAS JUDICIALES</vt:lpwstr>
  </property>
  <property fmtid="{D5CDD505-2E9C-101B-9397-08002B2CF9AE}" pid="6" name="_ReviewingToolsShownOnce">
    <vt:lpwstr/>
  </property>
</Properties>
</file>