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EEBD-8F2A-4F6E-9191-2D8572381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3C40-50EB-492F-AA9D-0F421A1E2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F23D-6093-4AA6-B895-7AB7B6D06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DCD8-DDAB-4172-AA6C-FDCD192DF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0739-EB76-4639-9F4E-D7A84BE40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C0E9-57FA-4EB5-9BD8-D84A0F14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94B8-C81C-41ED-AA96-B0AC4BC4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3E5D-2E6D-487B-937B-8EE5E488E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F383-F710-4AE4-A6B1-2790488B2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A757-5697-43FF-B766-336EB0026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9DCA-27A1-42D8-8B38-799D04B8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017F-0F9B-43F0-B98B-A66000E7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CCAC-46DE-40B8-86A8-4CD2777F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0AF8-C695-4E44-8DD2-61491899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E8CF-D393-4CB4-896C-28856413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01F4-FB78-40AE-80D6-DF17A37D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7DE0-13DA-4EC0-BFFC-13CD3657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5251-842B-4450-9EBD-96510CF2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759C-918C-4CAE-88AE-220FA8DF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4BB3-7C6F-4655-999B-A23468B8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EA10-D37C-4C9B-AAFC-4A4822242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B413-6D7F-4E90-B408-2C81D283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EF3C-9960-4701-B6EC-C84D6174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2FDC-55D6-42EA-93B8-AD0F19D3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9232-182A-498D-B784-8CEE9189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E79E-0938-435F-B8DA-609BFDA8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0C2E-8E85-4A80-8C37-05CD3839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3987-D93F-4790-B4AA-DDAAC7CE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6A26-8C86-4DB1-A174-E0D4F933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5200-BF60-4EBD-A315-CF90B9C7B3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E79A-9A2F-46DF-9A70-C1182BC534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7772400" cy="15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DESCENTRALIZACIÓN EN AMÉRICA LATINA Y EQUIDAD SOCIAL Y TERRITORIAL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76720" y="2781000"/>
            <a:ext cx="3240000" cy="158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s proce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comend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47640" y="4724280"/>
            <a:ext cx="66963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ván Fin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agíster en Gestión y Políticas Públicas, Universidad de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antiago, 5 de noviembre,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648320" y="1371600"/>
            <a:ext cx="1600200" cy="350532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48000" y="838080"/>
            <a:ext cx="2664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obierno cent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3429000"/>
            <a:ext cx="198144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obierno 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1371600"/>
            <a:ext cx="914400" cy="2057400"/>
          </a:xfrm>
          <a:prstGeom prst="line">
            <a:avLst/>
          </a:prstGeom>
          <a:ln w="93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91440" y="1484280"/>
            <a:ext cx="22129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Desc. Polí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Decisiones políticas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administrativ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12960" y="26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98920" y="204840"/>
            <a:ext cx="42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ff"/>
                </a:solidFill>
                <a:latin typeface="Antique Olive"/>
              </a:rPr>
              <a:t>Tipos de Descentr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1828800"/>
            <a:ext cx="205740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minist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24480" y="4508640"/>
            <a:ext cx="213372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minist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2666880"/>
            <a:ext cx="18288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Times New Roman"/>
              </a:rPr>
              <a:t>Desc. Operativa</a:t>
            </a:r>
            <a:r>
              <a:rPr b="1" i="1" lang="es-ES_tradnl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Decisiones administrativ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04000" y="414972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80000" y="1413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84872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Descentralización política: Condiciones de eficiencia</a:t>
            </a:r>
            <a:br>
              <a:rPr sz="2800"/>
            </a:b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Principio fundamental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69640" y="1773000"/>
            <a:ext cx="75056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6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descentralización de la provisión de un bien público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s conveniente cuando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61440" indent="-36144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manda está geográficamente diferenciada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or factor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49320" indent="-338760"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Naturales y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49320" indent="-338760"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ulturales y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49320" indent="-338760"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conó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797120" indent="-542160"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raestructura bás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797120" indent="-542160"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idades productiv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684360" y="2781360"/>
          <a:ext cx="8135640" cy="2900160"/>
        </p:xfrm>
        <a:graphic>
          <a:graphicData uri="http://schemas.openxmlformats.org/drawingml/2006/table">
            <a:tbl>
              <a:tblPr/>
              <a:tblGrid>
                <a:gridCol w="2663640"/>
                <a:gridCol w="1055880"/>
                <a:gridCol w="1104840"/>
                <a:gridCol w="1008000"/>
                <a:gridCol w="23032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Qu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uán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ón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infraestructura básic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educación y salu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799308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Los servicios transferidos tienen una demanda diferenciada sobre qué, cuánto y dónde prove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799308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Los servicios transferidos tienen una demanda diferenciada sobre qué, cuánto y dónde prove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684360" y="2781360"/>
          <a:ext cx="8135640" cy="2900160"/>
        </p:xfrm>
        <a:graphic>
          <a:graphicData uri="http://schemas.openxmlformats.org/drawingml/2006/table">
            <a:tbl>
              <a:tblPr/>
              <a:tblGrid>
                <a:gridCol w="2663640"/>
                <a:gridCol w="1055880"/>
                <a:gridCol w="1104840"/>
                <a:gridCol w="1008000"/>
                <a:gridCol w="23032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Qu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uán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ón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infraestructura básic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educación y salu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84360" y="2781360"/>
          <a:ext cx="8135640" cy="2900160"/>
        </p:xfrm>
        <a:graphic>
          <a:graphicData uri="http://schemas.openxmlformats.org/drawingml/2006/table">
            <a:tbl>
              <a:tblPr/>
              <a:tblGrid>
                <a:gridCol w="2663640"/>
                <a:gridCol w="1055880"/>
                <a:gridCol w="1104840"/>
                <a:gridCol w="1008000"/>
                <a:gridCol w="23032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Qu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uán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ón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infraestructura básic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educación y salu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799308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Los servicios transferidos tienen una demanda diferenciada sobre qué, cuánto y dónde prove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84360" y="2781360"/>
          <a:ext cx="8135640" cy="2900160"/>
        </p:xfrm>
        <a:graphic>
          <a:graphicData uri="http://schemas.openxmlformats.org/drawingml/2006/table">
            <a:tbl>
              <a:tblPr/>
              <a:tblGrid>
                <a:gridCol w="2663640"/>
                <a:gridCol w="1055880"/>
                <a:gridCol w="1104840"/>
                <a:gridCol w="1008000"/>
                <a:gridCol w="23032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Qu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uán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ón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ipos de Bien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oca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infraestructura básic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rritoria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educación y salu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cia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799308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Los servicios transferidos tienen una demanda diferenciada sobre qué, cuánto y dónde prove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86920" y="515520"/>
            <a:ext cx="7062840" cy="104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Ordenamiento territorial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14560" y="1699920"/>
            <a:ext cx="76341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 logra la mayor la correspondencia posible entre diferenciación geográfica de la demanda de cada bien y una circunscripción político-administrativa (a partir de Oat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Problema: no coincidencia de mapas de demanda con mapas político-administrativ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incipios de solu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Máximo acercamiento al ciudada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Agrupamiento de circunscripciones en función de las distintas deman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86920" y="515520"/>
            <a:ext cx="7062840" cy="104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Ordenamiento territorial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14560" y="1699920"/>
            <a:ext cx="76341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s administraciones de cada nivel son de capacidad simi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Problema: grandes disparidades entre administraciones del mismo nivel, sobre todo municip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incipios de solu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Instauración de gobiernos de nivel superior (Ej. Gobiernos regiona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sociaciones como organizaciones de derecho público (Ej. Brasi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Fusión de municipios (Ej. Europ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86920" y="609120"/>
            <a:ext cx="6597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Revelación de preferencia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777240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s decisiones sobre gasto se basan en decisiones sobre los respectivos aportes loca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comparación beneficio/costo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a partir de Musgrav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utonomía para determinar alícuotas de impues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Problema: desigualdad de ingre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incipio de solución: transferencias de libre disponibilidad proporcionales a cada esfuerzo fiscal,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edido no en términos absolutos sino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 como proporción del respectivo ingreso de los aporta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600" spc="-1" strike="noStrike">
                <a:solidFill>
                  <a:srgbClr val="ffffff"/>
                </a:solidFill>
                <a:latin typeface="Times New Roman"/>
              </a:rPr>
              <a:t>Bases de los principales impuestos subnacionale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042920" y="1916280"/>
          <a:ext cx="7777080" cy="3863880"/>
        </p:xfrm>
        <a:graphic>
          <a:graphicData uri="http://schemas.openxmlformats.org/drawingml/2006/table">
            <a:tbl>
              <a:tblPr/>
              <a:tblGrid>
                <a:gridCol w="1244520"/>
                <a:gridCol w="717840"/>
                <a:gridCol w="718920"/>
                <a:gridCol w="744480"/>
                <a:gridCol w="690840"/>
                <a:gridCol w="717480"/>
                <a:gridCol w="717480"/>
                <a:gridCol w="719280"/>
                <a:gridCol w="717480"/>
                <a:gridCol w="788760"/>
              </a:tblGrid>
              <a:tr h="45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Ni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AR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B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MÉ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V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C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B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CH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P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EC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1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termed.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Y.Br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R.N) </a:t>
                      </a:r>
                      <a:r>
                        <a:rPr b="0" lang="es-BO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Vt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Y.Per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a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c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R.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s-BO" sz="15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R.N</a:t>
                      </a:r>
                      <a:r>
                        <a:rPr b="0" lang="es-BO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Municipal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r>
                        <a:rPr b="0" lang="es-BO" sz="19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 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R.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 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 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 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 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Veh) 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900000" y="5937120"/>
            <a:ext cx="799308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ffff"/>
                </a:solidFill>
                <a:latin typeface="Times New Roman"/>
              </a:rPr>
              <a:t>R.N: Sobre explotación de recursos naturales (Regalías), pero </a:t>
            </a:r>
            <a:r>
              <a:rPr b="0" lang="es-BO" sz="1800" spc="-1" strike="noStrike" u="sng">
                <a:solidFill>
                  <a:srgbClr val="ffffff"/>
                </a:solidFill>
                <a:uFillTx/>
                <a:latin typeface="Times New Roman"/>
              </a:rPr>
              <a:t>no son impue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ffff"/>
                </a:solidFill>
                <a:latin typeface="Times New Roman"/>
              </a:rPr>
              <a:t>Act: Sobre actividades económicas (Patentes municipal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76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66"/>
                </a:solidFill>
                <a:latin typeface="Times New Roman"/>
              </a:rPr>
              <a:t>Los procesos</a:t>
            </a:r>
            <a:br>
              <a:rPr sz="3600"/>
            </a:br>
            <a:r>
              <a:rPr b="0" lang="es-ES" sz="3600" spc="-1" strike="noStrike">
                <a:solidFill>
                  <a:srgbClr val="00ffff"/>
                </a:solidFill>
                <a:latin typeface="Times New Roman"/>
              </a:rPr>
              <a:t>Contexto histórico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560" y="1447560"/>
            <a:ext cx="81378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80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.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tecedent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60’s - 70’s: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Planificación R</a:t>
            </a: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e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gion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Macro regiones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escentr. Administrativ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Territori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0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Objetivos</a:t>
            </a:r>
            <a:r>
              <a:rPr b="0" i="1" lang="es-ES_tradnl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) </a:t>
            </a:r>
            <a:r>
              <a:rPr b="0" lang="es-ES_tradnl" sz="2400" spc="-1" strike="noStrike">
                <a:solidFill>
                  <a:srgbClr val="ff9966"/>
                </a:solidFill>
                <a:latin typeface="Times New Roman"/>
              </a:rPr>
              <a:t>Desconcentrar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la producción y la pob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9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) Mayor </a:t>
            </a:r>
            <a:r>
              <a:rPr b="0" lang="es-ES_tradnl" sz="2400" spc="-1" strike="noStrike">
                <a:solidFill>
                  <a:srgbClr val="ff9966"/>
                </a:solidFill>
                <a:latin typeface="Times New Roman"/>
              </a:rPr>
              <a:t>eficienci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n la inversi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ón públ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0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I.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sde los 80’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escentralización</a:t>
            </a: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 Polític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0080" indent="-280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. 80’s - 90’s: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ccff"/>
                </a:solidFill>
                <a:latin typeface="Times New Roman"/>
              </a:rPr>
              <a:t>Democratización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cia circunscripciones antes con gobiernos electos: estados, municipios,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excepto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97280" indent="-3045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algunos casos previa descentralización administrativa, y aun fiscal (caso Chi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0080" indent="-280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Objetivos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) </a:t>
            </a:r>
            <a:r>
              <a:rPr b="0" lang="es-ES_tradnl" sz="2400" spc="-1" strike="noStrike">
                <a:solidFill>
                  <a:srgbClr val="ff9966"/>
                </a:solidFill>
                <a:latin typeface="Times New Roman"/>
              </a:rPr>
              <a:t>Participació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Gobernabilidad democrá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9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) </a:t>
            </a:r>
            <a:r>
              <a:rPr b="0" lang="es-ES_tradnl" sz="2400" spc="-1" strike="noStrike">
                <a:solidFill>
                  <a:srgbClr val="ff9966"/>
                </a:solidFill>
                <a:latin typeface="Times New Roman"/>
              </a:rPr>
              <a:t>Equidad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territorial, social! (deuda soci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9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5) </a:t>
            </a:r>
            <a:r>
              <a:rPr b="0" lang="es-ES_tradnl" sz="2400" spc="-1" strike="noStrike">
                <a:solidFill>
                  <a:srgbClr val="ff9966"/>
                </a:solidFill>
                <a:latin typeface="Times New Roman"/>
              </a:rPr>
              <a:t>Eficiencia fis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0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. 2000 - ...:  + </a:t>
            </a:r>
            <a:r>
              <a:rPr b="0" lang="es-ES_tradnl" sz="2400" spc="-1" strike="noStrike">
                <a:solidFill>
                  <a:srgbClr val="99ff99"/>
                </a:solidFill>
                <a:latin typeface="Times New Roman"/>
              </a:rPr>
              <a:t>Globalización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mpiten territo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0080" indent="-280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Objetivo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) </a:t>
            </a:r>
            <a:r>
              <a:rPr b="0" lang="es-ES_tradnl" sz="2400" spc="-1" strike="noStrike">
                <a:solidFill>
                  <a:srgbClr val="ff9966"/>
                </a:solidFill>
                <a:latin typeface="Times New Roman"/>
              </a:rPr>
              <a:t>Autonomí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para el desarrollo 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5445000"/>
            <a:ext cx="74851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498240"/>
            <a:ext cx="8077320" cy="113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Transferencias y eficienci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990720" y="2179800"/>
          <a:ext cx="7619760" cy="3921120"/>
        </p:xfrm>
        <a:graphic>
          <a:graphicData uri="http://schemas.openxmlformats.org/drawingml/2006/table">
            <a:tbl>
              <a:tblPr/>
              <a:tblGrid>
                <a:gridCol w="1349280"/>
                <a:gridCol w="1182600"/>
                <a:gridCol w="2649600"/>
                <a:gridCol w="2438280"/>
              </a:tblGrid>
              <a:tr h="45972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diciona-mient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 aporte local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gún uso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498240"/>
            <a:ext cx="8077320" cy="113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Transferencias y eficienci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990720" y="2179800"/>
          <a:ext cx="7619760" cy="3921120"/>
        </p:xfrm>
        <a:graphic>
          <a:graphicData uri="http://schemas.openxmlformats.org/drawingml/2006/table">
            <a:tbl>
              <a:tblPr/>
              <a:tblGrid>
                <a:gridCol w="1349280"/>
                <a:gridCol w="1182600"/>
                <a:gridCol w="2649600"/>
                <a:gridCol w="2438280"/>
              </a:tblGrid>
              <a:tr h="60228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diciona-mient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 aporte local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6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gún uso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. Política del Gast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entralización Polític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. Política del Gasto </a:t>
                      </a: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Operativ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. Operativa &gt; Polític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074600" y="3789360"/>
            <a:ext cx="3353040" cy="23065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66680" y="1773360"/>
            <a:ext cx="3353040" cy="20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27640" y="1773360"/>
            <a:ext cx="2971800" cy="2016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427640" y="1557360"/>
            <a:ext cx="0" cy="530064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3809880"/>
            <a:ext cx="3200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90640" y="3789360"/>
            <a:ext cx="670572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67480" y="3352680"/>
            <a:ext cx="16002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imes New Roman"/>
              </a:rPr>
              <a:t>Vinculación con esfuerzo lo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1052640"/>
            <a:ext cx="1600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imes New Roman"/>
              </a:rPr>
              <a:t>Autonomía de ga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56120" y="1827360"/>
            <a:ext cx="1524240" cy="581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éx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Ramo 2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32360" y="4724280"/>
            <a:ext cx="2209680" cy="70380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Fondos de Cofinanci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13971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3352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00000" y="5589720"/>
            <a:ext cx="3519720" cy="58068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ransferencias para fines específicos: México, Brasil, Argenti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92360" y="2298600"/>
            <a:ext cx="144756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20880" y="137160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45360" y="134136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5960" y="609588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280280" y="609588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162920" y="37479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6172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42560" y="261720"/>
            <a:ext cx="6697800" cy="71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600" spc="-1" strike="noStrike">
                <a:solidFill>
                  <a:srgbClr val="ffffff"/>
                </a:solidFill>
                <a:latin typeface="Times New Roman"/>
              </a:rPr>
              <a:t>Transferencias en América Latin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81400" y="5157720"/>
            <a:ext cx="1219320" cy="33768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00400" y="417204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olomb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844640"/>
            <a:ext cx="1218960" cy="3376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19640" y="4653000"/>
            <a:ext cx="1143000" cy="39888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70200" y="2269080"/>
            <a:ext cx="3944160" cy="260856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68560" y="3595680"/>
            <a:ext cx="9907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06560" y="2730240"/>
            <a:ext cx="1364400" cy="1975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63640" y="1844640"/>
            <a:ext cx="1800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ú, Ecua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42920" y="2852640"/>
            <a:ext cx="1368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nezue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03280" y="1268280"/>
            <a:ext cx="12258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ff"/>
                </a:solidFill>
                <a:latin typeface="Times New Roman"/>
              </a:rPr>
              <a:t>Regalí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06920" y="2492280"/>
            <a:ext cx="936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97160" y="4797360"/>
            <a:ext cx="1298520" cy="398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lomb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42920" y="6216480"/>
            <a:ext cx="3313080" cy="58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ransferencias sociales: (Chile),  Colombia 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492360" y="458136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2925720" y="5177880"/>
            <a:ext cx="419040" cy="103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13000" y="2298600"/>
            <a:ext cx="1143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87280" y="609120"/>
            <a:ext cx="666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ffff"/>
                </a:solidFill>
                <a:latin typeface="Times New Roman"/>
              </a:rPr>
              <a:t>Revelación de preferencia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s preferencias ciudadanas están adecuadamente represent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Problema: Inadecuados sistemas de represen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incipios de solu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Sistema electoral territo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líticas de participación so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87280" y="609120"/>
            <a:ext cx="666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ffff"/>
                </a:solidFill>
                <a:latin typeface="Times New Roman"/>
              </a:rPr>
              <a:t>Economías de escal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s ganancias en eficiencia son superiores a las pérdidas de economías de escala (Ostrom et al., Oat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Problema: división político-administra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incipio de solución: agrupación territorial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 hasta encontrar equilibrio entre beneficios y pérdi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6080" y="475920"/>
            <a:ext cx="6524640" cy="9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Algunas conclusione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6043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s procesos de descentralización no se han dado con un reordenamiento territorial político-administrativo: disparidades en capacidades loc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los países unitarios se tendió a dar un tratamiento similar a bienes sociales y a bienes territoriales (pero diferenciación temprana en Chile con transferencias social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 diferencia poco entre funciones como autonomías y funciones como agentes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conflicto entre eficiencia  (decisiones autónomas sobre la base de aportes locales) y equ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s sistemas de transferencias no inducen vinculación de decisiones sobre gasto con decisiones sobre ingreso (excepto en estados de México)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sólo posible en escasos municipios “rico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caso acercamiento al ciudadano. Cuando se llega al nivel local, excesiva disparidad (excepto en Chi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l nivel municipal las preferencias ciudadanas no están adecuadamente represent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86920" y="404640"/>
            <a:ext cx="633276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66"/>
                </a:solidFill>
                <a:latin typeface="Times New Roman"/>
              </a:rPr>
              <a:t>Recomendaciones</a:t>
            </a:r>
            <a:br>
              <a:rPr sz="3600"/>
            </a:br>
            <a:r>
              <a:rPr b="0" lang="es-ES_tradnl" sz="3600" spc="-1" strike="noStrike">
                <a:solidFill>
                  <a:srgbClr val="00ffff"/>
                </a:solidFill>
                <a:latin typeface="Times New Roman"/>
              </a:rPr>
              <a:t>Principio fundamental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11240" y="1449000"/>
            <a:ext cx="76644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ffff"/>
                </a:solidFill>
                <a:latin typeface="Times New Roman"/>
              </a:rPr>
              <a:t>Diferenciar entre bienes sociales, territoriales y mixt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Bienes sociales: bienes de consumo individual o familiar, </a:t>
            </a:r>
            <a:r>
              <a:rPr b="0" lang="es-BO" sz="2400" spc="-1" strike="noStrike">
                <a:solidFill>
                  <a:srgbClr val="ffff66"/>
                </a:solidFill>
                <a:latin typeface="Times New Roman"/>
              </a:rPr>
              <a:t>para los que el Estado garantiza a todos los habitantes cierto nivel mínimo de satisf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Bienes territoriales: bienes de consumo colectivo o individual, </a:t>
            </a:r>
            <a:r>
              <a:rPr b="0" lang="es-BO" sz="2400" spc="-1" strike="noStrike">
                <a:solidFill>
                  <a:srgbClr val="ffff66"/>
                </a:solidFill>
                <a:latin typeface="Times New Roman"/>
              </a:rPr>
              <a:t>cuya cuantía de provisión depende de decisiones en el nivel 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Bienes mixtos: bienes de consumo individual o familiar cuya cuantía de provisión depende de decisiones en el nivel local, </a:t>
            </a:r>
            <a:r>
              <a:rPr b="0" lang="es-BO" sz="2400" spc="-1" strike="noStrike">
                <a:solidFill>
                  <a:srgbClr val="ffff66"/>
                </a:solidFill>
                <a:latin typeface="Times New Roman"/>
              </a:rPr>
              <a:t>para los que se cuenta con subsidios nacionales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. Ej. agua po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ffff"/>
                </a:solidFill>
                <a:latin typeface="Times New Roman"/>
              </a:rPr>
              <a:t>Aplicar principio de igualdad jurídica del ciudadano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66"/>
                </a:solidFill>
                <a:latin typeface="Times New Roman"/>
              </a:rPr>
              <a:t>Bienes sociales: igual satisfacción mínima garantizada por el Esta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66"/>
                </a:solidFill>
                <a:latin typeface="Times New Roman"/>
              </a:rPr>
              <a:t>Bienes territoriales: igual satisfacción a igual sacrif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8159760" cy="123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ff"/>
                </a:solidFill>
                <a:latin typeface="Times New Roman"/>
              </a:rPr>
              <a:t>Gasto en bienes sociale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rasil: Gasto en Bienes Sociales* por Pobre, Máximo y Mínimo por Estado, según Región (2002), en Reais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611280" y="1628640"/>
          <a:ext cx="8281800" cy="4110120"/>
        </p:xfrm>
        <a:graphic>
          <a:graphicData uri="http://schemas.openxmlformats.org/drawingml/2006/table">
            <a:tbl>
              <a:tblPr/>
              <a:tblGrid>
                <a:gridCol w="1873080"/>
                <a:gridCol w="1440000"/>
                <a:gridCol w="2448000"/>
                <a:gridCol w="252072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o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áximo (Reai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ínimo (Reai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re: 21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á: 8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d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gipe: 11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anhaô: 6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ro-O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strito Federal: 47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to Grosso: 22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d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o Paulo: 41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pírito Santo: 20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ta Catarina: 41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aná: 23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468360" y="5769000"/>
            <a:ext cx="85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Fuente: Cristina Aziz (200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4360" y="609300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* Bienes sociales: educación escolar, atención a la salud, vivienda y asistencia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8159760" cy="123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ff"/>
                </a:solidFill>
                <a:latin typeface="Times New Roman"/>
              </a:rPr>
              <a:t>Gasto en bienes sociale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rasil: Gasto en Bienes Sociales* por Pobre, Máximo y Mínimo por Estado, según Región (2002), en Reais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611280" y="1628640"/>
          <a:ext cx="8281800" cy="4110120"/>
        </p:xfrm>
        <a:graphic>
          <a:graphicData uri="http://schemas.openxmlformats.org/drawingml/2006/table">
            <a:tbl>
              <a:tblPr/>
              <a:tblGrid>
                <a:gridCol w="1873080"/>
                <a:gridCol w="1440000"/>
                <a:gridCol w="2448000"/>
                <a:gridCol w="252072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o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áximo (Reai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ínimo (Reai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re: 21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á: 8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d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gipe: 11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Maranhaô: 6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ro-O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strito Federal: 47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to Grosso: 22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d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o Paulo: 41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pírito Santo: 20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ta Catarina: 41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aná: 23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468360" y="5769000"/>
            <a:ext cx="85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Fuente: Cristina Aziz (200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4360" y="609300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* Bienes sociales: educación escolar, atención a la salud, vivienda y asistencia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8159760" cy="123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ff"/>
                </a:solidFill>
                <a:latin typeface="Times New Roman"/>
              </a:rPr>
              <a:t>Gasto en bienes sociale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rasil: Gasto en Bienes Sociales* por Pobre, Máximo y Mínimo por Estado, según Región (2002), en Reais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11280" y="1628640"/>
          <a:ext cx="8281800" cy="4110120"/>
        </p:xfrm>
        <a:graphic>
          <a:graphicData uri="http://schemas.openxmlformats.org/drawingml/2006/table">
            <a:tbl>
              <a:tblPr/>
              <a:tblGrid>
                <a:gridCol w="1873080"/>
                <a:gridCol w="1440000"/>
                <a:gridCol w="2448000"/>
                <a:gridCol w="252072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o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áximo (Reai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ínimo (Reai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re: 21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á: 8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d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gipe: 11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anhaô: 6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ro-O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31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Distrito Federal: 47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to Grosso: 22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d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ao Paulo: 41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pírito Santo: 20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ta Catarina: 41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aná: 23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468360" y="5769000"/>
            <a:ext cx="85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Fuente: Cristina Aziz (200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4360" y="609300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* Bienes sociales: educación escolar, atención a la salud, vivienda y asistencia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ffff"/>
                </a:solidFill>
                <a:latin typeface="Times New Roman"/>
              </a:rPr>
              <a:t>Qué se descentralizó? A qué nivel?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7272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Qué se descentralizó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incipal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mpliación de competencias en infraestructura básica (vialidad, saneamiento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ovisión de educación y salud (noved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Venezuela y Ecuador, sujeto a requer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Hacia qué nivel de gobierno autónom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aíses federales: primero al nivel interme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aíses unitarios: prioritariamente a los municip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Brasil (desde 1988): a estados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y municip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scentralización democrática vs. jerárqu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hile: Gasto Anual en Educación Pública por Estudiante, por Región y por Comuna según Mínimo y Máximo – 2005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(En Miles de Pesos)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-468360" y="1347840"/>
            <a:ext cx="10907640" cy="57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26920" y="198000"/>
            <a:ext cx="788544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ff"/>
                </a:solidFill>
                <a:latin typeface="Times New Roman"/>
              </a:rPr>
              <a:t>Gasto en bienes territoriales: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rasil: Gasto Territorial por Habitante según Esfuerzo Fiscal Subnacional, por Región (2002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24000" y="1436760"/>
          <a:ext cx="8712000" cy="4368600"/>
        </p:xfrm>
        <a:graphic>
          <a:graphicData uri="http://schemas.openxmlformats.org/drawingml/2006/table">
            <a:tbl>
              <a:tblPr/>
              <a:tblGrid>
                <a:gridCol w="1866600"/>
                <a:gridCol w="1866960"/>
                <a:gridCol w="1692360"/>
                <a:gridCol w="1600200"/>
                <a:gridCol w="1685880"/>
              </a:tblGrid>
              <a:tr h="124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fuerzo Fis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s/Y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sto por Hab. en Bienes Territoria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En Reai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is por 1% de Esfuerzo Fis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des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ro-Oes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.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3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des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.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8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468360" y="5950080"/>
            <a:ext cx="8523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Fuente: Elaborado sobre datos de Cristina Aziz (2006). </a:t>
            </a:r>
            <a:r>
              <a:rPr b="1" i="1" lang="es-ES" sz="1600" spc="-1" strike="noStrike">
                <a:solidFill>
                  <a:srgbClr val="ffffff"/>
                </a:solidFill>
                <a:latin typeface="Arial"/>
              </a:rPr>
              <a:t>Las transferencias fiscales y el gasto público en la federación Brasileña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(Tesis de Magister, U de Chil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26920" y="198000"/>
            <a:ext cx="788544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ff"/>
                </a:solidFill>
                <a:latin typeface="Times New Roman"/>
              </a:rPr>
              <a:t>Gasto en bienes territoriales: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rasil: Gasto Territorial por Habitante según Esfuerzo Fiscal Subnacional, por Región (2002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24000" y="1436760"/>
          <a:ext cx="8712000" cy="4368600"/>
        </p:xfrm>
        <a:graphic>
          <a:graphicData uri="http://schemas.openxmlformats.org/drawingml/2006/table">
            <a:tbl>
              <a:tblPr/>
              <a:tblGrid>
                <a:gridCol w="1866600"/>
                <a:gridCol w="1866960"/>
                <a:gridCol w="1692360"/>
                <a:gridCol w="1600200"/>
                <a:gridCol w="1685880"/>
              </a:tblGrid>
              <a:tr h="124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fuerzo Fis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s/Y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sto por Hab. en Bienes Territoria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En Reai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is por 1% de Esfuerzo Fis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ración respecto a Región Nordes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des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ro-Oes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.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3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des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.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8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"/>
          <p:cNvSpPr/>
          <p:nvPr/>
        </p:nvSpPr>
        <p:spPr>
          <a:xfrm>
            <a:off x="468360" y="5950080"/>
            <a:ext cx="8523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Fuente: Elaborado sobre datos de Cristina Aziz (2006). </a:t>
            </a:r>
            <a:r>
              <a:rPr b="1" i="1" lang="es-ES" sz="1600" spc="-1" strike="noStrike">
                <a:solidFill>
                  <a:srgbClr val="ffffff"/>
                </a:solidFill>
                <a:latin typeface="Arial"/>
              </a:rPr>
              <a:t>Las transferencias fiscales y el gasto público en la federación Brasileña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(Tesis de Magister, U de Chil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hile: Gasto Territorial por Habitante según Esfuerzo Fiscal Municipal Directo, por Región (2005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57200" y="1143000"/>
          <a:ext cx="8229600" cy="5227560"/>
        </p:xfrm>
        <a:graphic>
          <a:graphicData uri="http://schemas.openxmlformats.org/drawingml/2006/table">
            <a:tbl>
              <a:tblPr/>
              <a:tblGrid>
                <a:gridCol w="949320"/>
                <a:gridCol w="1108080"/>
                <a:gridCol w="1028880"/>
                <a:gridCol w="1028520"/>
                <a:gridCol w="1662120"/>
                <a:gridCol w="1028520"/>
                <a:gridCol w="142416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fuerzo Fisc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sto por 0.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íni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áxi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0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3,8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miñ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2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6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erra Gord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,1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l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7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4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erra Amarill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6,4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irin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,8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4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laman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,8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barbalá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5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3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paraí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,8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nqueh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9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8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mbaron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chilem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8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3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,6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 Javi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3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9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llá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,3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s Alam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,6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8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i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,9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lipeu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4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2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rranq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,6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ullí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,0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isén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,5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ihaiqu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6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7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nta Aren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,4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rveni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0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7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uilicu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3,2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itacu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"/>
          <p:cNvSpPr/>
          <p:nvPr/>
        </p:nvSpPr>
        <p:spPr>
          <a:xfrm>
            <a:off x="685800" y="6445080"/>
            <a:ext cx="647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ente: Elaborado en base a datos del SINIM (Chile, 200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hile: Gasto Territorial por Habitante según Esfuerzo Fiscal Municipal Directo, por Región (2005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457200" y="1143000"/>
          <a:ext cx="8229600" cy="5227560"/>
        </p:xfrm>
        <a:graphic>
          <a:graphicData uri="http://schemas.openxmlformats.org/drawingml/2006/table">
            <a:tbl>
              <a:tblPr/>
              <a:tblGrid>
                <a:gridCol w="949320"/>
                <a:gridCol w="1108080"/>
                <a:gridCol w="1028880"/>
                <a:gridCol w="1028520"/>
                <a:gridCol w="1662120"/>
                <a:gridCol w="1028520"/>
                <a:gridCol w="142416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fuerzo Fisc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sto por 0.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íni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áxi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0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3,8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miñ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2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6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erra Gord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,1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l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7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4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erra Amarill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6,4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irin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,8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4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laman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,8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barbalá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5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3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paraí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8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nqueh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9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8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mbaron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chilem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8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3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,6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 Javi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3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9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llá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,3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s Alam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,6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8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i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,9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lipeu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2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rranq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,6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ullí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,0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isé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,5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ihaiqu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6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7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nta Aren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,4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rveni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0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7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uilicu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3,2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itacu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"/>
          <p:cNvSpPr/>
          <p:nvPr/>
        </p:nvSpPr>
        <p:spPr>
          <a:xfrm>
            <a:off x="685800" y="6445080"/>
            <a:ext cx="647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ente: Elaborado en base a datos del SINIM (Chile, 200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hile: Gasto Territorial por Habitante según Esfuerzo Fiscal Municipal Directo, por Región (2005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57200" y="1143000"/>
          <a:ext cx="8229600" cy="5227560"/>
        </p:xfrm>
        <a:graphic>
          <a:graphicData uri="http://schemas.openxmlformats.org/drawingml/2006/table">
            <a:tbl>
              <a:tblPr/>
              <a:tblGrid>
                <a:gridCol w="949320"/>
                <a:gridCol w="1108080"/>
                <a:gridCol w="1028880"/>
                <a:gridCol w="1028520"/>
                <a:gridCol w="1662120"/>
                <a:gridCol w="1028520"/>
                <a:gridCol w="142416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fuerzo Fisc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sto por 0.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íni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áxi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0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3,8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miñ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2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6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erra Gord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,1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l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7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4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erra Amarill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6,4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irin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,8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4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laman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,8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barbalá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5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3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lparaí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,8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nqueh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9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8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mbaron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chilem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8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3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,6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 Javi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3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9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llá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,3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s Alam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,6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8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i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,9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lipeu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2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rranq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,6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ullí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,0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isé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,5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ihaiqu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6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7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nta Aren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,4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rveni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0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7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licu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2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acu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/>
          <p:nvPr/>
        </p:nvSpPr>
        <p:spPr>
          <a:xfrm>
            <a:off x="685800" y="6445080"/>
            <a:ext cx="647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ente: Elaborado en base a datos del SINIM (Chile, 200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Ordenamiento territorial político-administrativo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Igual nivel de autonomía para ambos niveles de gobiernos subnacionales, definir ámbitos para cada ni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Gobiernos regionales en el nivel intermedio (Chile, Perú, Ecuador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dministraciones locales de capacidad similar: consorcios territoriales públicos (Brasil 2005) para municipios pequeñ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Revelación de preferencia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icar sistemas electorales locales: sistemas de representacion territo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 bienes territoriales: procesos participativos de decisión sobre gas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y aportes loc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estad para definir alícuo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ir contribuciones comunitar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ncular transferencias a aportes loc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minar exenciones: beneficios &gt;&gt; contribu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ransformar los sistemas de transferencia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16000" y="1387440"/>
            <a:ext cx="78487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obre propuesta ILPES 1998: transformar los sistemas de transferencias intergubernamentales en dos sistemas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ubsidi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stema de Transferencias Sociales, para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igualación de derechos sociales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garantizar una canasta de bienes y servicios, integrado y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operad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por gobiernos subnacionales (Colombia 200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stema de Transferencias Territoriales, para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igualación del derecho a proveerse de bienes locales: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stinado a  apoyar el desarrollo local y regional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a partir de servicios de infraestructur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7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libre disponibilidad pero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oporcionales al esfuerzo loc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tributación local/ingreso geográfico (o ponderada por pobrez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7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cluyendo contribuciones comunitarias (desde 2003 en legislación de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Guatemal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Profundizar la descentralización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ecidas estas condiciones de eficiencia y equidad: transferir gradualmente a gobiernos subnacionales: individuales o asociados, según configuración geográfica de la deman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o autonomías: toda la provisión de bienes públicos con demanda geográficamente diferenciada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etitividad e igualdad de oportun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o agentes: todo aquello donde la proximidad aumente la eficiencia glob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920" y="222120"/>
            <a:ext cx="7772400" cy="75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articipación en el gasto autónomo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87280" y="55897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*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Elaborado sobre datos del FMI, 1992-ultimo año disponible, excepto Brasil: 1991-1998, y México: 1991-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3824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066680" y="1052640"/>
          <a:ext cx="7467840" cy="454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052640"/>
                    <a:ext cx="7467840" cy="45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1116000" y="60930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nicipios en países desarrollados: Dinamarca: 58%, EE.UU.: 24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47640" y="475920"/>
            <a:ext cx="660096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Bibliografí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28360" y="1079280"/>
            <a:ext cx="8064360" cy="56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ziz, Cristina (2006) “Las transferencias fiscales y el gasto público en la federación brasileña: un análisis de la inequidad espacial en el acceso a bienes sociales y territoriales”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Tesis de Magíster en Gestión y Políticas Públicas, U de Chi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Colombia (2001) 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Ley 715, Sistema General de Particip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Duverger, Maurice (1970) 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Institutions politiques et droit constitutionnel (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Trad. Ariel 197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Finot, Iván (1998) “Descentralización en América Latina: cómo conciliar eficiencia con equidad”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, Reforma y Democracia 10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_________ (2002) “Descentralización y participación en América Latina: una mirada desde la economía”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Revista de la CEPAL 78 (Diciembr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_________ (2007)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“Los procesos de descentralización en América Latina” 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Investigaciones Regionales No. 10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(Primaver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Guatemala (2002) 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Acuerdo Gubernativo 312-2002, Reglamento de la Ley General de Descentraliz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ILPES/CEPAL (1998). 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Reflexiones sobre el Desarrollo y la Responsabilidad del Estado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. CEPAL, LC/IP/L.154. Cap. III, Sección D. Descentralización y Desarrollo Territo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usgrave, Richard and Peggy (1989).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Public finance in theory and practice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Trad. McGraw-Hill 199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ates, Wallace (1972)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Fiscal federalism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Trad. IEAL 197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____________(1999) “An essay on fiscal federalism”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ournal of Economic Literature Vol. XX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strom, Vincent; Tiebout, Charles; Warren, Robert (1961) “The organization of government in metropolitan areas: a theoretical inquiry”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American Political Science Review 5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Wiesner, Eduardo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1992). </a:t>
            </a: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Colombia: descentralización y federalismo fiscal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.  DNP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489800" cy="99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200" spc="-1" strike="noStrike">
                <a:solidFill>
                  <a:srgbClr val="ffffff"/>
                </a:solidFill>
                <a:latin typeface="Times New Roman"/>
              </a:rPr>
              <a:t>Descentralización de decisiones sobre gasto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900000" y="1197000"/>
          <a:ext cx="7991640" cy="5256360"/>
        </p:xfrm>
        <a:graphic>
          <a:graphicData uri="http://schemas.openxmlformats.org/drawingml/2006/table">
            <a:tbl>
              <a:tblPr/>
              <a:tblGrid>
                <a:gridCol w="1295640"/>
                <a:gridCol w="720720"/>
                <a:gridCol w="647640"/>
                <a:gridCol w="720720"/>
                <a:gridCol w="718920"/>
                <a:gridCol w="719280"/>
                <a:gridCol w="792360"/>
                <a:gridCol w="792000"/>
                <a:gridCol w="792000"/>
                <a:gridCol w="79236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B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AR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MÉ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V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CO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BO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CH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P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EC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 Bás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Educ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Pers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alud Primar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Pers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alud 2o. y 3r Ni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489800" cy="99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200" spc="-1" strike="noStrike">
                <a:solidFill>
                  <a:srgbClr val="ffffff"/>
                </a:solidFill>
                <a:latin typeface="Times New Roman"/>
              </a:rPr>
              <a:t>Descentralización de decisiones sobre gasto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00000" y="1197000"/>
          <a:ext cx="7991640" cy="5256360"/>
        </p:xfrm>
        <a:graphic>
          <a:graphicData uri="http://schemas.openxmlformats.org/drawingml/2006/table">
            <a:tbl>
              <a:tblPr/>
              <a:tblGrid>
                <a:gridCol w="1295640"/>
                <a:gridCol w="720720"/>
                <a:gridCol w="647640"/>
                <a:gridCol w="720720"/>
                <a:gridCol w="718920"/>
                <a:gridCol w="719280"/>
                <a:gridCol w="792360"/>
                <a:gridCol w="792000"/>
                <a:gridCol w="792000"/>
                <a:gridCol w="79236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B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AR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MÉ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V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 Bás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Educ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Pers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alud Primar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Pers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alud 2o. y 3r Ni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489800" cy="99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200" spc="-1" strike="noStrike">
                <a:solidFill>
                  <a:srgbClr val="ffffff"/>
                </a:solidFill>
                <a:latin typeface="Times New Roman"/>
              </a:rPr>
              <a:t>Descentralización de decisiones sobre gasto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00000" y="1197000"/>
          <a:ext cx="7991640" cy="5256360"/>
        </p:xfrm>
        <a:graphic>
          <a:graphicData uri="http://schemas.openxmlformats.org/drawingml/2006/table">
            <a:tbl>
              <a:tblPr/>
              <a:tblGrid>
                <a:gridCol w="1295640"/>
                <a:gridCol w="720720"/>
                <a:gridCol w="647640"/>
                <a:gridCol w="720720"/>
                <a:gridCol w="718920"/>
                <a:gridCol w="719280"/>
                <a:gridCol w="792360"/>
                <a:gridCol w="792000"/>
                <a:gridCol w="792000"/>
                <a:gridCol w="79236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B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AR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MÉ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V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CO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BO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CH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P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EC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 Bás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Educ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Pers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alud Primar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Pers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alud 2o. y 3r Ni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fr.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9930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articipación en la generación de ingres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93920" y="654516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16000" y="6093000"/>
            <a:ext cx="741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* Elaborado sobre datos del FMI: 1992–último año disponible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xcepto Brasil: 1991-1998, y México: 1991-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1582560"/>
          <a:ext cx="7696080" cy="445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82560"/>
                    <a:ext cx="7696080" cy="44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66"/>
                </a:solidFill>
                <a:latin typeface="Times New Roman"/>
              </a:rPr>
              <a:t>Evaluación</a:t>
            </a:r>
            <a:br>
              <a:rPr sz="3600"/>
            </a:br>
            <a:r>
              <a:rPr b="0" lang="es-ES" sz="3600" spc="-1" strike="noStrike">
                <a:solidFill>
                  <a:srgbClr val="00ffff"/>
                </a:solidFill>
                <a:latin typeface="Times New Roman"/>
              </a:rPr>
              <a:t>¿Autonomías o agentes?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920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 conveniente definir claramente en qué casos los gobiernos locales se comportarán como autonomías y en qué otros como agentes del gobierno 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los casos en que actúan como autonomías deben poder adoptar decisiones políticas sobre qué proveer, cuánto proveer, dónde proveer y con qué aportes ciudadanos prove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los casos en que actúan como agentes, sólo ejecutan decisiones del gobierno cent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los países de la región, salvo en algunos casos (subsidios en Chile, SISBEN en Colombia, bolsa familia en Brasil) esta diferenciación no está bien defin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20:28:21Z</dcterms:created>
  <dc:creator>I.Finot</dc:creator>
  <dc:description/>
  <dc:language>en-US</dc:language>
  <cp:lastModifiedBy>JMFINOT</cp:lastModifiedBy>
  <dcterms:modified xsi:type="dcterms:W3CDTF">2007-11-05T14:44:09Z</dcterms:modified>
  <cp:revision>173</cp:revision>
  <dc:subject/>
  <dc:title>Descentralización Fiscal y Financiamiento del Desarrollo Local/Regional</dc:title>
</cp:coreProperties>
</file>