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C0B8-EA17-459C-AC2A-DA13FC610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7207-C08B-4986-80E6-DBF3E834A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BD96-2899-45C9-BF6F-2E0AB5581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3830-B592-4EDC-BA60-6C5615C60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B7F0-96D2-450A-B9D9-F718D928A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7CC-F320-4A85-8C08-58272DB8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46D-ED32-4921-A353-C9906824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CB1-932E-482F-BB71-FC4E8C6D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CD8-8F92-4150-8ED0-872D744C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4131-B023-4DF1-A27F-7280DF3C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C288-70DF-47F0-851D-99289FC6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9D82-9F74-4D16-9882-4DD5EFED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92CA-2AE0-4956-934B-16B4B2A4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85C6-17C6-43F0-A4D3-B16BC9D3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BA3D-3D56-4B85-BC69-57BF70B2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B3A5-2C73-4A34-BA95-E6C5B2FE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93F-8DB0-430F-BD78-5D029DAC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2C85-83A0-4B05-917E-A13832FF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7556-687F-4199-B0BF-F8E41B07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E6F9-1E3F-4706-AB4E-8DECDD8E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5BB4-07D3-4DED-BAD4-294CFD9F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39A9-F7F7-4D56-AF95-DF582B8A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F91-35D5-42AD-AF15-82140200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AAA-F2A0-449C-897A-6D1970B6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C52-B753-4BF0-A579-97552F58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309-DC23-47FA-9F94-58F833EE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297-907F-4EF0-90C8-472BA539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BDE-CF45-4446-A12F-82851B4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027-B495-41FA-96AE-4AB282CB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61C9-C333-4345-AF67-DF5E542A8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F8B6-6E65-4BB5-B753-95E720CF8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DESCENTRALIZACIÓN EN AMÉRICA LATINA Y EQUIDAD SOCIAL Y TERRITORI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76720" y="2781000"/>
            <a:ext cx="3240000" cy="158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proc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4724280"/>
            <a:ext cx="6696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ván Fi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gíster en Gestión y Políticas Públicas, 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antiago, 5 de noviembre,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48320" y="1371600"/>
            <a:ext cx="1600200" cy="35053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838080"/>
            <a:ext cx="2664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3429000"/>
            <a:ext cx="19814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371600"/>
            <a:ext cx="914400" cy="2057400"/>
          </a:xfrm>
          <a:prstGeom prst="line">
            <a:avLst/>
          </a:prstGeom>
          <a:ln w="9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91440" y="1484280"/>
            <a:ext cx="2212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sc. Po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políticas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12960" y="26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98920" y="20484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Antique Olive"/>
              </a:rPr>
              <a:t>Tipos de 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1828800"/>
            <a:ext cx="2057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4508640"/>
            <a:ext cx="21337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666880"/>
            <a:ext cx="1828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. Operativ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1413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Descentralización política: Condiciones de eficiencia</a:t>
            </a:r>
            <a:br>
              <a:rPr sz="28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Principio fundament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69640" y="1773000"/>
            <a:ext cx="750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6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descentralización de la provisión de un bien público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 conveniente cuan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1440" indent="-36144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manda está geográficamente diferenciada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facto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aturales y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lturales y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97120" indent="-54216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estructura bás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97120" indent="-54216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es produc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ipos de Bie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c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itori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6920" y="515520"/>
            <a:ext cx="706284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Ordenamiento territori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4560" y="1699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logra la mayor la correspondencia posible entre diferenciación geográfica de la demanda de cada bien y una circunscripción político-administrativa (a partir de 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no coincidencia de mapas de demanda con mapas político-administr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Máximo acercamiento al ciudad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Agrupamiento de circunscripciones en función de las distintas dema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6920" y="515520"/>
            <a:ext cx="706284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Ordenamiento territori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4560" y="1699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administraciones de cada nivel son de capacidad simi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grandes disparidades entre administraciones del mismo nivel, sobre todo muni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stauración de gobiernos de nivel superior (Ej. Gobiernos region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sociaciones como organizaciones de derecho público (Ej. Bras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usión de municipios (Ej. Europ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decisiones sobre gasto se basan en decisiones sobre los respectivos aportes loc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omparación beneficio/cos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 partir de Musgra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tonomía para determinar alícuotas de im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Problema: desigualdad de ingr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proporcionales a cada esfuerzo fiscal,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dido no en términos absolutos sino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como proporción del respectivo ingreso de los aport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Bases de los principales impuestos subnacion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42920" y="1916280"/>
          <a:ext cx="7777080" cy="3863880"/>
        </p:xfrm>
        <a:graphic>
          <a:graphicData uri="http://schemas.openxmlformats.org/drawingml/2006/table">
            <a:tbl>
              <a:tblPr/>
              <a:tblGrid>
                <a:gridCol w="1244520"/>
                <a:gridCol w="717840"/>
                <a:gridCol w="718920"/>
                <a:gridCol w="744480"/>
                <a:gridCol w="690840"/>
                <a:gridCol w="717480"/>
                <a:gridCol w="717480"/>
                <a:gridCol w="719280"/>
                <a:gridCol w="717480"/>
                <a:gridCol w="788760"/>
              </a:tblGrid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termed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.B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 </a:t>
                      </a:r>
                      <a:r>
                        <a:rPr b="0" lang="es-BO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Vt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.P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s-BO" sz="15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R.N</a:t>
                      </a:r>
                      <a:r>
                        <a:rPr b="0" lang="es-BO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unicip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r>
                        <a:rPr b="0" lang="es-BO" sz="19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Veh)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900000" y="5937120"/>
            <a:ext cx="79930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R.N: Sobre explotación de recursos naturales (Regalías), pero </a:t>
            </a:r>
            <a:r>
              <a:rPr b="0" lang="es-BO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on 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Act: Sobre actividades económicas (Patentes municip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7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Los procesos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Contexto históric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1447560"/>
            <a:ext cx="81378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teceden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scentr. Administrativ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itor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r>
              <a:rPr b="0" i="1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Desconcentra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la producción y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) Mayor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ficienc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la inversi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de los 80’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 Políti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Times New Roman"/>
              </a:rPr>
              <a:t>Democratización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cepto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-3045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algunos casos previa descentralización administrativa, y aun fiscal (caso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Particip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obernabilidad democr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quidad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+ </a:t>
            </a:r>
            <a:r>
              <a:rPr b="0" lang="es-ES_tradnl" sz="2400" spc="-1" strike="noStrike">
                <a:solidFill>
                  <a:srgbClr val="99ff99"/>
                </a:solidFill>
                <a:latin typeface="Times New Roman"/>
              </a:rPr>
              <a:t>Globalización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Autonomí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para el desarroll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5445000"/>
            <a:ext cx="74851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nsferencias y eficienc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90720" y="2179800"/>
          <a:ext cx="7619760" cy="3921120"/>
        </p:xfrm>
        <a:graphic>
          <a:graphicData uri="http://schemas.openxmlformats.org/drawingml/2006/table">
            <a:tbl>
              <a:tblPr/>
              <a:tblGrid>
                <a:gridCol w="1349280"/>
                <a:gridCol w="1182600"/>
                <a:gridCol w="2649600"/>
                <a:gridCol w="2438280"/>
              </a:tblGrid>
              <a:tr h="4597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nsferencias y eficienc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90720" y="2179800"/>
          <a:ext cx="7619760" cy="3921120"/>
        </p:xfrm>
        <a:graphic>
          <a:graphicData uri="http://schemas.openxmlformats.org/drawingml/2006/table">
            <a:tbl>
              <a:tblPr/>
              <a:tblGrid>
                <a:gridCol w="1349280"/>
                <a:gridCol w="1182600"/>
                <a:gridCol w="2649600"/>
                <a:gridCol w="2438280"/>
              </a:tblGrid>
              <a:tr h="6022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 </a:t>
                      </a: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perativ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74600" y="3789360"/>
            <a:ext cx="3353040" cy="23065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773360"/>
            <a:ext cx="3353040" cy="20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27640" y="1773360"/>
            <a:ext cx="2971800" cy="2016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427640" y="1557360"/>
            <a:ext cx="0" cy="530064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90640" y="3789360"/>
            <a:ext cx="67057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33526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Vinculación con esfuerz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1052640"/>
            <a:ext cx="160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Autonomía de g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56120" y="182736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472428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1397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5589720"/>
            <a:ext cx="3519720" cy="5806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ferencias para fines específicos: México, Brasil, Argent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2298600"/>
            <a:ext cx="144756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45360" y="134136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802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26172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Transferencias en América Latin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81400" y="5157720"/>
            <a:ext cx="1219320" cy="337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417204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844640"/>
            <a:ext cx="1218960" cy="337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4653000"/>
            <a:ext cx="1143000" cy="398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0200" y="2269080"/>
            <a:ext cx="3944160" cy="26085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68560" y="359568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06560" y="2730240"/>
            <a:ext cx="1364400" cy="1975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63640" y="1844640"/>
            <a:ext cx="18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ú, Ecu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2852640"/>
            <a:ext cx="136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ezu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03280" y="1268280"/>
            <a:ext cx="12258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Regal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6920" y="2492280"/>
            <a:ext cx="93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97160" y="4797360"/>
            <a:ext cx="129852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6216480"/>
            <a:ext cx="331308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nsferencias sociales: (Chile),  Colombia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4581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925720" y="5177880"/>
            <a:ext cx="419040" cy="103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13000" y="229860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7280" y="609120"/>
            <a:ext cx="66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preferencias ciudadanas están adecuadamente represe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Inadecuados sistemas de repres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stema electoral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líticas de participac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7280" y="609120"/>
            <a:ext cx="66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Economías de escal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ganancias en eficiencia son superiores a las pérdidas de economías de escala (Ostrom et al., 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división político-administ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 de solución: agrupación territorial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hasta encontrar equilibrio entre beneficios y pérd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475920"/>
            <a:ext cx="652464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lgunas conclusion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procesos de descentralización no se han dado con un reordenamiento territorial político-administrativo: disparidades en capacidades 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os países unitarios se tendió a dar un tratamiento similar a bienes sociales y a bienes territoriales (pero diferenciación temprana en Chile con transferencias so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 diferencia poco entre funciones como autonomías y funciones como agentes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conflicto entre eficiencia  (decisiones autónomas sobre la base de aportes locales) y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sistemas de transferencias no inducen vinculación de decisiones sobre gasto con decisiones sobre ingreso (excepto en estados de México)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ólo posible en escasos municipios “ric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caso acercamiento al ciudadano. Cuando se llega al nivel local, excesiva disparidad (excepto en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nivel municipal las preferencias ciudadanas no están adecuadamente represen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33276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Times New Roman"/>
              </a:rPr>
              <a:t>Recomendaciones</a:t>
            </a:r>
            <a:br>
              <a:rPr sz="3600"/>
            </a:b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Principio fundament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11240" y="1449000"/>
            <a:ext cx="7664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ffff"/>
                </a:solidFill>
                <a:latin typeface="Times New Roman"/>
              </a:rPr>
              <a:t>Diferenciar entre bienes sociales, territoriales y mix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sociales: bienes de consumo individual o familiar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para los que el Estado garantiza a todos los habitantes cierto nivel mínimo de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territoriales: bienes de consumo colectivo o individual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cuya cuantía de provisión depende de decisiones en el nivel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mixtos: bienes de consumo individual o familiar cuya cuantía de provisión depende de decisiones en el nivel local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para los que se cuenta con subsidios nacionales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. Ej. agua po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ffff"/>
                </a:solidFill>
                <a:latin typeface="Times New Roman"/>
              </a:rPr>
              <a:t>Aplicar principio de igualdad jurídica del ciudadan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Bienes sociales: igual satisfacción mínima garantizada por el Est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Bienes territoriales: igual satisfacción a igual sacri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Qué se descentralizó? A qué nivel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Qué se descentralizó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mpliación de competencias en infraestructura básica (vialidad, saneamiento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visión de educación y salud (nove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enezuela y Ecuador, sujeto a requer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cia qué nivel de gobierno autónom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federales: primero al nivel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unitarios: prioritariamente a los muni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rasil (desde 1988): a estad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y muni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centralización democrática vs. jerárqu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: Gasto Anual en Educación Pública por Estudiante, por Región y por Comuna según Mínimo y Máximo – 2005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En Miles de Pesos)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-468360" y="1347840"/>
            <a:ext cx="1090764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88544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territoriales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Territorial por Habitante según Esfuerzo Fiscal Subnacional, por Región (200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1436760"/>
          <a:ext cx="8712000" cy="436860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692360"/>
                <a:gridCol w="1600200"/>
                <a:gridCol w="1685880"/>
              </a:tblGrid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s/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Hab. en Bienes Territori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 Reai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is por 1% de 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468360" y="5950080"/>
            <a:ext cx="852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nte: Elaborado sobre datos de Cristina Aziz (2006).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Las transferencias fiscales y el gasto público en la federación Brasileñ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(Tesis de Magister, U de Chi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88544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territoriales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Territorial por Habitante según Esfuerzo Fiscal Subnacional, por Región (200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1436760"/>
          <a:ext cx="8712000" cy="436860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692360"/>
                <a:gridCol w="1600200"/>
                <a:gridCol w="1685880"/>
              </a:tblGrid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s/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Hab. en Bienes Territori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 Reai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is por 1% de 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ación respecto a Región Nord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68360" y="5950080"/>
            <a:ext cx="852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nte: Elaborado sobre datos de Cristina Aziz (2006).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Las transferencias fiscales y el gasto público en la federación Brasileñ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(Tesis de Magister, U de Chi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sé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sé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sé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rdenamiento territorial político-administrativ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gual nivel de autonomía para ambos niveles de gobiernos subnacionales, definir ámbitos para cada ni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obiernos regionales en el nivel intermedio (Chile, Perú, Ecuador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dministraciones locales de capacidad similar: consorcios territoriales públicos (Brasil 2005) para municipios pequeñ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car sistemas electorales locales: sistemas de representacion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bienes territoriales: procesos participativos de decisión sobre gas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y aporte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stad para definir alícuo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ir contribuciones comunita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ncular transferencias a aporte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r exenciones: beneficios &gt;&gt; contribu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ormar los sistemas de transferenci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16000" y="1387440"/>
            <a:ext cx="7848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bre propuesta ILPES 1998: transformar los sistemas de transferencias intergubernamentales en dos sistema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bsidi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de Transferencias Sociales, para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igualación de derechos social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arantizar una canasta de bienes y servicios, integrado 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p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r gobiernos subnacionales (Colombia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de Transferencias Territoriales, para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igualación del derecho a proveerse de bienes locales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tinado a  apoyar el desarrollo local y regional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 partir de servicios de infraestructu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libre disponibilidad pero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porcionales al esfuerzo loc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tributación local/ingreso geográfico (o ponderada por pobre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endo contribuciones comunitarias (desde 2003 en legislación de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Guatemal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rofundizar la descentralizació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ecidas estas condiciones de eficiencia y equidad: transferir gradualmente a gobiernos subnacionales: individuales o asociados, según configuración geográfica de la deman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 autonomías: toda la provisión de bienes públicos con demanda geográficamente diferenciad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etitividad e igualdad de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 agentes: todo aquello donde la proximidad aumente la eficiencia glob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22212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el gasto autónom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5589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Elaborado sobre datos del FMI, 1992-ultimo año disponible, excepto Brasil: 1991-1998, y México: 1991-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8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66680" y="1052640"/>
          <a:ext cx="7467840" cy="45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52640"/>
                    <a:ext cx="746784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116000" y="6093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nicipios en países desarrollados: Dinamarca: 58%, EE.UU.: 2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660096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Bibliografí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8360" y="1079280"/>
            <a:ext cx="806436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ziz, Cristina (2006) “Las transferencias fiscales y el gasto público en la federación brasileña: un análisis de la inequidad espacial en el acceso a bienes sociales y territoriales”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Tesis de Magíster en Gestión y Políticas Públicas, U de Ch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lombia (2001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Ley 715, Sistema General de Particip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Duverger, Maurice (1970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Institutions politiques et droit constitutionnel (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. Ariel 197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inot, Iván (1998) “Descentralización en América Latina: cómo conciliar eficiencia con equidad”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, Reforma y Democracia 10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_________ (2002) “Descentralización y participación en América Latina: una mirada desde la economía”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Revista de la CEPAL 78 (Diciemb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_________ (2007)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“Los procesos de descentralización en América Latina”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Investigaciones Regionales No. 10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(Primaver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Guatemala (2002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Acuerdo Gubernativo 312-2002, Reglamento de la Ley General de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LPES/CEPAL (1998).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Reflexiones sobre el Desarrollo y la Responsabilidad del Estad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. CEPAL, LC/IP/L.154. Cap. III, Sección D. Descentralización y Desarrollo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sgrave, Richard and Peggy (1989).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ublic finance in theory and practic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Trad. McGraw-Hill 199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ates, Wallace (1972)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Fiscal federalis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Trad. IEAL 197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____________(1999) “An essay on fiscal federalism”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ournal of Economic Literature Vol. XX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strom, Vincent; Tiebout, Charles; Warren, Robert (1961) “The organization of government in metropolitan areas: a theoretical inquiry”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American Political Science Review 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Wiesner, Eduardo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992).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olombia: descentralización y federalismo fisc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.  DN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r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a generación de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609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laborado sobre datos del FMI: 1992–último año disponible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xcepto Brasil: 1991-1998, y México: 1991-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1582560"/>
          <a:ext cx="76960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82560"/>
                    <a:ext cx="76960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Evaluación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¿Autonomías o agentes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 conveniente definir claramente en qué casos los gobiernos locales se comportarán como autonomías y en qué otros como agentes del gobiern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casos en que actúan como autonomías deben poder adoptar decisiones políticas sobre qué proveer, cuánto proveer, dónde proveer y con qué aportes ciudadanos prov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casos en que actúan como agentes, sólo ejecutan decisiones del gobierno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países de la región, salvo en algunos casos (subsidios en Chile, SISBEN en Colombia, bolsa familia en Brasil) esta diferenciación no está bien defin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28:21Z</dcterms:created>
  <dc:creator>I.Finot</dc:creator>
  <dc:description/>
  <dc:language>en-US</dc:language>
  <cp:lastModifiedBy>JMFINOT</cp:lastModifiedBy>
  <dcterms:modified xsi:type="dcterms:W3CDTF">2007-11-05T14:44:09Z</dcterms:modified>
  <cp:revision>173</cp:revision>
  <dc:subject/>
  <dc:title>Descentralización Fiscal y Financiamiento del Desarrollo Local/Regional</dc:title>
</cp:coreProperties>
</file>