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683E-BC5F-4E27-B2AF-5BE4C0C9C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2A40-D39A-4D92-9254-8C796757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68E6-9B19-476A-8BD6-086C440C9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79F-C44F-4AB9-8E9C-BB4452FC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C55-AF3E-4123-8C3E-8AB04B4A2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483-C6C8-4581-A25F-E5DE5569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4F4-790C-4EEE-883A-709655F0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2F0-1862-411F-9D06-045E1397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AAB-A653-43AC-8F57-228A725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07B1-8D00-44BA-BA4E-2D7FB244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5E95-AF66-4579-8892-BE80CA9A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5924-D1CB-48E5-82C9-E351A683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3139-A696-41AD-8C34-FBC70B14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EE61-3B0D-4C68-8EF9-8BAEAC50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43E0-625A-455F-820F-ECDB5F8D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92D4-518E-4554-B25D-E32E6DDD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C74-5BED-461E-9D0F-F3B846EA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8B96-7A1C-4559-A107-8A8350DF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C7F7-8F31-44CB-8B02-0F6D314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E50C-20C8-4448-B44A-8BEA2308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4075-4CF3-4EF5-A1B2-191E2557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B45F-798D-493D-AC3C-6E13B5B6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3BB-6BE5-49C5-A820-DD460904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FD0-551C-496D-8720-659F257B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C77-7838-4FFA-B200-39326FDD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49A-DCBF-42FE-AF45-D568A0DF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3C3-289E-4DA0-9923-A6533AF3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55A-DD32-42F1-9B94-517AEFE8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B8F-87D0-45BE-BF13-25569DB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6937-3F6A-42AA-B06B-BFBF421A7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8627-FF0B-4ACA-89D2-576300AA1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DESCENTRALIZACIÓN EN AMÉRICA LATINA Y EQUIDAD SOCIAL Y TERRITORI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76720" y="2781000"/>
            <a:ext cx="324000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4724280"/>
            <a:ext cx="6696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ván Fi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gíster en Gestión y Políticas Públicas, 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antiago, 5 de noviembre,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838080"/>
            <a:ext cx="2664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91440" y="1484280"/>
            <a:ext cx="2212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20484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Antique Olive"/>
              </a:rPr>
              <a:t>Tipo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50864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41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Descentralización política: Condiciones de eficiencia</a:t>
            </a:r>
            <a:br>
              <a:rPr sz="28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69640" y="1773000"/>
            <a:ext cx="750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6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descentralización de la provisión de un bien público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 conveniente cuan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440" indent="-36144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manda está geográficamente diferenciad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fact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a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l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estructura bá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es produ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ipos de Bie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c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itor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logra la mayor la correspondencia posible entre diferenciación geográfica de la demanda de cada bien y una circunscripción político-administrativa (a partir de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no coincidencia de mapas de demanda con mapas político-administ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Máximo acercamiento al ciudad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Agrupamiento de circunscripciones en función de las distintas dema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administraciones de cada nivel son de capacidad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grandes disparidades entre administraciones del mismo nivel, sobre todo muni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auración de gobiernos de nivel superior (Ej. Gobiernos region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sociaciones como organizaciones de derecho público (Ej.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usión de municipios (Ej. Euro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decisiones sobre gasto se basan en decisiones sobre los respectivos aportes loc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omparación beneficio/cos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 partir de Musgra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nomía para determinar alícuotas de im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blema: desigualdad de ingr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proporcionales a cada esfuerzo fiscal,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dido no en términos absolutos sino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como proporción del respectivo ingreso de los aport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42920" y="1916280"/>
          <a:ext cx="7777080" cy="3863880"/>
        </p:xfrm>
        <a:graphic>
          <a:graphicData uri="http://schemas.openxmlformats.org/drawingml/2006/table">
            <a:tbl>
              <a:tblPr/>
              <a:tblGrid>
                <a:gridCol w="1244520"/>
                <a:gridCol w="717840"/>
                <a:gridCol w="718920"/>
                <a:gridCol w="744480"/>
                <a:gridCol w="690840"/>
                <a:gridCol w="717480"/>
                <a:gridCol w="717480"/>
                <a:gridCol w="719280"/>
                <a:gridCol w="717480"/>
                <a:gridCol w="788760"/>
              </a:tblGrid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B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 </a:t>
                      </a:r>
                      <a:r>
                        <a:rPr b="0" lang="es-BO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t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P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s-BO" sz="15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R.N</a:t>
                      </a: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s-BO" sz="19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Veh)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900000" y="5937120"/>
            <a:ext cx="79930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R.N: Sobre explotación de recursos naturales (Regalías), pero </a:t>
            </a:r>
            <a:r>
              <a:rPr b="0" lang="es-BO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Act: Sobre actividades económicas (Patentes municip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Los procesos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Contexto históric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447560"/>
            <a:ext cx="8137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teced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scentr. Administrativ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itor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i="1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Desconcentra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la producción y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Mayor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la inversi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de los 80’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 Políti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Democrat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epto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-3045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algunos casos previa descentralización administrativa, y aun fiscal (caso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Particip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obernabilidad democr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+ </a:t>
            </a:r>
            <a:r>
              <a:rPr b="0" lang="es-ES_tradnl" sz="2400" spc="-1" strike="noStrike">
                <a:solidFill>
                  <a:srgbClr val="99ff99"/>
                </a:solidFill>
                <a:latin typeface="Times New Roman"/>
              </a:rPr>
              <a:t>Global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Autonomí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para el desarroll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5445000"/>
            <a:ext cx="7485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459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602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 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74600" y="3789360"/>
            <a:ext cx="3353040" cy="2306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773360"/>
            <a:ext cx="3353040" cy="20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1773360"/>
            <a:ext cx="2971800" cy="2016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27640" y="1557360"/>
            <a:ext cx="0" cy="530064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105264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56120" y="182736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472428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1397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5589720"/>
            <a:ext cx="3519720" cy="5806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erencias para fines específicos: México, Brasil, Argent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2298600"/>
            <a:ext cx="144756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45360" y="134136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26172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Transferencias en América Latin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81400" y="51577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17204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844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4653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0200" y="2269080"/>
            <a:ext cx="3944160" cy="26085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68560" y="359568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06560" y="2730240"/>
            <a:ext cx="1364400" cy="197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1844640"/>
            <a:ext cx="18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ú, Ecu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285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1268280"/>
            <a:ext cx="1225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Regal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6920" y="2492280"/>
            <a:ext cx="93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97160" y="4797360"/>
            <a:ext cx="129852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6216480"/>
            <a:ext cx="331308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nsferencias sociales: (Chile),  Colombi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5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925720" y="5177880"/>
            <a:ext cx="419040" cy="103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13000" y="229860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preferencias ciudadanas están adecuadamente represe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Inadecuados sistemas de repres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stema electoral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líticas de participac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Economías de escal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ganancias en eficiencia son superiores a las pérdidas de economías de escala (Ostrom et al.,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división político-administ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agrupación territorial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hasta encontrar equilibrio entre beneficios y pérd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475920"/>
            <a:ext cx="652464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lgunas conclusion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procesos de descentralización no se han dado con un reordenamiento territorial político-administrativo: disparidades en capacidades 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os países unitarios se tendió a dar un tratamiento similar a bienes sociales y a bienes territoriales (pero diferenciación temprana en Chile con transferencia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diferencia poco entre funciones como autonomías y funciones como agentes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onflicto entre eficiencia  (decisiones autónomas sobre la base de aportes locales)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sistemas de transferencias no inducen vinculación de decisiones sobre gasto con decisiones sobre ingreso (excepto en estados de México)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ólo posible en escasos municipios “ric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caso acercamiento al ciudadano. Cuando se llega al nivel local, excesiva disparidad (excepto en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nivel municipal las preferencias ciudadanas no están adecuadamente represen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33276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Times New Roman"/>
              </a:rPr>
              <a:t>Recomendaciones</a:t>
            </a:r>
            <a:br>
              <a:rPr sz="3600"/>
            </a:b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11240" y="1449000"/>
            <a:ext cx="7664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Diferenciar entre bienes sociales, territoriales y mix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sociales: bienes de consumo individual o familiar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el Estado garantiza a todos los habitantes cierto nivel mínimo de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territoriales: bienes de consumo colectivo o individu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cuya cuantía de provisión depende de decisiones en el nivel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mixtos: bienes de consumo individual o familiar cuya cuantía de provisión depende de decisiones en el nivel loc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se cuenta con subsidios nacionales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. Ej. agua po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Aplicar principio de igualdad jurídica del ciudada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sociales: igual satisfacción mínima garantizada por el Es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territoriales: igual satisfacción a igual sacri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Qué se descentralizó? A qué nivel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Qué se descentralizó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mpliación de competencias en infraestructura básica (vialidad, saneamient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visión de educación y salud (nov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enezuela y Ecuador, sujeto a requer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cia qué nivel de gobierno autónom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federales: primero al nivel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unitarios: prioritariamente a los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rasil (desde 1988): a estad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democrática vs. jerárqu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: Gasto Anual en Educación Pública por Estudiante, por Región y por Comuna según Mínimo y Máximo – 2005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En Miles de Pesos)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-468360" y="1347840"/>
            <a:ext cx="1090764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ción respecto a Región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sé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rdenamiento territorial político-administrativ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gual nivel de autonomía para ambos niveles de gobiernos subnacionales, definir ámbitos para cada ni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obiernos regionales en el nivel intermedio (Chile, Perú, Ecuador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dministraciones locales de capacidad similar: consorcios territoriales públicos (Brasil 2005) para municipios peque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car sistemas electorales locales: sistemas de representacion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bienes territoriales: procesos participativos de decisión sobre gas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stad para definir alí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ir contribuciones comunit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ular transferencias a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r exenciones: beneficios &gt;&gt; con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ormar los sistemas de transfer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1387440"/>
            <a:ext cx="7848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 propuesta ILPES 1998: transformar los sistemas de transferencias intergubernamentales en dos sistem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bsidi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Sociales, para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gualación de derechos social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arantizar una canasta de bienes y servicios, integrado 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r gobiernos subnacionales (Colombia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Territoriales, para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igualación del derecho a proveerse de bienes locales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tinado a  apoyar el desarrollo local y regional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 partir de servicios de infraestruct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libre disponibilidad pero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porcionales al esfuerzo loc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tributación local/ingreso geográfico (o ponderada por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endo contribuciones comunitarias (desde 2003 en legislación de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Guatema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rofundizar la descentralizació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ecidas estas condiciones de eficiencia y equidad: transferir gradualmente a gobiernos subnacionales: individuales o asociados, según configuración geográfica de la deman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utonomías: toda la provisión de bienes públicos con demanda geográficamente diferenciad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etitividad e 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gentes: todo aquello donde la proximidad aumente la eficiencia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2221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el gasto autónom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5589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Elaborado sobre datos del FMI, 1992-ultimo año disponible, excepto Brasil: 1991-1998, y México: 1991-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66680" y="1052640"/>
          <a:ext cx="746784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52640"/>
                    <a:ext cx="746784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6000" y="6093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nicipios en países desarrollados: Dinamarca: 58%, EE.UU.: 2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6009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8360" y="1079280"/>
            <a:ext cx="806436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ziz, Cristina (2006) “Las transferencias fiscales y el gasto público en la federación brasileña: un análisis de la inequidad espacial en el acceso a bienes sociales y territoriales”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Tesis de Magíster en Gestión y Políticas Públicas, U de Ch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lombia (2001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Ley 715, Sistema General de Particip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uverger, Maurice (1970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stitutions politiques et droit constitutionnel (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. Ariel 197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inot, Iván (1998) “Descentralización en América Latina: cómo conciliar eficiencia con equidad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, Reforma y Democracia 10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2) “Descentralización y participación en América Latina: una mirada desde la economía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Revista de la CEPAL 78 (Diciemb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7)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Los procesos de descentralización en América Latina”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vestigaciones Regionales No. 10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(Primav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Guatemala (2002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Acuerdo Gubernativo 312-2002, Reglamento de la Ley General de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LPES/CEPAL (1998).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Reflexiones sobre el Desarrollo y la Responsabilidad del Estad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 CEPAL, LC/IP/L.154. Cap. III, Sección D. Descentralización y Desarrollo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grave, Richard and Peggy (1989)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ublic finance in theory and practic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Trad. McGraw-Hill 199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ates, Wallace (1972)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Fiscal federalis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Trad. IEAL 197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____________(1999) “An essay on fiscal federalism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ournal of Economic Literature Vol. XX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strom, Vincent; Tiebout, Charles; Warren, Robert (1961) “The organization of government in metropolitan areas: a theoretical inquiry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American Political Science Review 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Wiesner, Eduard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992).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olombia: descentralización y federalismo fisc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.  DN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r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a generación de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609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laborado sobre datos del FMI: 1992–último año disponible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xcepto Brasil: 1991-1998, y México: 1991-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Evaluación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¿Autonomías o agentes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 conveniente definir claramente en qué casos los gobiernos locales se comportarán como autonomías y en qué otros como agentes del gobiern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utonomías deben poder adoptar decisiones políticas sobre qué proveer, cuánto proveer, dónde proveer y con qué aportes ciudadanos prov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gentes, sólo ejecutan decisiones del gobierno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países de la región, salvo en algunos casos (subsidios en Chile, SISBEN en Colombia, bolsa familia en Brasil) esta diferenciación no está bien 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7-11-05T14:44:09Z</dcterms:modified>
  <cp:revision>173</cp:revision>
  <dc:subject/>
  <dc:title>Descentralización Fiscal y Financiamiento del Desarrollo Local/Regional</dc:title>
</cp:coreProperties>
</file>