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D498-360F-4B7F-9DCD-88DA1FBD0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90C1-A412-4FD1-ACB6-7D3D63E24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978E-CE4F-4812-9766-A62E41D9F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5FB8-0E2F-4E38-BF64-B345DD219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2CF8-29B1-42A4-A87C-49A5273B7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5CF-60A1-4324-917F-2089320A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F74-2B2F-41F2-BA70-12C52DAD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E395-CC64-4A14-916C-8FF68494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1647-E6B7-4971-9781-6A97038F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C6DA-F85D-4BF1-A3EB-4AC37BEB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D6F6-073D-497B-AF17-73AEE682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244B-E693-484C-8425-AA25DC07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146F-F8B4-4792-9D80-6050BCCB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DC24-554E-44F6-81A6-50219F18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3B89-CD88-475F-B1F2-DA4DD782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724F-4F8B-4989-8CB2-A73A6436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6CA-7EA3-4337-8AEF-2F946F43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0C5D-7AC4-4575-B407-EFF9D830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ABD6-2F37-4A78-B2A1-656E90BC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E149-E9A7-4A2B-8403-6DDD07D8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99BD-FA3E-499B-9E3B-0EF39AD7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8BE5-6251-460D-9F2F-1F9DEA55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60A-88E4-4E02-A8B9-1D1C4B22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396-B16A-4635-A7FC-BC1B4FDF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72F4-FF85-4647-82D4-4A5FF914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91E-D7BF-429F-A9A2-522FF784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DE7-FDB0-41F9-A805-07A226BE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D615-41E4-42D8-8EE1-3FF246D7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B191-3897-44A1-8CA6-4C3C56BA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69AD-14AB-451B-9BD4-C74044571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D9A8-2853-4BD4-90D4-AE1B41862B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DESCENTRALIZACIÓN EN AMÉRICA LATINA Y EQUIDAD SOCIAL Y TERRITORIAL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76720" y="2781000"/>
            <a:ext cx="3240000" cy="158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proce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comend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4724280"/>
            <a:ext cx="66963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ván Fi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gíster en Gestión y Políticas Públicas, Universidad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antiago, 5 de noviembre,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48320" y="1371600"/>
            <a:ext cx="1600200" cy="35053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838080"/>
            <a:ext cx="2664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obierno 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3429000"/>
            <a:ext cx="198144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obierno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1371600"/>
            <a:ext cx="914400" cy="2057400"/>
          </a:xfrm>
          <a:prstGeom prst="line">
            <a:avLst/>
          </a:prstGeom>
          <a:ln w="93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91440" y="1484280"/>
            <a:ext cx="2212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Desc. Polí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políticas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administr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12960" y="26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98920" y="204840"/>
            <a:ext cx="42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Antique Olive"/>
              </a:rPr>
              <a:t>Tipos de Descentr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1828800"/>
            <a:ext cx="20574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4508640"/>
            <a:ext cx="21337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2666880"/>
            <a:ext cx="1828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Desc. Operativa</a:t>
            </a:r>
            <a:r>
              <a:rPr b="1" i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administr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4149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80000" y="1413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Descentralización política: Condiciones de eficiencia</a:t>
            </a:r>
            <a:br>
              <a:rPr sz="2800"/>
            </a:b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Principio fundament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69640" y="1773000"/>
            <a:ext cx="7505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6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descentralización de la provisión de un bien público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s conveniente cuand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1440" indent="-36144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manda está geográficamente diferenciada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facto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49320" indent="-33876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aturales y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49320" indent="-33876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lturales y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49320" indent="-33876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797120" indent="-54216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raestructura bás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797120" indent="-54216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idades produc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ipos de Bien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oca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ritoria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cia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6920" y="515520"/>
            <a:ext cx="7062840" cy="10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Ordenamiento territori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14560" y="1699920"/>
            <a:ext cx="7634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logra la mayor la correspondencia posible entre diferenciación geográfica de la demanda de cada bien y una circunscripción político-administrativa (a partir de Oa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no coincidencia de mapas de demanda con mapas político-administr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s de solu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Máximo acercamiento al ciudad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Agrupamiento de circunscripciones en función de las distintas deman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6920" y="515520"/>
            <a:ext cx="7062840" cy="10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Ordenamiento territori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14560" y="1699920"/>
            <a:ext cx="7634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administraciones de cada nivel son de capacidad simi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grandes disparidades entre administraciones del mismo nivel, sobre todo municip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s de solu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stauración de gobiernos de nivel superior (Ej. Gobiernos region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sociaciones como organizaciones de derecho público (Ej. Brasi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Fusión de municipios (Ej. Europ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6920" y="609120"/>
            <a:ext cx="6597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Revelación de preferenci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decisiones sobre gasto se basan en decisiones sobre los respectivos aportes loc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comparación beneficio/cos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 partir de Musgrav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tonomía para determinar alícuotas de im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Problema: desigualdad de ingre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 de solución: transferencias de libre disponibilidad proporcionales a cada esfuerzo fiscal,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dido no en términos absolutos sino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como proporción del respectivo ingreso de los aport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Bases de los principales impuestos subnacional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042920" y="1916280"/>
          <a:ext cx="7777080" cy="3863880"/>
        </p:xfrm>
        <a:graphic>
          <a:graphicData uri="http://schemas.openxmlformats.org/drawingml/2006/table">
            <a:tbl>
              <a:tblPr/>
              <a:tblGrid>
                <a:gridCol w="1244520"/>
                <a:gridCol w="717840"/>
                <a:gridCol w="718920"/>
                <a:gridCol w="744480"/>
                <a:gridCol w="690840"/>
                <a:gridCol w="717480"/>
                <a:gridCol w="717480"/>
                <a:gridCol w="719280"/>
                <a:gridCol w="717480"/>
                <a:gridCol w="788760"/>
              </a:tblGrid>
              <a:tr h="45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H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P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E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1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termed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Y.B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R.N) </a:t>
                      </a:r>
                      <a:r>
                        <a:rPr b="0" lang="es-BO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Vt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Y.Pe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c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R.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s-BO" sz="15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R.N</a:t>
                      </a:r>
                      <a:r>
                        <a:rPr b="0" lang="es-BO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Municipa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r>
                        <a:rPr b="0" lang="es-BO" sz="19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R.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Veh)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900000" y="5937120"/>
            <a:ext cx="799308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Times New Roman"/>
              </a:rPr>
              <a:t>R.N: Sobre explotación de recursos naturales (Regalías), pero </a:t>
            </a:r>
            <a:r>
              <a:rPr b="0" lang="es-BO" sz="1800" spc="-1" strike="noStrike" u="sng">
                <a:solidFill>
                  <a:srgbClr val="ffffff"/>
                </a:solidFill>
                <a:uFillTx/>
                <a:latin typeface="Times New Roman"/>
              </a:rPr>
              <a:t>no son im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Times New Roman"/>
              </a:rPr>
              <a:t>Act: Sobre actividades económicas (Patentes municip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7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66"/>
                </a:solidFill>
                <a:latin typeface="Times New Roman"/>
              </a:rPr>
              <a:t>Los procesos</a:t>
            </a: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Contexto históric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1447560"/>
            <a:ext cx="81378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teceden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60’s - 70’s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lanificación R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e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gion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acro regiones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scentr. Administrativ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rritori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r>
              <a:rPr b="0" i="1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Desconcentrar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la producción y la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) Mayor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eficienc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la inversi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ón pú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sde los 80’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escentralización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 Polític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-280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. 80’s - 90’s: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ff"/>
                </a:solidFill>
                <a:latin typeface="Times New Roman"/>
              </a:rPr>
              <a:t>Democratización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cia circunscripciones antes con gobiernos electos: estados, municipios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cepto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-3045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algunos casos previa descentralización administrativa, y aun fiscal (caso Ch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-280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Particip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Gobernabilidad democrá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Equidad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territorial, social! (deuda soci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Eficiencia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. 2000 - ...:  + </a:t>
            </a:r>
            <a:r>
              <a:rPr b="0" lang="es-ES_tradnl" sz="2400" spc="-1" strike="noStrike">
                <a:solidFill>
                  <a:srgbClr val="99ff99"/>
                </a:solidFill>
                <a:latin typeface="Times New Roman"/>
              </a:rPr>
              <a:t>Globalización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mpiten terri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-280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Objetivo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Autonomí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para el desarrollo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5445000"/>
            <a:ext cx="74851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498240"/>
            <a:ext cx="807732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ransferencias y eficienci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90720" y="2179800"/>
          <a:ext cx="7619760" cy="3921120"/>
        </p:xfrm>
        <a:graphic>
          <a:graphicData uri="http://schemas.openxmlformats.org/drawingml/2006/table">
            <a:tbl>
              <a:tblPr/>
              <a:tblGrid>
                <a:gridCol w="1349280"/>
                <a:gridCol w="1182600"/>
                <a:gridCol w="2649600"/>
                <a:gridCol w="2438280"/>
              </a:tblGrid>
              <a:tr h="4597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ciona-mient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ún uso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498240"/>
            <a:ext cx="807732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ransferencias y eficienci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90720" y="2179800"/>
          <a:ext cx="7619760" cy="3921120"/>
        </p:xfrm>
        <a:graphic>
          <a:graphicData uri="http://schemas.openxmlformats.org/drawingml/2006/table">
            <a:tbl>
              <a:tblPr/>
              <a:tblGrid>
                <a:gridCol w="1349280"/>
                <a:gridCol w="1182600"/>
                <a:gridCol w="2649600"/>
                <a:gridCol w="2438280"/>
              </a:tblGrid>
              <a:tr h="6022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ciona-mient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ún uso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Política del Gast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entralización Polític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Política del Gasto </a:t>
                      </a: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Operativ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Operativa &gt; Polític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74600" y="3789360"/>
            <a:ext cx="3353040" cy="23065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1773360"/>
            <a:ext cx="3353040" cy="20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27640" y="1773360"/>
            <a:ext cx="2971800" cy="2016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427640" y="1557360"/>
            <a:ext cx="0" cy="530064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380988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90640" y="3789360"/>
            <a:ext cx="670572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67480" y="3352680"/>
            <a:ext cx="16002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Vinculación con esfuerzo lo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1052640"/>
            <a:ext cx="1600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Autonomía de ga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56120" y="1827360"/>
            <a:ext cx="1524240" cy="581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Ramo 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32360" y="4724280"/>
            <a:ext cx="2209680" cy="7038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ondos de Cofinanci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13971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5589720"/>
            <a:ext cx="3519720" cy="5806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ransferencias para fines específicos: México, Brasil, Argenti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2298600"/>
            <a:ext cx="144756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2088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45360" y="134136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596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8028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62920" y="3747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6172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560" y="261720"/>
            <a:ext cx="669780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Transferencias en América Latin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81400" y="5157720"/>
            <a:ext cx="1219320" cy="3376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417204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844640"/>
            <a:ext cx="1218960" cy="337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19640" y="4653000"/>
            <a:ext cx="1143000" cy="3988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70200" y="2269080"/>
            <a:ext cx="3944160" cy="260856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68560" y="3595680"/>
            <a:ext cx="9907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06560" y="2730240"/>
            <a:ext cx="1364400" cy="1975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63640" y="1844640"/>
            <a:ext cx="1800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ú, Ecua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2852640"/>
            <a:ext cx="1368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nezue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03280" y="1268280"/>
            <a:ext cx="12258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Times New Roman"/>
              </a:rPr>
              <a:t>Regalí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6920" y="2492280"/>
            <a:ext cx="936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97160" y="4797360"/>
            <a:ext cx="1298520" cy="398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42920" y="6216480"/>
            <a:ext cx="3313080" cy="58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ransferencias sociales: (Chile),  Colombia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492360" y="458136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925720" y="5177880"/>
            <a:ext cx="419040" cy="103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13000" y="2298600"/>
            <a:ext cx="1143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87280" y="609120"/>
            <a:ext cx="66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Revelación de pre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preferencias ciudadanas están adecuadamente represe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Inadecuados sistemas de repres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s de solu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Sistema electoral territo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líticas de participación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87280" y="609120"/>
            <a:ext cx="66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Economías de escal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ganancias en eficiencia son superiores a las pérdidas de economías de escala (Ostrom et al., Oa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división político-administ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 de solución: agrupación territorial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 hasta encontrar equilibrio entre beneficios y pérdi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6080" y="475920"/>
            <a:ext cx="652464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lgunas conclusion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procesos de descentralización no se han dado con un reordenamiento territorial político-administrativo: disparidades en capacidades loc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los países unitarios se tendió a dar un tratamiento similar a bienes sociales y a bienes territoriales (pero diferenciación temprana en Chile con transferencias socia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 diferencia poco entre funciones como autonomías y funciones como agentes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conflicto entre eficiencia  (decisiones autónomas sobre la base de aportes locales) y 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sistemas de transferencias no inducen vinculación de decisiones sobre gasto con decisiones sobre ingreso (excepto en estados de México)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sólo posible en escasos municipios “rico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caso acercamiento al ciudadano. Cuando se llega al nivel local, excesiva disparidad (excepto en Ch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nivel municipal las preferencias ciudadanas no están adecuadamente represent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6920" y="404640"/>
            <a:ext cx="633276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Times New Roman"/>
              </a:rPr>
              <a:t>Recomendaciones</a:t>
            </a:r>
            <a:br>
              <a:rPr sz="3600"/>
            </a:b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Principio fundamental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11240" y="1449000"/>
            <a:ext cx="76644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ffff"/>
                </a:solidFill>
                <a:latin typeface="Times New Roman"/>
              </a:rPr>
              <a:t>Diferenciar entre bienes sociales, territoriales y mix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Bienes sociales: bienes de consumo individual o familiar,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para los que el Estado garantiza a todos los habitantes cierto nivel mínimo de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Bienes territoriales: bienes de consumo colectivo o individual,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cuya cuantía de provisión depende de decisiones en el nivel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Bienes mixtos: bienes de consumo individual o familiar cuya cuantía de provisión depende de decisiones en el nivel local,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para los que se cuenta con subsidios nacionales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. Ej. agua po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ffff"/>
                </a:solidFill>
                <a:latin typeface="Times New Roman"/>
              </a:rPr>
              <a:t>Aplicar principio de igualdad jurídica del ciudadano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Bienes sociales: igual satisfacción mínima garantizada por el Esta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Bienes territoriales: igual satisfacción a igual sacri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159760" cy="12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sociale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en Bienes Sociales* por Pobre, Máximo y Mínimo por Estado, según Región (2002), en Reai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11280" y="1628640"/>
          <a:ext cx="8281800" cy="411012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448000"/>
                <a:gridCol w="25207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re: 2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á: 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gipe: 11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anhaô: 6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trito Federal: 4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o Grosso: 2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o Paulo: 41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pírito Santo: 20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a Catarina: 41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ná: 23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468360" y="5769000"/>
            <a:ext cx="85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uente: Cristina Aziz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4360" y="609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Bienes sociales: educación escolar, atención a la salud, vivienda y asistencia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159760" cy="12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sociale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en Bienes Sociales* por Pobre, Máximo y Mínimo por Estado, según Región (2002), en Reai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611280" y="1628640"/>
          <a:ext cx="8281800" cy="411012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448000"/>
                <a:gridCol w="25207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re: 2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á: 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gipe: 11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Maranhaô: 6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trito Federal: 4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o Grosso: 2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o Paulo: 41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pírito Santo: 20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a Catarina: 41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ná: 23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468360" y="5769000"/>
            <a:ext cx="85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uente: Cristina Aziz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4360" y="609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Bienes sociales: educación escolar, atención a la salud, vivienda y asistencia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159760" cy="12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sociale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en Bienes Sociales* por Pobre, Máximo y Mínimo por Estado, según Región (2002), en Reai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11280" y="1628640"/>
          <a:ext cx="8281800" cy="411012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448000"/>
                <a:gridCol w="25207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re: 2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á: 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gipe: 11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anhaô: 6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Distrito Federal: 4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o Grosso: 2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o Paulo: 41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pírito Santo: 20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a Catarina: 41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ná: 23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468360" y="5769000"/>
            <a:ext cx="85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uente: Cristina Aziz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609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Bienes sociales: educación escolar, atención a la salud, vivienda y asistencia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Qué se descentralizó? A qué nivel?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272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Qué se descentralizó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incip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mpliación de competencias en infraestructura básica (vialidad, saneamiento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visión de educación y salud (nove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Venezuela y Ecuador, sujeto a requer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cia qué nivel de gobierno autónom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íses federales: primero al nivel inter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íses unitarios: prioritariamente a los municip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rasil (desde 1988): a estado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y municip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centralización democrática vs. jerárqu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: Gasto Anual en Educación Pública por Estudiante, por Región y por Comuna según Mínimo y Máximo – 2005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(En Miles de Pesos)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-468360" y="1347840"/>
            <a:ext cx="1090764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26920" y="198000"/>
            <a:ext cx="788544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territoriales: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Territorial por Habitante según Esfuerzo Fiscal Subnacional, por Región (2002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24000" y="1436760"/>
          <a:ext cx="8712000" cy="4368600"/>
        </p:xfrm>
        <a:graphic>
          <a:graphicData uri="http://schemas.openxmlformats.org/drawingml/2006/table">
            <a:tbl>
              <a:tblPr/>
              <a:tblGrid>
                <a:gridCol w="1866600"/>
                <a:gridCol w="1866960"/>
                <a:gridCol w="1692360"/>
                <a:gridCol w="1600200"/>
                <a:gridCol w="1685880"/>
              </a:tblGrid>
              <a:tr h="124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s/Y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Hab. en Bienes Territori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En Reai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is por 1% de 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468360" y="5950080"/>
            <a:ext cx="8523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uente: Elaborado sobre datos de Cristina Aziz (2006). 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Las transferencias fiscales y el gasto público en la federación Brasileña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(Tesis de Magister, U de Chi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6920" y="198000"/>
            <a:ext cx="788544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territoriales: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Territorial por Habitante según Esfuerzo Fiscal Subnacional, por Región (2002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1436760"/>
          <a:ext cx="8712000" cy="4368600"/>
        </p:xfrm>
        <a:graphic>
          <a:graphicData uri="http://schemas.openxmlformats.org/drawingml/2006/table">
            <a:tbl>
              <a:tblPr/>
              <a:tblGrid>
                <a:gridCol w="1866600"/>
                <a:gridCol w="1866960"/>
                <a:gridCol w="1692360"/>
                <a:gridCol w="1600200"/>
                <a:gridCol w="1685880"/>
              </a:tblGrid>
              <a:tr h="124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s/Y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Hab. en Bienes Territori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En Reai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is por 1% de 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ación respecto a Región Nordes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468360" y="5950080"/>
            <a:ext cx="8523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uente: Elaborado sobre datos de Cristina Aziz (2006). 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Las transferencias fiscales y el gasto público en la federación Brasileña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(Tesis de Magister, U de Chi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hile: Gasto Territorial por Habitante según Esfuerzo Fiscal Municipal Directo, por Región (2005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1143000"/>
          <a:ext cx="8229600" cy="5227560"/>
        </p:xfrm>
        <a:graphic>
          <a:graphicData uri="http://schemas.openxmlformats.org/drawingml/2006/table">
            <a:tbl>
              <a:tblPr/>
              <a:tblGrid>
                <a:gridCol w="949320"/>
                <a:gridCol w="1108080"/>
                <a:gridCol w="1028880"/>
                <a:gridCol w="1028520"/>
                <a:gridCol w="1662120"/>
                <a:gridCol w="1028520"/>
                <a:gridCol w="14241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0.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3,8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miñ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2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erra Gord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1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l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4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ra Amarill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,4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i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aman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barbal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5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3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paraí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,8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nqueh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9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8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mbaron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hilem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8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3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6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 Jav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llá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3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s Alam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6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8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,9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lipeu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4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2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ranq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ullí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0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sén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ihaiq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6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nta Are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,4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ven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7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ili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,2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ta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685800" y="644508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ente: Elaborado en base a datos del SINIM (Chile, 200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hile: Gasto Territorial por Habitante según Esfuerzo Fiscal Municipal Directo, por Región (2005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57200" y="1143000"/>
          <a:ext cx="8229600" cy="5227560"/>
        </p:xfrm>
        <a:graphic>
          <a:graphicData uri="http://schemas.openxmlformats.org/drawingml/2006/table">
            <a:tbl>
              <a:tblPr/>
              <a:tblGrid>
                <a:gridCol w="949320"/>
                <a:gridCol w="1108080"/>
                <a:gridCol w="1028880"/>
                <a:gridCol w="1028520"/>
                <a:gridCol w="1662120"/>
                <a:gridCol w="1028520"/>
                <a:gridCol w="14241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0.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3,8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miñ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2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erra Gord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1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l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4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ra Amarill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,4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i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aman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barbal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5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3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paraí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queh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9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8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mbaron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hilem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8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3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6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 Jav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llá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3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s Alam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6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8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,9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lipeu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2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ranq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ullí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isé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ihaiq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6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nta Are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,4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ven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7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ili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,2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ta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685800" y="644508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ente: Elaborado en base a datos del SINIM (Chile, 200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hile: Gasto Territorial por Habitante según Esfuerzo Fiscal Municipal Directo, por Región (2005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1143000"/>
          <a:ext cx="8229600" cy="5227560"/>
        </p:xfrm>
        <a:graphic>
          <a:graphicData uri="http://schemas.openxmlformats.org/drawingml/2006/table">
            <a:tbl>
              <a:tblPr/>
              <a:tblGrid>
                <a:gridCol w="949320"/>
                <a:gridCol w="1108080"/>
                <a:gridCol w="1028880"/>
                <a:gridCol w="1028520"/>
                <a:gridCol w="1662120"/>
                <a:gridCol w="1028520"/>
                <a:gridCol w="14241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0.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3,8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miñ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2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erra Gord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1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l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4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ra Amarill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,4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i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aman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barbal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5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3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paraí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,8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nqueh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9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8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mbaron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hilem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8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3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6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 Jav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llá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3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s Alam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6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8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,9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lipeu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2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ranq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ullí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isé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ihaiq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6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nta Are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,4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ven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0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7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li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2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a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685800" y="644508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ente: Elaborado en base a datos del SINIM (Chile, 200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Ordenamiento territorial político-administrativ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gual nivel de autonomía para ambos niveles de gobiernos subnacionales, definir ámbitos para cada ni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Gobiernos regionales en el nivel intermedio (Chile, Perú, Ecuador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dministraciones locales de capacidad similar: consorcios territoriales públicos (Brasil 2005) para municipios pequeñ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Revelación de pre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car sistemas electorales locales: sistemas de representacion territo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bienes territoriales: procesos participativos de decisión sobre gas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y aporte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stad para definir alícuo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ir contribuciones comunitar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ncular transferencias a aporte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minar exenciones: beneficios &gt;&gt; contribu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ransformar los sistemas de transferencia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16000" y="1387440"/>
            <a:ext cx="7848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obre propuesta ILPES 1998: transformar los sistemas de transferencias intergubernamentales en dos sistema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ubsidi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stema de Transferencias Sociales, para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igualación de derechos sociale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garantizar una canasta de bienes y servicios, integrado y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pera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or gobiernos subnacionales (Colombia 20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stema de Transferencias Territoriales, para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igualación del derecho a proveerse de bienes locales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stinado a  apoyar el desarrollo local y regional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a partir de servicios de infraestructur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libre disponibilidad pero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porcionales al esfuerzo loc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tributación local/ingreso geográfico (o ponderada por pobrez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yendo contribuciones comunitarias (desde 2003 en legislación de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Guatemal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rofundizar la descentralizació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ecidas estas condiciones de eficiencia y equidad: transferir gradualmente a gobiernos subnacionales: individuales o asociados, según configuración geográfica de la deman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 autonomías: toda la provisión de bienes públicos con demanda geográficamente diferenciada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etitividad e igualdad de oportun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 agentes: todo aquello donde la proximidad aumente la eficiencia glob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920" y="22212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el gasto autónom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55897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Elaborado sobre datos del FMI, 1992-ultimo año disponible, excepto Brasil: 1991-1998, y México: 1991-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3824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066680" y="1052640"/>
          <a:ext cx="7467840" cy="45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52640"/>
                    <a:ext cx="746784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116000" y="6093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nicipios en países desarrollados: Dinamarca: 58%, EE.UU.: 24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660096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Bibliografí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8360" y="1079280"/>
            <a:ext cx="8064360" cy="56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ziz, Cristina (2006) “Las transferencias fiscales y el gasto público en la federación brasileña: un análisis de la inequidad espacial en el acceso a bienes sociales y territoriales”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Tesis de Magíster en Gestión y Políticas Públicas, U de Chi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lombia (2001)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Ley 715, Sistema General de Particip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Duverger, Maurice (1970)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Institutions politiques et droit constitutionnel (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ad. Ariel 197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Finot, Iván (1998) “Descentralización en América Latina: cómo conciliar eficiencia con equidad”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, Reforma y Democracia 10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_________ (2002) “Descentralización y participación en América Latina: una mirada desde la economía”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Revista de la CEPAL 78 (Diciembr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_________ (2007)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“Los procesos de descentralización en América Latina”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Investigaciones Regionales No. 10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(Primaver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Guatemala (2002)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Acuerdo Gubernativo 312-2002, Reglamento de la Ley General de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LPES/CEPAL (1998).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Reflexiones sobre el Desarrollo y la Responsabilidad del Estado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. CEPAL, LC/IP/L.154. Cap. III, Sección D. Descentralización y Desarrollo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usgrave, Richard and Peggy (1989).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Public finance in theory and practic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Trad. McGraw-Hill 199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ates, Wallace (1972)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Fiscal federalism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Trad. IEAL 197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____________(1999) “An essay on fiscal federalism”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ournal of Economic Literature Vol. XX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strom, Vincent; Tiebout, Charles; Warren, Robert (1961) “The organization of government in metropolitan areas: a theoretical inquiry”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American Political Science Review 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Wiesner, Eduardo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992). </a:t>
            </a: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Colombia: descentralización y federalismo fisc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.  DNP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489800" cy="99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Descentralización de decisiones sobre gasto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00000" y="1197000"/>
          <a:ext cx="7991640" cy="5256360"/>
        </p:xfrm>
        <a:graphic>
          <a:graphicData uri="http://schemas.openxmlformats.org/drawingml/2006/table">
            <a:tbl>
              <a:tblPr/>
              <a:tblGrid>
                <a:gridCol w="1295640"/>
                <a:gridCol w="720720"/>
                <a:gridCol w="647640"/>
                <a:gridCol w="720720"/>
                <a:gridCol w="718920"/>
                <a:gridCol w="719280"/>
                <a:gridCol w="792360"/>
                <a:gridCol w="792000"/>
                <a:gridCol w="792000"/>
                <a:gridCol w="79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H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EC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 Bás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Edu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Prima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2o. y 3r 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489800" cy="99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Descentralización de decisiones sobre gasto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00000" y="1197000"/>
          <a:ext cx="7991640" cy="5256360"/>
        </p:xfrm>
        <a:graphic>
          <a:graphicData uri="http://schemas.openxmlformats.org/drawingml/2006/table">
            <a:tbl>
              <a:tblPr/>
              <a:tblGrid>
                <a:gridCol w="1295640"/>
                <a:gridCol w="720720"/>
                <a:gridCol w="647640"/>
                <a:gridCol w="720720"/>
                <a:gridCol w="718920"/>
                <a:gridCol w="719280"/>
                <a:gridCol w="792360"/>
                <a:gridCol w="792000"/>
                <a:gridCol w="792000"/>
                <a:gridCol w="79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 Bás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Edu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Prima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2o. y 3r 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489800" cy="99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Descentralización de decisiones sobre gasto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00000" y="1197000"/>
          <a:ext cx="7991640" cy="5256360"/>
        </p:xfrm>
        <a:graphic>
          <a:graphicData uri="http://schemas.openxmlformats.org/drawingml/2006/table">
            <a:tbl>
              <a:tblPr/>
              <a:tblGrid>
                <a:gridCol w="1295640"/>
                <a:gridCol w="720720"/>
                <a:gridCol w="647640"/>
                <a:gridCol w="720720"/>
                <a:gridCol w="718920"/>
                <a:gridCol w="719280"/>
                <a:gridCol w="792360"/>
                <a:gridCol w="792000"/>
                <a:gridCol w="792000"/>
                <a:gridCol w="79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H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EC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 Bás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Edu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Prima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2o. y 3r 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fr.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993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la generación de ingres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93920" y="654516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609300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laborado sobre datos del FMI: 1992–último año disponible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xcepto Brasil: 1991-1998, y México: 1991-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1582560"/>
          <a:ext cx="7696080" cy="44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82560"/>
                    <a:ext cx="769608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66"/>
                </a:solidFill>
                <a:latin typeface="Times New Roman"/>
              </a:rPr>
              <a:t>Evaluación</a:t>
            </a: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¿Autonomías o agentes?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 conveniente definir claramente en qué casos los gobiernos locales se comportarán como autonomías y en qué otros como agentes del gobiern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os casos en que actúan como autonomías deben poder adoptar decisiones políticas sobre qué proveer, cuánto proveer, dónde proveer y con qué aportes ciudadanos prove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os casos en que actúan como agentes, sólo ejecutan decisiones del gobierno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os países de la región, salvo en algunos casos (subsidios en Chile, SISBEN en Colombia, bolsa familia en Brasil) esta diferenciación no está bien defin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20:28:21Z</dcterms:created>
  <dc:creator>I.Finot</dc:creator>
  <dc:description/>
  <dc:language>en-US</dc:language>
  <cp:lastModifiedBy>JMFINOT</cp:lastModifiedBy>
  <dcterms:modified xsi:type="dcterms:W3CDTF">2007-11-05T14:44:09Z</dcterms:modified>
  <cp:revision>173</cp:revision>
  <dc:subject/>
  <dc:title>Descentralización Fiscal y Financiamiento del Desarrollo Local/Regional</dc:title>
</cp:coreProperties>
</file>