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CE3-155A-4808-B7FD-27F05E98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A72-D305-45E4-8CEA-4DC8D635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FE2-E73E-43EF-A924-2DE5AFBB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979-9871-489C-950A-C6970D15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A45F-3C6D-413C-AED8-C4F00508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4E66-7D7E-45A3-B92D-95F88ABF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643B-CC02-4162-B039-92190FD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C575-EC7F-4746-8935-EEC51714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DDC2-EE6F-420B-B315-B364215E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712-C6BA-460D-B063-6A4F0559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4C7D-D311-4B67-A7C3-E7A0D86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85E-7456-472D-ACA3-459D543C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F4AC-5360-42F3-B752-DC9C86C9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AD5-6B58-40C8-B756-361A5130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4A70-4CE1-441A-A753-010E2473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51E6-A9F1-40BB-888E-FB82DB2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1750-FC58-4B3B-BC5C-68146A60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1A0-2D1F-44DC-9418-8C387653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287-5A9C-4658-B3AB-24774D02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E93-0AAB-4E52-93F6-E1C6E338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2CE-BBBE-4E0B-9833-8932A01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911-E4AF-4326-90CC-CABC3329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A27-75A8-48A9-A2A9-694FA3B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863-F038-47C6-B093-D5E427A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D04-E04F-4447-9316-866B7956C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8161-DC21-415E-806A-8F8092618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E57-8BFA-454E-ADBC-CD30D7583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074E-52FF-4BF8-9840-B5D3F9CF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361960"/>
            <a:ext cx="731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SCENTRALIZ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ópicos de Finanz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de Septiembre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ICIENCIA ECONOMICA Y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onomía del bienestar: eficiencia se maximiza cuando distribución de recursos se adecúa a preferencias ciudad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: bienes públicos, consumo no excluy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uesta: teorema de la descentralización de O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es y servicios públicos deben proporcionarse en el nivel más descentralizado en que se apropie la mayor parte de sus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396-0D1C-440A-AD88-26505052BA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AB81D-A6E5-43D6-B7E7-EB156E5FAF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NTES DE LA 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iciencia en asignación de recursos no depende sólo de proximidad física, sin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legi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isiones se aplican a bienes públicos cuyos beneficios sean apropiados a nivel region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obernabilidad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mecanismos mediante los cuales comunidad regional/local exprese sus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xibilidad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ón/municipio tiene flexibilidad para adecuar oferta de bienes públicos a preferencias de la ciudad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ADA-E8B1-4DB3-A10C-91C6B99834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55E51-CFEC-400A-99EC-0E99ED33B13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LACION PRINCIPAL-A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taleza y localización de mandato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s comparativas de gobiernos subnacionales en cumplimiento de mandato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ma clave: estructura de incentivos, medición de actividad/desempeño, rendición de cuentas, mecanismo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2FE-17BF-46C7-8970-D5D11B8690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21392-C4C1-4F90-A3F2-091DA6D61D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ONTR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31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ía: dictador benevolente asigna funciones y financiamiento para maximizar bien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a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 variedad de arreglos institucionales y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países cuentan con funciones y recursos asignados a nivel sub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so de la historia y tipo de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mixtos e importancia de transferencias intergubern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posición de funciones, conflictos, necesidad de coord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4AD-E48C-43E8-83D0-CF5379C735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77F09-6AA2-4D26-9510-90B4CDFAB68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0400" y="1752480"/>
            <a:ext cx="396252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GRAMAS,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 EXTERNA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IENES MERITO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CON DESECONOM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ESC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371600"/>
            <a:ext cx="1752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562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IENES PU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0BB-A941-4A79-8AF4-98CF18866B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CAA80-B2F1-4D1B-B753-49EF0C8087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SIGNACION DE I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533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estabilizadores: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redistributivos: ingres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móviles: utilidade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uestos que gravan factores fijos: impuest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s, cobro por prestaciones: permisos cir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1676520"/>
            <a:ext cx="304920" cy="190476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733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3280" y="2438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39E-9FE3-4AF4-B44C-DD1C09F9B2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EAC19-D9D6-4873-886A-4D85895EB85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S EN FINANCIAMIENTO SUB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verticales: funciones municipales – ingresos propios munici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balances horizontales: ingresos propios municipales, entre muni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029-7929-4E74-B484-8E08555653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4F203-EA4F-462B-97F1-7F7336FF464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dicion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jetas a restricción presupues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8DA-378D-40BB-8C06-03800191E0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F674F-851E-44B2-BBE1-6D290B7D5D7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PARA TRANS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vert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olver desbalances horizo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flejar exter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centivos para cumplir objetivos de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9ED-AAE8-43D1-8737-C980951D17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B1F5C-A614-4C99-B776-EA2214D3FD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52480" y="762120"/>
          <a:ext cx="6747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762120"/>
                    <a:ext cx="6747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4D8-762D-4BFD-B0D4-BD3EA99B9E0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F6649-E5A3-4A09-8A04-A3752FD6BF7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nivel político-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resión de balances de poderes, régimen político, tipo de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ones: contrapesos, balances de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organización est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dato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aturaleza de la organización y su estructur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burocrática, matr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 divi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574-D20B-4F9A-9453-E5416EEB75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60F51-D34A-414E-89E2-9C472E81E48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ROBLEMAS EMPI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en asignación y eficiencia en uso de 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lt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lismo, corru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B0B-5869-4015-8319-48EF62E6F5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915A0-363C-407F-9768-7E337618DF4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APITUL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croestructura: descentr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croestructura: divis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F11-7660-4ADE-AA47-81FC8AE7A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8314D-A32A-46C2-898F-8C15A0E99D17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X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entralización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escentralización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oncentración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8DA-8DFB-409B-9108-CF1AB88356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BF821-4EEF-4816-B71A-626E5417A4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MOTIVACIONES PARA A LA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ones con incompetencia guberna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úsqueda de instancias de participación-democracia más cerca de la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equilibrios geo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B25-61F6-4818-B7BE-35332A1116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68139-B70D-420D-A725-084E610EAAE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ACIONALIDAD ECONOMICA Y POLI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económica: eficiencia y equidad en distribución de actividades públicas; distribución de funciones y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sión política: asignación de poder, autoridad y responsabilidad sobre decisione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3A0-36DE-45F5-9541-65CC3D8C69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26676-8B2A-4114-9994-3B2956FA806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ones del gobier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i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DAA-0736-4A99-98CE-F5834D309E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61CC8-C38A-4B4E-ACB4-046D71774DD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8600"/>
            <a:ext cx="64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UNDAMENTOS ECONÓMICOS DE LA DESCEN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467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ón de bienes y servicios por los gobiernos subnacionales se ajusta mejor a las necesidades y preferencia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 comunidad se enfrenta al costo económico de las decisiones que la afectan directamente, se maximiza la racionalidad de las decisiones colectiv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s gobiernos subnacionales tienen ventajas comparativas en la provisión de bienes y servicios cuyos beneficios se perciben a nivel local y también cuando es posible entregarlos de modo diferenciado, de acuerdo a las preferencias (necesidades)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Existen bienes y servicios públicos en que se producen deseconomías de escala y donde una administración descentralizada aumenta la eficiencia ope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E757-D9C6-49D9-9144-0F0A16F24F8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6F754-8774-400F-830D-E3D95D3ABE2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FOQUES ECONOMICOS ALTERNATIVOS SOBRE DESCENTR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542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cción públic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ximización del bienestar, ajustando responsabilidades y financiamiento al nivel en que se apropian benef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ción principal-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izar provisión de servicios públicos, combinando economías/deseconomías de escala, eficiencia productiva, acceso 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scentraliza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DA6-7907-4ADB-B786-26CE9A0CD3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33BE4-3A3B-4BEE-AAE4-41D24C27980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1:33:57Z</dcterms:created>
  <dc:creator>mmc</dc:creator>
  <dc:description/>
  <dc:language>en-US</dc:language>
  <cp:lastModifiedBy>Mmarcel</cp:lastModifiedBy>
  <dcterms:modified xsi:type="dcterms:W3CDTF">2005-09-04T23:45:37Z</dcterms:modified>
  <cp:revision>4</cp:revision>
  <dc:subject/>
  <dc:title>DESCENTRALIZA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