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A57F-D3B0-4067-81A0-6E78AC28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972-71D2-41CC-9870-BABDBBF3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B37-3D0E-4282-B889-DD9FA537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40B-4284-42D9-B7F3-3E1887C8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A1BB-1851-4E12-8F89-7EFAB386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6F33-56B9-4834-9B73-9C59DCA1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F56A-3F01-43A6-92C6-3028A50C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8D58-E0E9-4F85-A612-D42CE0E2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79DF-38F9-4355-8AB5-F519402D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3342-857F-4EBD-A9EF-2E3EFE7B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52C4-1767-4D2D-B9D6-CCA90393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77A-2794-480A-915F-47E66E97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0902-5B2F-41DE-A901-D6460914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695E-5317-48DC-A6D8-BA4DF94B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A9F1-890B-4046-810E-D12DEC85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CDCC-9E5E-4617-9D41-0A7E4AA3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C246-3312-442B-B10C-2325B40D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05F-75C2-460D-B8F1-0EF186CA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125-D17A-4817-A4E0-2782642F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679-B0F1-4D36-95F1-75FAEB10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C17-5B7A-411D-9E14-B6DBFC7C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CB0-53AD-4A70-BA19-F385D0FD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FAE-C4BD-4397-9E9F-8565B222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0D8-4225-46E4-8FE2-8E433BB6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4D4B-9744-45A5-836D-5BED83856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97B3-FBD3-4FEA-BE68-0F17CDCDE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A183-9788-4464-9C81-C80877207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4DC4-9EAE-4578-A0DA-AEA8239CD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361960"/>
            <a:ext cx="7313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SCENTRALIZ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2880" y="419076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ópicos de Finanz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de Septiembre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FICIENCIA ECONOMICA Y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7086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onomía del bienestar: eficiencia se maximiza cuando distribución de recursos se adecúa a preferencias ciudad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: bienes públicos, consumo no excluy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uesta: teorema de la descentralización de O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enes y servicios públicos deben proporcionarse en el nivel más descentralizado en que se apropie la mayor parte de sus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66B-AFEF-4044-A1A6-F293B7BFD6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EFE7F-C2CD-4150-A331-814873CB01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NTES DE LA 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ficiencia en asignación de recursos no depende sólo de proximidad física, sino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Elegibilidad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isiones se aplican a bienes públicos cuyos beneficios sean apropiados a nivel regional/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Gobernabilidad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mecanismos mediante los cuales comunidad regional/local exprese sus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lexibilidad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ión/municipio tiene flexibilidad para adecuar oferta de bienes públicos a preferencias de la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0B9-1078-476C-BBBE-C8146ACBB9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68036-DFA6-42EE-A1B2-E0EE56B085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LACION PRINCIPAL-A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ortaleza y localización de mandatos 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ntajas comparativas de gobiernos subnacionales en cumplimiento de mandato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ma clave: estructura de incentivos, medición de actividad/desempeño, rendición de cuentas, mecanismo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644-B5C6-45C8-924D-75306C1879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612AC-CEF6-48FC-A5CE-A5ABC2DCDF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ONTR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731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oría: dictador benevolente asigna funciones y financiamiento para maximizar bien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plia variedad de arreglos institucionales y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países cuentan con funciones y recursos asignados a nivel sub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so de la historia y tipo de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elos mixtos e importancia de transferencias intergubern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erposición de funciones, conflictos, necesidad de coord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983-48FD-45EB-AA38-B659DA5924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ED329-828D-4BE9-A11E-C2E8B6208C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00400" y="1752480"/>
            <a:ext cx="396252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GRAMAS,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 EXTERNA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IENES MERITO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RVICIOS CON DESECONOM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ESC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SIGNACION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1371600"/>
            <a:ext cx="1752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IENES PU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56272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IENES PU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1DD-344C-4D27-90B1-9A9A406E03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946FC-A9F0-428A-969E-1908B67970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SIGNACION DE I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533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estabilizadores: 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redistributivos: ingres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que gravan factores móviles: utilidade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que gravan factores fijos: impuest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rechos, cobro por prestaciones: permisos cir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1676520"/>
            <a:ext cx="304920" cy="190476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3733920"/>
            <a:ext cx="304920" cy="152388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3280" y="24382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42670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329-AEBA-4567-914E-86CE3F984E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62FBE-5C2D-4574-AC47-6A31EBB7F5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SBALANCES EN FINANCIAMIENTO SUB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balances verticales: funciones municipales – ingresos propios municip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balances horizontales: ingresos propios municipales, entre muni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786-AC77-437E-BC50-B7D9D42311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030DC-D888-4723-A864-0F1F8F85FC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RANS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di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jetas a restricción presupues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052-220C-4FD1-BAA9-FD6EA3EFE2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2D13B-45BA-4C63-9C9D-AAAE640021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ACIONALIDAD PARA TRANS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olver desbalances vert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olver desbalances horizo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flejar extern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centivos para cumplir objetivos de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256-9A56-44B6-A16A-A6DCB769A5F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698E1-44CB-4394-B6DB-EAF542FE3F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52480" y="762120"/>
          <a:ext cx="6747120" cy="533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762120"/>
                    <a:ext cx="6747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1A3-8EB2-42B3-9090-9CFAA2AAFB7D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6DA11-A797-4D03-BBF0-932ABA6EF2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APITU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croestructura: nivel político-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 de balances de poderes, régimen político, tipo de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ocupaciones: contrapesos, balances de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croestructura: organización est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tos institu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aturaleza de la organización y su estructur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 burocrática, matr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 divi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3B7-FFF7-4C5B-AFCC-ECDE7EA1C8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3792C-FFE7-4FED-B7A9-D275039B3E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ROBLEMAS EMPI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en asignación y eficiencia en uso de los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ilt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dad adminis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lismo, corru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FDE-B211-4BD1-AA96-BB5AE688C44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D77B9-1276-476C-8D74-2C0A99A56D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APITU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croestructura: descentr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croestructura: division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6EA-C394-4DCC-9275-C7785037A9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76F69-EAB4-486A-BA8C-70E9615F8B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X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entralizac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entralización administ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escentralización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oncentrac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oncentración fu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FADC-078D-4623-9762-F0BCA94BCE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83F00-F1A9-42D7-81C2-473C739ADE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OTIVACIONES PARA A LA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ustraciones con incompetencia gubern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úsqueda de instancias de participación-democracia más cerca de la 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equilibrios geo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EEA-BEB8-4B01-9722-39DEC49506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9EA29-D28C-4883-B6FC-6749179218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ACIONALIDAD ECONOMICA Y P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sión económica: eficiencia y equidad en distribución de actividades públicas; distribución de funciones y 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sión política: asignación de poder, autoridad y responsabilidad sobre decisione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6399-882A-417B-8609-01F7A3EDC9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A3C4E-2080-4DC3-B7DA-FEEF5DB793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UNDAMENTOS ECONÓMICOS DE LA DESCEN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ones del gobier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i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7A2-8E02-4281-BB38-1037FB6805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B2D78-7A54-4906-956A-602A4C8905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228600"/>
            <a:ext cx="64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UNDAMENTOS ECONÓMICOS DE LA DESCEN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447920"/>
            <a:ext cx="7467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rovisión de bienes y servicios por los gobiernos subnacionales se ajusta mejor a las necesidades y preferencias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uando la comunidad se enfrenta al costo económico de las decisiones que la afectan directamente, se maximiza la racionalidad de las decisiones colectiva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s gobiernos subnacionales tienen ventajas comparativas en la provisión de bienes y servicios cuyos beneficios se perciben a nivel local y también cuando es posible entregarlos de modo diferenciado, de acuerdo a las preferencias (necesidades)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xisten bienes y servicios públicos en que se producen deseconomías de escala y donde una administración descentralizada aumenta la eficiencia ope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0E0-1597-4274-B6E3-E072ED22DA0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6A9C8-A963-430F-8E93-6797F2AD75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7432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FOQUES ECONOMICOS ALTERNATIVOS SOBRE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542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cción públic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ximización del bienestar, ajustando responsabilidades y financiamiento al nivel en que se apropian benef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lación principal-a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timizar provisión de servicios públicos, combinando economías/deseconomías de escala, eficiencia productiva, acceso 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3FE-A305-4ABB-ABAB-E623FA306B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627C9-C0A9-4570-9E66-09DCA93FE0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1:33:57Z</dcterms:created>
  <dc:creator>mmc</dc:creator>
  <dc:description/>
  <dc:language>en-US</dc:language>
  <cp:lastModifiedBy>Mmarcel</cp:lastModifiedBy>
  <dcterms:modified xsi:type="dcterms:W3CDTF">2005-09-04T23:45:37Z</dcterms:modified>
  <cp:revision>4</cp:revision>
  <dc:subject/>
  <dc:title>DESCENTRALIZAC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