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6D79-BB8D-4C3F-BCE1-5C738E5053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164E-918B-4F1D-A333-8ECD6CB9D1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CC9-EAAC-4E37-892E-65012D3C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9E6-4C1F-4EA7-9814-A894BCC5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02B-D49A-419F-A049-76C6237A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148-6677-488C-A806-5B4186D2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6AD-E927-4A01-8A7F-F7F87D3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EC2-F3B4-41DC-9D41-C1A1D149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369-1C0D-4176-8A0A-4B4C1CD2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8B8-0BAE-490D-9101-7FDEFDC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602-0A0E-492A-BAB3-24078147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EAE-2B8F-4B7A-A3B3-2FD7956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AFD-665A-4CD7-BD0E-D732ED7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5B7-68DE-467E-BCAB-6FD9AF1C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AF69-45C5-4838-ADB3-FD4506B11067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1CF-56D9-4485-9FE0-D6B103A4FC22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Topicos de 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io Marce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MGPP-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Segundo semestre 2005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9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21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26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34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40320" y="5181480"/>
            <a:ext cx="2450880" cy="777960"/>
            <a:chOff x="6340320" y="5181480"/>
            <a:chExt cx="2450880" cy="777960"/>
          </a:xfrm>
        </p:grpSpPr>
        <p:grpSp>
          <p:nvGrpSpPr>
            <p:cNvPr id="141" name=""/>
            <p:cNvGrpSpPr/>
            <p:nvPr/>
          </p:nvGrpSpPr>
          <p:grpSpPr>
            <a:xfrm>
              <a:off x="6557400" y="5261040"/>
              <a:ext cx="2124720" cy="647640"/>
              <a:chOff x="6557400" y="5261040"/>
              <a:chExt cx="212472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00760" y="5261040"/>
                <a:ext cx="1641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DESEMP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7400" y="5545440"/>
                <a:ext cx="2124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SOBRESAL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40320" y="5181480"/>
              <a:ext cx="2450880" cy="777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876-1719-4471-BD02-41E3F2BBEA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8ACCF-9D0C-4AB9-9710-E57086140541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302-5FA1-4303-82C6-7FD33C4669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14555-1FA8-482B-BF04-D42B6CE979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89A-8954-4524-BF12-E79D918C31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080F2-0860-4C58-A009-74742044BC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4F6-8918-4461-833F-130C779ECE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66CAD-76F6-463B-8364-4C434A7094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1828800"/>
          <a:ext cx="685800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28800"/>
                    <a:ext cx="6858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0D1-458B-44B2-8142-E22F49FB9B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CFB2A-8B9B-482D-92E8-7CFACA204A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600200"/>
          <a:ext cx="6234120" cy="472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00200"/>
                    <a:ext cx="62341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7DD-F6A6-4451-B82C-F5BF52A883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39AC7-2FF8-4421-BF16-DB127D37C4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C98-5A86-4249-B5EC-934C3DAB47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008A1-E8C7-49FB-9B85-9B93C07F4F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tipo “consenso de Washington”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97E-5FEA-4AC0-8125-942EB7A43A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F4EEA-F1E4-47EC-90A7-73E0F40621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de “public choice”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en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B59-6CC1-4E73-B1F9-1FE8D1F0ED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4A153-32A8-4F0A-8DDD-177902B441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67B-A4E8-4AF8-AA22-3B397ADF8A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1012E-39FA-439E-BFFD-D2C11012FF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41C-8842-49CB-A3D4-0662C32E91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F9D6C-FAE9-445A-9B75-0F35F1579E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 y relacionadas con ethos instituc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42B-DA96-44A9-B5C8-64ADC39F7F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F4109-FA1E-4FA9-84A4-055A5E0C0A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505-6FD5-440A-93F6-3FA8A1A7AD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A4C1F-0499-4E19-AD03-DAD4064DEF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A6B-A797-414A-9E1F-4F11EA38D7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53D6B-D97B-4756-A8DE-9EF9786233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Alemá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lección por etap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bina teoría y prác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66E-872C-4C26-BEF6-8B29D94678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8D22B-09E7-4337-A12F-52EE33087F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37A-2845-4AB1-8770-1C5838359F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AF624-0AD0-4964-BA4A-DBB476F04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e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B44-F96B-4464-B166-4BA03BDCEA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62D3A-83B0-4AE1-BBF6-331CE47275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320-F42E-4D5D-9C9E-A0575BF16F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1142F-B3A8-44B4-8A4A-58C39C2D6D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03E-74C5-4B4A-9107-14343E7AE6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355DD-487E-4361-8DBE-8333E0BD45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9F1-4DD9-471D-B966-B3C528FD2F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4B0AD-5F44-4B5F-B6F3-952AEBE42A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¿Y QUE PUEDEN HACER LAS ORGANIZACIONES PUBLICAS CON MAYOR AUTONOMIA EN GRH?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competencia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obtención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movilidad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desarrollo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9C4-0A2E-403F-9977-FCC1180912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7FB02-A52A-4C70-9CEB-F504995340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707-C708-4226-8577-2DD81DE7A7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2FBCF-E6F2-4F8F-B459-F3EBEEF34B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ERENCIAS ENT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1520" y="1862280"/>
            <a:ext cx="8178480" cy="4012560"/>
            <a:chOff x="641520" y="1862280"/>
            <a:chExt cx="8178480" cy="4012560"/>
          </a:xfrm>
        </p:grpSpPr>
        <p:sp>
          <p:nvSpPr>
            <p:cNvPr id="191" name=""/>
            <p:cNvSpPr/>
            <p:nvPr/>
          </p:nvSpPr>
          <p:spPr>
            <a:xfrm>
              <a:off x="641520" y="1862280"/>
              <a:ext cx="3282840" cy="33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IGUALES, RESULTADOS DESIG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ONECTADA DE LOS PROBLEMAS COTIDIANOS EN EL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FORMAL EN AULA, DONDE EL PROFESOR ES  QUIEN ENSEÑ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3640" y="1862280"/>
              <a:ext cx="3816360" cy="40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DESIGUALES, RESULTADOS SIMI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LEMAS EN EL TRABAJO SON EL PUNTO DE PARTIDA DE LOS 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PERSONA Y EN EL APRENDIZAJE INFORMAL, DONDE EL PROFESOR ES UNO DE LOS AGENTES DE ENSEÑANZA, ADEMÁS DE LOS COLEGAS ESTUDIA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41520" y="1895400"/>
            <a:ext cx="8178480" cy="4052520"/>
            <a:chOff x="641520" y="1895400"/>
            <a:chExt cx="8178480" cy="4052520"/>
          </a:xfrm>
        </p:grpSpPr>
        <p:sp>
          <p:nvSpPr>
            <p:cNvPr id="195" name=""/>
            <p:cNvSpPr/>
            <p:nvPr/>
          </p:nvSpPr>
          <p:spPr>
            <a:xfrm>
              <a:off x="641520" y="1895400"/>
              <a:ext cx="328284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DE TEMAS TECNICOS; EN CASO QUE LO SOCIAL ERA PARTE DEL CURRICULUM, EL TRATAMIENTO FORMATIVO ERA SIMILAR A LO TÉC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ALUACION AL FINAL DEL CURSO Y SIN UNA REFERENCIA TRANSPARENTE DE LOS CRITERIOS DE DESEMPEÑO Y CONOCIMIENTOS APLIC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1895400"/>
              <a:ext cx="3816360" cy="40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COMPETENCIA SOCIAL Y EMOCIONAL SON PARTE MEDULAR DE LA FORMACIÓN PORQUE INCIDEN EN LA CAPACIDAD DE APRENDER; ESTO REQUIERE EL DESAPRENDIZAJE DE HÁBITOS VIEJOS DE PENSAMIENTO, SENTIMIENTOS Y DE AC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f1f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EL DIAGNOSTICO DE NECESIDADES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FORMACIÓN EMPIEZA CON LA EVALUACIÓN BASADA EN LAS CAPACIDADES A DESARROLLAR; LA AUTOEVALUACIÓN ES EL EJE DEL PROCESO DE ENSEÑANZA-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UNAS DIFERENCIAS DE L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 LA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619200" y="219240"/>
          <a:ext cx="7908840" cy="6162480"/>
        </p:xfrm>
        <a:graphic>
          <a:graphicData uri="http://schemas.openxmlformats.org/drawingml/2006/table">
            <a:tbl>
              <a:tblPr/>
              <a:tblGrid>
                <a:gridCol w="2800440"/>
                <a:gridCol w="2560320"/>
                <a:gridCol w="2548080"/>
              </a:tblGrid>
              <a:tr h="6915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proxim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Impacto en los Resultados de la Orga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Ex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emas Gene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No ‘traje a la medid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ción pa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Grupos gra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uto Estudio audio, video, CD, intern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entrado en pen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’ grupos peque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Estudio de Ca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equeños Gru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munidades de Prácticas (Aprendizaje en A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amente 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Sesiones cortas y frec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 / Tutoría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en situaciones concretas,  Inten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uy 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820-4778-4A57-A088-01352E29AB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334D3-96F7-4493-B566-D41CAAE39C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9C1-3BAF-4999-B036-9C59BFB4A2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75B09-C806-460D-94EE-83DFFFD53E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5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CFB-DE71-4258-86CD-C30EFA5B3F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5C7BA-2567-44C6-BAD8-5321CE3F02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3F8-3170-4DE1-AD9D-F9BCA3F967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262B5-C2F6-4818-8E3C-3A228CBF59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1C2-FECA-413A-BE96-1AC42D63EF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4E73E-F050-42B1-90BB-5A7DBEBB51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E16-D8EA-4FA5-8603-9F5F154BCF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265FF-E809-437D-8889-FC5BCD85186B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mmc</cp:lastModifiedBy>
  <dcterms:modified xsi:type="dcterms:W3CDTF">2005-09-23T14:13:17Z</dcterms:modified>
  <cp:revision>5</cp:revision>
  <dc:subject/>
  <dc:title>RECURSOS HUMANOS</dc:title>
</cp:coreProperties>
</file>