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0A24-2717-4FF3-8C31-B2C2CBEC6A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20EF-341C-4D21-B92D-1D53AF40BA8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343080" y="4181400"/>
            <a:ext cx="6286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rente a esta crítica, desarrolla metodologías basadas en el uso de MUESTRAS CRITERIO  y de IDENTIFICACIÓN DE PENSAMIENTOS Y CONDUCTAS OPERANTES RELACIONADAS CAUSALEMENTE A RESULTADOS EXISTOSOS, en basea observación en terreno y entrevis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us investigaciones aplicadas originalmente al campo de la Diplomacia noerteamericana demuestran cómo ciertas habilidades específicas descubiertas (Ejemplo: sensibilidad interpersonal intercultural, valoración positiva de los demás y rapidez de aprendizaje de redesmpolítcas de influencia) son capaces de predecir el desempeño futuro de jóvenes diplomáticos, cosa que no permitien test estandarizados de conocimiento e intelig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 raíz de investigaciones posteriores desarrolla el enfoque de EVALUACIÓN DE COMPETENCIAS LABORALES, postulando el concepto de COMPETENCIA.  Este enfoque ha sido desarrollado posteriormente por Boyatzis (1981, 1982), Spencer &amp; Spencer (199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CEPTO EXPL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os autores plantean que toda competencia tiene 5 DIMENSIONES POSIBLES, CENTRALES (MOTIVOS, RASGOS, AUTIMAGEN) o PERIFÉRICAS (CONOCIMIENTOS Y DESTREZAS).  Además, que cada una de ellas siempre integra algún tipo de INTENCIÓN (3 opciones), con una ACCIÓN (2 opciones) que se relaciona causalmente a un RESULTADO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B81-FFAE-482E-A20A-440BDE61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749-943D-47B4-A573-033DEF6D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B46-73D4-44B2-9BF2-8B662F49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C6A9-6425-4E03-8FD5-9B43AA22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2A9-4980-4B5D-B584-C194E02B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561D-0025-405E-BE13-50969CB9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FD0-2B97-4546-B4B7-EFA6C724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DEF-77EF-414E-8D7C-6A94F5EB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E18-DAB2-4CB4-B327-8E2570D7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D9B-8832-4D6D-A3A7-7AE83BF5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CABD-80D0-4441-9397-91C2003C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A5D8-AB16-4D1F-8A0E-9FF0CF8D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7644-0AB8-4D50-B88F-C4611CCE2DE8}" type="datetime">
              <a:rPr b="1" lang="es-ES" sz="1400" spc="-1" strike="noStrike">
                <a:solidFill>
                  <a:srgbClr val="000000"/>
                </a:solidFill>
                <a:latin typeface="Industrial736 B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Industrial736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DA6A-644C-49CB-83E3-A4EBFD29CB14}" type="slidenum">
              <a:rPr b="1" lang="en-US" sz="1400" spc="-1" strike="noStrike">
                <a:solidFill>
                  <a:srgbClr val="000000"/>
                </a:solidFill>
                <a:latin typeface="Industrial736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RECURSOS HUMANO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Topicos de Gestión Pública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Profesor: Mario Marce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MGPP-UCH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Segundo semestre 2005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17704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Industrial736 BT"/>
              </a:rPr>
              <a:t>Una COMPETENCIA es una Característica Subyacente de un individuo que está Relacionada Causalmente a un Criterio de Referencia de Desempeño Superior en un trabajo o situación (Spencer &amp; Spencer, 1993).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9" name=""/>
          <p:cNvSpPr/>
          <p:nvPr/>
        </p:nvSpPr>
        <p:spPr>
          <a:xfrm>
            <a:off x="6837840" y="3581280"/>
            <a:ext cx="1653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Resultado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403680" y="4141800"/>
            <a:ext cx="2417040" cy="831600"/>
            <a:chOff x="6403680" y="4141800"/>
            <a:chExt cx="2417040" cy="831600"/>
          </a:xfrm>
        </p:grpSpPr>
        <p:sp>
          <p:nvSpPr>
            <p:cNvPr id="121" name=""/>
            <p:cNvSpPr/>
            <p:nvPr/>
          </p:nvSpPr>
          <p:spPr>
            <a:xfrm>
              <a:off x="6435720" y="4141800"/>
              <a:ext cx="229392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10320" y="4200480"/>
              <a:ext cx="1964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Rendimiento 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3680" y="4511520"/>
              <a:ext cx="241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el puesto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612080" y="3581280"/>
            <a:ext cx="155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Intenció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371600" y="4141800"/>
            <a:ext cx="2046240" cy="831600"/>
            <a:chOff x="1371600" y="4141800"/>
            <a:chExt cx="2046240" cy="831600"/>
          </a:xfrm>
        </p:grpSpPr>
        <p:sp>
          <p:nvSpPr>
            <p:cNvPr id="126" name=""/>
            <p:cNvSpPr/>
            <p:nvPr/>
          </p:nvSpPr>
          <p:spPr>
            <a:xfrm>
              <a:off x="1371600" y="4141800"/>
              <a:ext cx="196560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65560" y="4221000"/>
              <a:ext cx="1952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aracterístic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90120" y="4573440"/>
              <a:ext cx="1456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erson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530360" y="5073480"/>
            <a:ext cx="100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Mo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31440" y="5405400"/>
            <a:ext cx="96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Ra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30000" y="5734080"/>
            <a:ext cx="1894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Autoconce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39800" y="3581280"/>
            <a:ext cx="1271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Acció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895560" y="4121280"/>
            <a:ext cx="1965240" cy="831600"/>
            <a:chOff x="3895560" y="4121280"/>
            <a:chExt cx="1965240" cy="831600"/>
          </a:xfrm>
        </p:grpSpPr>
        <p:sp>
          <p:nvSpPr>
            <p:cNvPr id="134" name=""/>
            <p:cNvSpPr/>
            <p:nvPr/>
          </p:nvSpPr>
          <p:spPr>
            <a:xfrm>
              <a:off x="3895560" y="4121280"/>
              <a:ext cx="196524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37920" y="434484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onduc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807000" y="5451480"/>
            <a:ext cx="187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Cono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5920" y="5073480"/>
            <a:ext cx="1245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Dest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84720" y="4344840"/>
            <a:ext cx="495000" cy="347760"/>
          </a:xfrm>
          <a:prstGeom prst="rightArrow">
            <a:avLst>
              <a:gd name="adj1" fmla="val 50000"/>
              <a:gd name="adj2" fmla="val 7117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99320" y="4370400"/>
            <a:ext cx="495000" cy="347760"/>
          </a:xfrm>
          <a:prstGeom prst="rightArrow">
            <a:avLst>
              <a:gd name="adj1" fmla="val 50000"/>
              <a:gd name="adj2" fmla="val 7117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340320" y="5181480"/>
            <a:ext cx="2450880" cy="777960"/>
            <a:chOff x="6340320" y="5181480"/>
            <a:chExt cx="2450880" cy="777960"/>
          </a:xfrm>
        </p:grpSpPr>
        <p:grpSp>
          <p:nvGrpSpPr>
            <p:cNvPr id="141" name=""/>
            <p:cNvGrpSpPr/>
            <p:nvPr/>
          </p:nvGrpSpPr>
          <p:grpSpPr>
            <a:xfrm>
              <a:off x="6557400" y="5261040"/>
              <a:ext cx="2124720" cy="647640"/>
              <a:chOff x="6557400" y="5261040"/>
              <a:chExt cx="2124720" cy="647640"/>
            </a:xfrm>
          </p:grpSpPr>
          <p:sp>
            <p:nvSpPr>
              <p:cNvPr id="142" name=""/>
              <p:cNvSpPr/>
              <p:nvPr/>
            </p:nvSpPr>
            <p:spPr>
              <a:xfrm>
                <a:off x="6800760" y="5261040"/>
                <a:ext cx="1641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80"/>
                    </a:solidFill>
                    <a:latin typeface="Arial"/>
                  </a:rPr>
                  <a:t>DESEMPEÑ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557400" y="5545440"/>
                <a:ext cx="2124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80"/>
                    </a:solidFill>
                    <a:latin typeface="Arial"/>
                  </a:rPr>
                  <a:t>SOBRESALI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340320" y="5181480"/>
              <a:ext cx="2450880" cy="7779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MPETENCIAS: CONCEPTO CONDUCTU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967C-A906-4980-B60D-3155D603CCF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275F8-1BA7-4F1C-A36B-C15A8221A0C3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MOTIVACION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Interés individual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Ingreso monetari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alización personal/profesi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restigi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Seguridad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oder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Intereses general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ealtad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Identificación con una mis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ogro de met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4277-B44F-46B0-8303-A8D9A27907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F6114-EF84-4BFA-ADBC-15FD799FBE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NTEXTO DE GRH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RH no opera en el vacío, la condicionan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Factores intern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Estructura organizaciona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Cultura instituciona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Factores extern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Marco jurídic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Mercado del trabaj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1307-5BC0-495B-83BF-1F67BC69A5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CA2ED-94D0-4DAC-AE4C-88C7D4B23D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362320" y="1752480"/>
          <a:ext cx="4800600" cy="4400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752480"/>
                    <a:ext cx="48006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665-855E-413C-9A4F-6468C8F9FD7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2FECA-07F0-4869-B1D8-BC77CEE758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95280" y="1828800"/>
          <a:ext cx="6858000" cy="426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828800"/>
                    <a:ext cx="68580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D901-0689-485F-8AEA-13FCA4A1F1D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12362-AB29-404A-B484-EE2563F73B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3880" y="1600200"/>
          <a:ext cx="6234120" cy="4721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600200"/>
                    <a:ext cx="623412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705-BB76-4550-A558-0FBBB9375DE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EC848-9508-4354-A13B-87DAA6F39B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971800" y="1886040"/>
          <a:ext cx="3639960" cy="4286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886040"/>
                    <a:ext cx="363996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E6B-B949-4554-B0B1-0EB6F4C6B52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E77F3-295E-4744-87BA-3DE6FC6F55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l personal del sector público en procesos de ajuste fiscal tipo “consenso de Washington”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xposición y vulnerabilidad de gastos en pers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ecanismos de ajuste: despidos masivos, incentivos al retiro, no reemplazo, reubicació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onsecuencias sobre gest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65D-46D4-4F25-B7D0-50E8A79CE27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051FC-2362-450E-8746-C07937FD0F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LOS FUNCIONARIOS PUBLICOS COMO GRUPO DE INTERES Y FUENTE DE CONFLICT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Realidades cotidianas: conflictos, presiones, organizacion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os empleados públicos como grupo de interé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 de “public choice”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 agente-princip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s de captura del estad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n todos estos caso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conocimiento de intereses particulares, específic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terminantes de eficacia organizacional y en rol del sector público como promotor del interés gener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D298-F29B-4203-88F7-0F41DE23634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C925D-5E7C-4B6B-B7EB-86CD1E9EDF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LA FUNCION PU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Noción específica a la gestión de recursos humanos en el sector públ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osibles aproximacion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mpleo público en gener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arte del empleo público cuyas funciones están reguladas por normas de derecho público; ejercicio de potestades públicas. Relación con “núcleo estratégico” del estad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arte del empleo público regida por estatuto laboral propio, con relaciones laborales definidas por adscripción a una norma en lugar de contrat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561-8D7B-4062-A9FB-FE5CDF2FC6D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68FF4-C5FC-47A0-A3FA-851EC69C73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RECURSOS HUMANOS EN EL SECTOR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tivacion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as personas como recurso organizaci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a gestión de recursos humanos como sistema integrante de la gest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l personal como componente del gasto públ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os funcionarios como grupo de interés y fuente de conflict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l servicio civil como base fundamental de la func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A2D-DFB4-43BA-A850-03037896F1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72968-A610-45D6-BD4A-71CE88EA4F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LA FUNCION PU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 de articulación del empleo público mediante el cual determinados países garantizan existencia de administraciones públicas profesional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Administración profesional, independencia e imparcialidad en su funcionamiento; protección frente a padrinazgo y clientelismo polític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gulaciones específicas, articuladas y relacionadas con ethos instituci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10E2-D6A8-4E18-8F10-CBB6F62E0B3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3CA9F-1A65-4A80-B872-3894FFA34A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ORIGENES Y RAZON DE SER DE LOS SISTEMAS DE SERVICIO CIVI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aíses desarrollados de Europa y Norteamérica, fines del siglo XVIII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Inclusión en declaración de derechos del hombre (1789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reación del constitucionalismo moderno, asociado al orden liberal y el mercad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Institución clave de la seguridad juríd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0513-85B8-40DB-BD75-AF340F203B7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68587-03EC-46D6-BCE6-250669D7A8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OMPONENTES DEL MARCO REGULATORIO DEL SERVICIO CIVI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s de acces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arrera profesi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rechos y deberes de los funcionari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dministración del Servicio Civi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FBEE-F3A7-4E93-AAF9-06DFE989752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B6A40-1AFF-48B7-9F48-891E00B963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ISTEMAS DE ACCES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 francé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ursos masivos, selección por tribunal y ranking riguroso en función de exámen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scuelas de funcionarios (reclutamiento de alumnos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Modelo Alemá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Selección por etap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mbina teoría y práctic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Modelo britán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clutamiento a través de órgano centralizado (Civil Service Commission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ursos abiertos, focalizados en características personal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69A-714D-48B9-96C4-8B007D6D7B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E6C0A-2956-4574-AF9B-4AB9A2224D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ISTEMA DE CARRER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s de empleo (position-based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Reclutamiento para un empleo o puest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ompetencia abiert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 de carrera propiamente tal (career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structuración por niveles ascendent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mpetencia intern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4E9F-A5E7-4C58-B6CA-8001D422CB1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0107B-1842-430C-9F46-6E94006D5D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DERECHOS Y DEBERE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recho al carg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rotección frente al despido arbitrario, favoritism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pido por razones disciplinari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pido por por causes organizativas o económic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Deber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ealtad a la nación e instituciones básic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serva sobre asuntos conocidos en atención al carg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ódigos de étic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Derechos colectiv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Negociación colectiv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Huelg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07A7-69D4-4DD7-9B65-0C0FD977339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3800F-9365-4FF7-97CD-F90EE776C3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ADMINISTRACION DEL SISTEM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s centralizados: Francia Japón, España, Gran Bretañ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s descentralizados: Estados Unidos, Suecia, Holanda, Australi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1A4-3BBD-41BD-B26A-7C65DA86A97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E346E-46F9-4EBC-9126-FE8AF75B5E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PROBLEMAS DEL MODELO DE SERVICIO CIVIL Y REFORMAS RECIENTE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spectos estructural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onfrontación entre políticos y burócrat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Rigideces internas inevitabl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ontexto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risis fisc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Expansión cualitativa y cuantitativa de demanda por servicios públic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oco de reformas: flexibilidad para mejorar eficencia y capacidad de respuesta frente a ciudadaní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889-0E0C-45E2-8110-C21944B4EEE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385CE-1E37-4843-9E81-16E909D3F5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EMENTOS COMUNES A REFORMA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vilidad, capacidad de redespliegue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scentralización de decisiones claves en gestión de RRHH (reclutamiento, promoción, remuneración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mpliación de discrecionalidad de directiv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edición y retribución del desempeñ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lexibilización de formas contractual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ortalecimiento de control político y rendición de cuenta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2DF-08EA-4844-BC24-42F5DB84076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97011-54DA-4B1E-B016-074E11A438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¿Y QUE PUEDEN HACER LAS ORGANIZACIONES PUBLICAS CON MAYOR AUTONOMIA EN GRH?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nfoque de competencia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 obtención de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 movilidad de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 desarrollo de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32CB-ADC4-416D-A728-76FEBC71349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FE906-D51D-47DA-A8AE-585974E8BB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as personas como principal recurso de una organización para lograr sus fin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a eficiencia de las organizaciones está principalmente determinada por el desempeño de su pers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l personal como determinante fundamental de los costos, relación con economía, eficienci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estión de personal como herramienta al servicio de la eficacia organizativ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0E75-E065-433A-8FC2-70E0E8CA01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81579-51A8-47E8-A433-E500F2B05E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74880" y="343080"/>
            <a:ext cx="7269120" cy="1071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10000" y="20000"/>
                </a:lnTo>
                <a:lnTo>
                  <a:pt x="20000" y="20000"/>
                </a:lnTo>
                <a:lnTo>
                  <a:pt x="20000" y="1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00080" y="382680"/>
            <a:ext cx="724392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875"/>
              </a:lnSpc>
              <a:tabLst>
                <a:tab algn="l" pos="0"/>
                <a:tab algn="l" pos="822240"/>
                <a:tab algn="l" pos="1646280"/>
                <a:tab algn="l" pos="2468520"/>
                <a:tab algn="l" pos="3292560"/>
                <a:tab algn="l" pos="4114800"/>
                <a:tab algn="l" pos="4937040"/>
                <a:tab algn="l" pos="5761080"/>
                <a:tab algn="l" pos="658332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FERENCIAS ENTR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B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875"/>
              </a:lnSpc>
              <a:tabLst>
                <a:tab algn="l" pos="0"/>
                <a:tab algn="l" pos="822240"/>
                <a:tab algn="l" pos="1646280"/>
                <a:tab algn="l" pos="2468520"/>
                <a:tab algn="l" pos="3292560"/>
                <a:tab algn="l" pos="4114800"/>
                <a:tab algn="l" pos="4937040"/>
                <a:tab algn="l" pos="5761080"/>
                <a:tab algn="l" pos="658332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 CAPACITACIÓN TR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41520" y="1862280"/>
            <a:ext cx="8178480" cy="4012560"/>
            <a:chOff x="641520" y="1862280"/>
            <a:chExt cx="8178480" cy="4012560"/>
          </a:xfrm>
        </p:grpSpPr>
        <p:sp>
          <p:nvSpPr>
            <p:cNvPr id="191" name=""/>
            <p:cNvSpPr/>
            <p:nvPr/>
          </p:nvSpPr>
          <p:spPr>
            <a:xfrm>
              <a:off x="641520" y="1862280"/>
              <a:ext cx="3282840" cy="33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NT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IEMPOS DE ENSEÑANZA IGUALES, RESULTADOS DESIG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CONECTADA DE LOS PROBLEMAS COTIDIANOS EN EL TRABAJ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ADA EN LA ENSEÑANZA FORMAL EN AULA, DONDE EL PROFESOR ES  QUIEN ENSEÑ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03640" y="1862280"/>
              <a:ext cx="3816360" cy="40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OR COMPETENCIA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261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IEMPOS DE ENSEÑANZA DESIGUALES, RESULTADOS SIMI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BLEMAS EN EL TRABAJO SON EL PUNTO DE PARTIDA DE LOS 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ADA EN LA PERSONA Y EN EL APRENDIZAJE INFORMAL, DONDE EL PROFESOR ES UNO DE LOS AGENTES DE ENSEÑANZA, ADEMÁS DE LOS COLEGAS ESTUDIA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706920" y="13539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.MERTENS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641520" y="1895400"/>
            <a:ext cx="8178480" cy="4052520"/>
            <a:chOff x="641520" y="1895400"/>
            <a:chExt cx="8178480" cy="4052520"/>
          </a:xfrm>
        </p:grpSpPr>
        <p:sp>
          <p:nvSpPr>
            <p:cNvPr id="195" name=""/>
            <p:cNvSpPr/>
            <p:nvPr/>
          </p:nvSpPr>
          <p:spPr>
            <a:xfrm>
              <a:off x="641520" y="1895400"/>
              <a:ext cx="3282840" cy="35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NT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ADA EN LA ENSEÑANZA DE TEMAS TECNICOS; EN CASO QUE LO SOCIAL ERA PARTE DEL CURRICULUM, EL TRATAMIENTO FORMATIVO ERA SIMILAR A LO TÉCN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VALUACION AL FINAL DEL CURSO Y SIN UNA REFERENCIA TRANSPARENTE DE LOS CRITERIOS DE DESEMPEÑO Y CONOCIMIENTOS APLIC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03640" y="1895400"/>
              <a:ext cx="3816360" cy="40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OR COMPETENCIA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261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 COMPETENCIA SOCIAL Y EMOCIONAL SON PARTE MEDULAR DE LA FORMACIÓN PORQUE INCIDEN EN LA CAPACIDAD DE APRENDER; ESTO REQUIERE EL DESAPRENDIZAJE DE HÁBITOS VIEJOS DE PENSAMIENTO, SENTIMIENTOS Y DE ACCIÓ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f1f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f1f00"/>
                  </a:solidFill>
                  <a:latin typeface="Arial"/>
                </a:rPr>
                <a:t>EL DIAGNOSTICO DE NECESIDADES 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f1f00"/>
                  </a:solidFill>
                  <a:latin typeface="Arial"/>
                </a:rPr>
                <a:t>FORMACIÓN EMPIEZA CON LA EVALUACIÓN BASADA EN LAS CAPACIDADES A DESARROLLAR; LA AUTOEVALUACIÓN ES EL EJE DEL PROCESO DE ENSEÑANZA-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974880" y="343080"/>
            <a:ext cx="7269120" cy="1071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10000" y="20000"/>
                </a:lnTo>
                <a:lnTo>
                  <a:pt x="20000" y="20000"/>
                </a:lnTo>
                <a:lnTo>
                  <a:pt x="20000" y="1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00080" y="382680"/>
            <a:ext cx="724392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875"/>
              </a:lnSpc>
              <a:tabLst>
                <a:tab algn="l" pos="0"/>
                <a:tab algn="l" pos="822240"/>
                <a:tab algn="l" pos="1646280"/>
                <a:tab algn="l" pos="2468520"/>
                <a:tab algn="l" pos="3292560"/>
                <a:tab algn="l" pos="4114800"/>
                <a:tab algn="l" pos="4937040"/>
                <a:tab algn="l" pos="5761080"/>
                <a:tab algn="l" pos="658332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GUNAS DIFERENCIAS DE L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B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ON LA CAPACITACIÓN TR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06920" y="13539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.MERTENS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619200" y="219240"/>
          <a:ext cx="7908840" cy="6162480"/>
        </p:xfrm>
        <a:graphic>
          <a:graphicData uri="http://schemas.openxmlformats.org/drawingml/2006/table">
            <a:tbl>
              <a:tblPr/>
              <a:tblGrid>
                <a:gridCol w="2800440"/>
                <a:gridCol w="2560320"/>
                <a:gridCol w="2548080"/>
              </a:tblGrid>
              <a:tr h="69156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proxim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Impacto en los Resultados de la Organ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8544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ursos Ex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Temas Gener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No ‘traje a la medida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ursos In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aptación par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Grupos gran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Bajo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uto Estudio audio, video, CD, interne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ap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entrado en pens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Me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08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‘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aching’ grupos peque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ap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Estudio de Ca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Pequeños Grup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44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munidades de Prácticas (Aprendizaje en Acció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ltamente adap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Focaliz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Sesiones cortas y frec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lto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aching / Tutoría 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Focalizado en situaciones concretas,  Inten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Muy A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Longo: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GRH como sistema integrado de gestión, cuya finalidad básica o razón de ser es la adecuación de las personas a la estrategia de una organización para la producción de resultados acordes con las finalidades perseguidas.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3657600"/>
            <a:ext cx="144792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GESTION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HUM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3886200"/>
            <a:ext cx="9907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3962520"/>
            <a:ext cx="9907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X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28954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5105520"/>
            <a:ext cx="1676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PERSO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58672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90920" y="31237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42670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334120" y="4267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409720" y="31237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409720" y="42670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8D08-2444-4C36-A4EB-AD664BA35D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301C8-A885-4FA8-919B-D0E0CE6AEF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LA GESTIÓN DE RECURSOS HUMANOS COMO SISTEMA INTEGRANTE DE LA GESTIÓN PÚ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Visión tradicional: administración de personal como un conjunto de operaciones especializada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Obten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finición de funcion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valu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tribu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gulación de derech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vincul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E310-4FFC-4E94-ABE2-0F147EA8F3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0430A-7864-4AB8-8E05-879ADB7F6C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UBSISTEMAS DE LA GRH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838080" y="1066680"/>
            <a:ext cx="7504200" cy="5046840"/>
            <a:chOff x="838080" y="1066680"/>
            <a:chExt cx="7504200" cy="5046840"/>
          </a:xfrm>
        </p:grpSpPr>
        <p:grpSp>
          <p:nvGrpSpPr>
            <p:cNvPr id="75" name=""/>
            <p:cNvGrpSpPr/>
            <p:nvPr/>
          </p:nvGrpSpPr>
          <p:grpSpPr>
            <a:xfrm>
              <a:off x="842400" y="1070640"/>
              <a:ext cx="7494840" cy="5037840"/>
              <a:chOff x="842400" y="1070640"/>
              <a:chExt cx="7494840" cy="503784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842400" y="1070640"/>
                <a:ext cx="7494840" cy="1055880"/>
                <a:chOff x="842400" y="1070640"/>
                <a:chExt cx="7494840" cy="1055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885240" y="1070640"/>
                  <a:ext cx="7408440" cy="105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NIFIC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42400" y="1070640"/>
                  <a:ext cx="7494840" cy="105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842400" y="2126520"/>
                <a:ext cx="2000520" cy="2601000"/>
                <a:chOff x="842400" y="2126520"/>
                <a:chExt cx="2000520" cy="26010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885240" y="2126520"/>
                  <a:ext cx="191412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ganización del trabaj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iseño de puest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finición de perfil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42400" y="2126520"/>
                  <a:ext cx="200052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842920" y="2126520"/>
                <a:ext cx="1756080" cy="2601000"/>
                <a:chOff x="2842920" y="2126520"/>
                <a:chExt cx="1756080" cy="26010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886120" y="2126520"/>
                  <a:ext cx="166932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emple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ncorpor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ovilida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svincul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842920" y="2126520"/>
                  <a:ext cx="175608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599000" y="2126520"/>
                <a:ext cx="1675080" cy="2601000"/>
                <a:chOff x="4599000" y="2126520"/>
                <a:chExt cx="1675080" cy="26010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641840" y="2126520"/>
                  <a:ext cx="158868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lanific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Evalu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99000" y="2126520"/>
                  <a:ext cx="167508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274440" y="2126520"/>
                <a:ext cx="2062440" cy="1164600"/>
                <a:chOff x="6274440" y="2126520"/>
                <a:chExt cx="2062440" cy="11646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317640" y="2126520"/>
                  <a:ext cx="1975680" cy="11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 la compens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tribución monet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tribución no monet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274440" y="2126520"/>
                  <a:ext cx="2062440" cy="11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6274440" y="3291480"/>
                <a:ext cx="2062440" cy="1436040"/>
                <a:chOff x="6274440" y="3291480"/>
                <a:chExt cx="2062440" cy="14360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6317640" y="3291480"/>
                  <a:ext cx="1975680" cy="14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desarroll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moción y carrer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pacit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prendizaje individual y colectiv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274440" y="3291480"/>
                  <a:ext cx="2062440" cy="143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842400" y="4727520"/>
                <a:ext cx="7494840" cy="1380960"/>
                <a:chOff x="842400" y="4727520"/>
                <a:chExt cx="7494840" cy="13809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885240" y="4727520"/>
                  <a:ext cx="7408440" cy="13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 las relaciones humanas y socia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lima laboral                                   Relaciones Laborales                       Políticas socia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842400" y="4727520"/>
                  <a:ext cx="7494840" cy="138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" name=""/>
            <p:cNvSpPr/>
            <p:nvPr/>
          </p:nvSpPr>
          <p:spPr>
            <a:xfrm>
              <a:off x="838080" y="1066680"/>
              <a:ext cx="7504200" cy="5046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752480" y="167652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2286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10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05740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73392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1008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39152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97A9-7E75-4394-BE78-39C5696DD1B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435E2-BD9E-477B-BCA4-BEDE6A6938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nfoque de gestión de recursos humanos (GRH)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ficacia de la organización como objetiv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otencial humano como base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epción estratégica: proactiva, personas como activos potenciales que deben ser aprovechados para el logro de objetivos de la organiz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Visión integrada: estructura, cultura organizativa, competencias. En foque en motivación de empleados, reconociendo sus interes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GRH como función directiv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E7A-2436-418E-BAE4-D71B0B0C33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C875E-5EAE-4DAF-A7E4-40C6D59EEE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RH busca aplicar recursos humanos al logro de los fines de la organizació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ara ello se requiere actuar sobre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as competencias del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a motivación del personal para aplicar sus competencias a los fines de la organiz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87B6-AF40-4FDA-B944-5D1447C771A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4A18D-7BF5-4528-A1EB-CEDB2E9B0A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520" y="14126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Industrial736 BT"/>
              </a:rPr>
              <a:t>Conductas laborales necesarias para hacer un trabajo efectivo (Woodruffe, 1993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Industrial736 BT"/>
              </a:rPr>
              <a:t>Capacidad real del individuo para dominar el conjunto de tareas que configuran la función en concreto (Reis, 1994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Industrial736 BT"/>
              </a:rPr>
              <a:t>Todo atributo personal relacionado al trabajo, conocimiento, experiencia, habilidades y valores que llevan a una persona a desempeñarse bien en su trabajo (Roberts, 1997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Industrial736 BT"/>
              </a:rPr>
              <a:t>Repertorios de comportamientos observables que algunas personas dominan mejor que otras y que los hacen eficaces en una situación determinada (Levy-Leboyer, 1997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Capacidad real para lograr un objetivo o resultado en un contexto dado (Mertens, 1996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MPETENCIA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2AB-8029-45DF-832D-81860B565AB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E289A-9997-4C27-A6C9-22FBDF12142F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3:21:32Z</dcterms:created>
  <dc:creator>mmc</dc:creator>
  <dc:description/>
  <dc:language>en-US</dc:language>
  <cp:lastModifiedBy>mmc</cp:lastModifiedBy>
  <dcterms:modified xsi:type="dcterms:W3CDTF">2005-09-23T14:13:17Z</dcterms:modified>
  <cp:revision>5</cp:revision>
  <dc:subject/>
  <dc:title>RECURSOS HUMANOS</dc:title>
</cp:coreProperties>
</file>