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1D9-99E0-4C03-9383-AFE9A8F2A7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63A8-B0DD-4E41-BAC3-EE38E6CFEC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E66-A56D-4E0A-938F-48FD7E90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DB4-2655-4A58-B65D-7E114D8B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625-E258-437F-B9B4-04BE7E03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EE4-A7C4-47C2-8E60-D2008C85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9DB-11B4-4830-B63F-2BC29205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EB8-61E1-4342-832B-BB2230A6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ED9-7850-4D51-A4C3-23BFE084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03D-2E08-41F8-AA28-B112B2B8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190-CC03-41E3-A5F8-2D86BC6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E54-FFE7-40B6-9202-E7979BC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9E0-6B05-4031-9B68-0A7447C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0C4-70D0-4D34-BE91-A515A7B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781D-4A47-494C-A8FA-05C0ACF05AAE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9A2-C107-4DAC-BFE4-7A3900D22BE6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cela Guzmán 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2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AC2-A9DC-416D-B212-87BB46C67B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CBCD8-5889-4AF0-A4DB-9155E3494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029-B478-466C-92C3-11D1F365A5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41DE4-CA4F-4DCD-9F86-ABAEBDC8E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CA3-F5A5-4667-BB96-85904622A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0FC98-73F0-4732-A210-8294CFA378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6.- La ley es la expresión de la voluntad general. Todos los ciudadanos tienen derecho a contribuir a su elaboración, personalmente o por medio de sus representantes. Debe ser la misma para todos, ya sea que proteja o que sancione. Como todos los ciudadanos son iguales ante ella, todos son igualmente admisibles en toda dignidad, cargo o empleo públicos, según sus capacidades y sin otra distinción que la de sus virtudes y sus talentos.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38.- Una ley orgánica constitucional determinará la organización básica de la Administración Pública, garantizará la carrera funcionaria y los principios de carácter técnico y profesional en que deba fundarse, y asegurará tanto la igualdad de oportunidades de ingreso a ella como la capacitación y el perfeccionamiento de sus integrantes.</a:t>
            </a:r>
            <a:r>
              <a:rPr b="1" lang="en-US" sz="16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6B8-C63B-4CC0-A8E5-506E9B838E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67CD3-ED1C-407D-8D70-F1642E33A4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D80-BF75-4492-94EB-1A14242DD5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D44D6-88DF-4B69-AE01-9803E59CD2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8F0-A81E-482A-BCC6-3EFBB17B15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4EFD2-A0BE-4E42-B9CB-056D6196FA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074-D13E-4309-BB99-0D0A8545C0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8AFC9-A64B-4260-9AEF-9F6ECD4588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a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E1A-C5F6-42C6-8BE0-D875506A7B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E9A5F-DD90-4C68-909F-7D64A23BF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A73-9105-41BC-8B67-2989CB70A7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60F07-2EFB-437B-BD80-4F89B16731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E59-6991-4FBE-83A6-EA84BF17F0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35F38-A72A-4BD9-BED5-B1EF07131B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81D-4F98-4F68-8AB5-C3F88CEE7F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AE885-220A-4753-883A-308A7E4DD0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76A-BFF2-4DBA-AF5E-DB6A6290BC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A821E-15B7-4D9F-91DF-D39671CD0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EL EMPLEO PUBLICO EN AMERICA LATIN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56000" y="2276640"/>
            <a:ext cx="4105080" cy="3816360"/>
            <a:chOff x="2556000" y="2276640"/>
            <a:chExt cx="4105080" cy="3816360"/>
          </a:xfrm>
        </p:grpSpPr>
        <p:sp>
          <p:nvSpPr>
            <p:cNvPr id="131" name="Pyr1"/>
            <p:cNvSpPr/>
            <p:nvPr/>
          </p:nvSpPr>
          <p:spPr>
            <a:xfrm>
              <a:off x="4153320" y="2276640"/>
              <a:ext cx="920160" cy="845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Pyr2"/>
            <p:cNvSpPr/>
            <p:nvPr/>
          </p:nvSpPr>
          <p:spPr>
            <a:xfrm>
              <a:off x="3620520" y="3122280"/>
              <a:ext cx="1980720" cy="99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PROFESIO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yr3"/>
            <p:cNvSpPr/>
            <p:nvPr/>
          </p:nvSpPr>
          <p:spPr>
            <a:xfrm>
              <a:off x="3093480" y="4114800"/>
              <a:ext cx="3034440" cy="991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ECN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yr4"/>
            <p:cNvSpPr/>
            <p:nvPr/>
          </p:nvSpPr>
          <p:spPr>
            <a:xfrm>
              <a:off x="2556000" y="5100840"/>
              <a:ext cx="4105080" cy="99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2050560" y="2205000"/>
            <a:ext cx="358920" cy="1224000"/>
          </a:xfrm>
          <a:custGeom>
            <a:avLst/>
            <a:gdLst>
              <a:gd name="textAreaLeft" fmla="*/ 0 w 358920"/>
              <a:gd name="textAreaRight" fmla="*/ 12960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050560" y="3500280"/>
            <a:ext cx="358920" cy="259272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997360"/>
            <a:ext cx="360360" cy="3095640"/>
          </a:xfrm>
          <a:custGeom>
            <a:avLst/>
            <a:gdLst>
              <a:gd name="textAreaLeft" fmla="*/ 0 w 360360"/>
              <a:gd name="textAreaRight" fmla="*/ 12996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13372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8526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SERVICIO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01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TRATOCOM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421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FIANZA P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365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73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SISTEMAS DE SERVICIO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1700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MERICA LA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043-E8B8-4514-AB10-1170A896E8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E0156-2FDA-432A-868A-C4F39C0B99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BB3-754A-476E-9DF6-6203513F32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A46BA-52A2-4D92-BB6A-549610EB9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F53-6B50-4759-BDAF-7D2137824A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FF5E2-0B6D-49A5-A9F9-767BACBB3D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9DE-DA3D-4AE9-B299-3EF4CAF3B4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8BF4F-966E-4E94-90E5-67740CFD3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016-88D5-43E8-8755-B4A9F3D6BB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D22C3-383F-4B77-871E-299F3BCF2D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A91-684A-4386-AFB9-8BB9BA7D1F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B6233-C814-4F9B-9F0B-165B04784E36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73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78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86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D46-F252-417E-A4E3-606E0DD6CA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CD8FE-7813-475A-B8BD-4588D060F413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7BF-DE2C-4367-9339-8820B7DCF7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C35C3-DC4C-4A82-AB72-489008CF34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E1F-E33B-4C07-8F0C-721DCBAD68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3D45D-28FC-4556-AF98-A1C14CA67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6F3-61A1-43AD-9A8F-48A50F0C3C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7E8FB-F8F6-496C-81FE-3AD910B34C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49F-5B94-4AAD-A4A8-0A82931A07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8ED8C-9405-4DAE-A62A-D654557ACB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Dependencia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58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traloría General de la Re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oder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7.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greso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inisteri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3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CAB-D3BD-49B1-BEC3-273B0FBE23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E60B4-2928-4BA6-AC3D-0842620BB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Estamento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6.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no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9.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éc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47.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tivos y Auxili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6.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DC6-77BA-47F0-B0F4-2BF0507C1D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36503-C9FF-43ED-AB07-96666D300D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: adaptación a necesidades, tensiones, fragilidad, etc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48D-8094-4FE9-A242-C12864812F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04C25-8FE1-4EA3-A181-4817F51E9C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del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F83-010E-4FE9-8175-5E6CB243BB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6903F-33D5-417B-9B0D-B2B3EED5A5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260-3E98-4F2E-A122-7A4DD9E70C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D42FE-0D08-4D42-A380-40E0F89B9A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USUARIO</cp:lastModifiedBy>
  <dcterms:modified xsi:type="dcterms:W3CDTF">2007-11-09T19:51:27Z</dcterms:modified>
  <cp:revision>12</cp:revision>
  <dc:subject/>
  <dc:title>RECURSOS HUMANOS</dc:title>
</cp:coreProperties>
</file>