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A2B-DDD3-4FD5-A060-D9B2AFA4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504-E341-43EA-9C58-35B74EE6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421-1EF7-464C-90EC-39470ECA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19D-35E8-4EF1-B658-56A8481F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F50-A81E-4747-93EC-1D164533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9AA-0111-4CFB-9A81-784784C3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256-817B-48C3-9A40-66F32D17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A69-4EF9-4589-B01A-799EE51C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C6D-F271-40B1-B388-30965ED0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383-E321-4D43-969F-F1414899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8E4-31F6-40C6-AFED-676230C3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64E-85D3-45AC-9016-21B04098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CC89-E5EB-4A50-95A3-FEB834ABA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447920"/>
            <a:ext cx="81532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DE INCEN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EXPERIENCIA CHI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viembre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33920" y="5029200"/>
            <a:ext cx="35812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66"/>
                </a:solidFill>
                <a:latin typeface="Times New Roman"/>
              </a:rPr>
              <a:t>Marcela Guzm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048120"/>
            <a:ext cx="6248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IN DE L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www.politeia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INCENTIVOS POR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666880"/>
            <a:ext cx="6324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o colectivo o por unidad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o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752480"/>
            <a:ext cx="83822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Times New Roman"/>
              </a:rPr>
              <a:t>PRINCIPALES CARACTERÍS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cumplimiento de objetivos de gestión se asocia a un incentivo de carácter monetario para los funcionarios de los  servicios públ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porcentaje  de incentivos se otorga según los siguientes tramos de cumplimiento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19320" y="3733920"/>
          <a:ext cx="5943240" cy="2743200"/>
        </p:xfrm>
        <a:graphic>
          <a:graphicData uri="http://schemas.openxmlformats.org/drawingml/2006/table">
            <a:tbl>
              <a:tblPr/>
              <a:tblGrid>
                <a:gridCol w="2779920"/>
                <a:gridCol w="31633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centaje de Incentivo por Desempeño Institu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centaje de Cumpl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 Objetivos de Gest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 -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 - 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1371600" y="6521400"/>
            <a:ext cx="594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 178 Servicios Públic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8380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CENTIVO INSTITUCIONAL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GRAMA DE MEJORAMIENTO DE LA GESTIÓN (PM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ESTRUCTURA DEL PROGRAMA M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1523880"/>
            <a:ext cx="18288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23623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3276720"/>
            <a:ext cx="30477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jetivos de Gestión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tapas de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/>
          <p:nvPr/>
        </p:nvCxnSpPr>
        <p:spPr>
          <a:xfrm flipH="1" rot="16200000">
            <a:off x="2179440" y="2163240"/>
            <a:ext cx="5943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/>
          <p:nvPr/>
        </p:nvCxnSpPr>
        <p:spPr>
          <a:xfrm flipH="1" rot="16200000">
            <a:off x="2931120" y="3164400"/>
            <a:ext cx="678600" cy="44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952880" y="4572000"/>
            <a:ext cx="3353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quisitos Téc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4495680"/>
            <a:ext cx="4495680" cy="12956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de Expertos (instituciones públic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/>
          <p:nvPr/>
        </p:nvCxnSpPr>
        <p:spPr>
          <a:xfrm flipH="1" rot="16200000">
            <a:off x="4610880" y="4304160"/>
            <a:ext cx="534240" cy="2160"/>
          </a:xfrm>
          <a:prstGeom prst="bentConnector4">
            <a:avLst>
              <a:gd name="adj1" fmla="val 21375"/>
              <a:gd name="adj2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5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PROGRAMA MARCO 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FOCOS O ÁREAS DE MEJOR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3352320"/>
            <a:ext cx="3789360" cy="171468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cursos 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lidad de Atención de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lanificación y Control de 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ministración Financi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nfoque de Gé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3976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junto de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área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de mejoramiento de la gestión,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comunes para todas las</a:t>
            </a: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institucione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del sector públic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da área del Programa Marco está conformada por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sistema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, establecidos por el marco de política en el ámbito de la modernización del sector públic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da sistema se desarrolla en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etapa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a la que se le ha definido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requisitos técnicos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819520"/>
            <a:ext cx="903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89880" y="2133720"/>
            <a:ext cx="188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grama M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057400"/>
            <a:ext cx="4038480" cy="426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3733920"/>
            <a:ext cx="68580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251460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GRAMA DE MEJORAMIENTO DE LA GESTIÓN (PM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Programa Marc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end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5 áreas y 11 sistem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de gestión con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4 ó 6 etap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de desarrollo cuya acreditación o evaluación se realiza a través de una red de expertos, que corresponden a organismos  especializados al interior del ejecu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Programa Marco Avan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corpora los objetivos del Programa Marco Básico y las exigencias de la Norma ISO 9001:2000, éstas últimas en orden a certificar cada uno de los sistemas del PMG. (organismos especializados en Norma ISO, externos al ejecut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PROGRAMA DE MEJORAMIENTO DE LA GESTION Y NORMA 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 es la norma ISO 9001-2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International Standard Organizati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norma internacional que especifica requisitos técnicos mínimos que debe cumplir un sistema de gestión  de calidad para ser certific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nde una serie de cláusulas. Cada una de las cuales establece los requisitos para diferentes áreas de un sistema de gestión de cal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ertificación norma ISO es un proceso mediante el cual organismos externos certificadores, acreditados por ISO,  realizan una evaluación de los procesos de una institución o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ertificación  se efectúa según estándar mínimos declarado en un manual de cal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anual es un conjunto de procedimientos que describen los procesos de la organización  y el alcance de los mis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aceptada por innumerables organizaciones y empresas  nacionales extranjera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" y="-16891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  <a:ea typeface="Arial"/>
              </a:rPr>
              <a:t>II. FORMULACIÓN PM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0" y="77248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838080"/>
            <a:ext cx="73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PROGRAMA MARCO  AVANZADO 2007</a:t>
            </a:r>
            <a:r>
              <a:rPr b="1" lang="es-CL" sz="24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19320" y="1447920"/>
          <a:ext cx="6286320" cy="39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2863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Logo%20Politeia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20968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ultur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ersistir en el desarrollo y uso de los instrumentos, con el fin de romper las barreras cul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feccionamiento continu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fectuar revisiones periódicas del funcionamiento de los diferentes instrumentos con el fin de introducir los cambios necesarios; procedimientos, metodologías, resultado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mitacion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dentificar las limitaciones de los instrumentos de evaluación del desempeño para un adecuado uso de la inform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nergi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otenciar los elementos conceptuales y operativos comun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99072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PRINCIPALES  APRENDIZAJ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9:30:30Z</dcterms:created>
  <dc:creator>USUARIO</dc:creator>
  <dc:description/>
  <dc:language>en-US</dc:language>
  <cp:lastModifiedBy>USUARIO</cp:lastModifiedBy>
  <dcterms:modified xsi:type="dcterms:W3CDTF">2007-11-09T19:47:18Z</dcterms:modified>
  <cp:revision>58</cp:revision>
  <dc:subject/>
  <dc:title>Presentación de PowerPoint</dc:title>
</cp:coreProperties>
</file>