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F9F0-01FA-4F70-AF40-55CBDE4344E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CFA4-3B0E-40F4-892D-CCCEBB587A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343080" y="4181400"/>
            <a:ext cx="6286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rente a esta crítica, desarrolla metodologías basadas en el uso de MUESTRAS CRITERIO  y de IDENTIFICACIÓN DE PENSAMIENTOS Y CONDUCTAS OPERANTES RELACIONADAS CAUSALEMENTE A RESULTADOS EXISTOSOS, en basea observación en terreno y entrevis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us investigaciones aplicadas originalmente al campo de la Diplomacia noerteamericana demuestran cómo ciertas habilidades específicas descubiertas (Ejemplo: sensibilidad interpersonal intercultural, valoración positiva de los demás y rapidez de aprendizaje de redesmpolítcas de influencia) son capaces de predecir el desempeño futuro de jóvenes diplomáticos, cosa que no permitien test estandarizados de conocimiento e intelig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 raíz de investigaciones posteriores desarrolla el enfoque de EVALUACIÓN DE COMPETENCIAS LABORALES, postulando el concepto de COMPETENCIA.  Este enfoque ha sido desarrollado posteriormente por Boyatzis (1981, 1982), Spencer &amp; Spencer (199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CEPTO EXPL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os autores plantean que toda competencia tiene 5 DIMENSIONES POSIBLES, CENTRALES (MOTIVOS, RASGOS, AUTIMAGEN) o PERIFÉRICAS (CONOCIMIENTOS Y DESTREZAS).  Además, que cada una de ellas siempre integra algún tipo de INTENCIÓN (3 opciones), con una ACCIÓN (2 opciones) que se relaciona causalmente a un RESULTADO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A6C-68A2-443B-A8F3-1BCE0AD3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1E98-BF23-42A3-9971-3BCF0B46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E91B-3EE3-4BEC-A41A-0490D142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440-FEAE-4928-955E-0EE6127F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D18B-FE53-451A-B772-E095473F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655-CC12-4F18-87ED-A7353672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FA8F-479D-4683-9C07-3D8F8EBA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F78-D1BD-42DA-A378-5CCAB8A5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41C-E6D6-4B1E-A0FC-DE0BC6FA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AAD-8B08-4C5D-89BF-F020DA17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2AC-FC5E-44D5-87AD-FB34F496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78B2-B590-44FA-8AAF-B37FC387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1852-B951-4410-ABB0-70E7CE301F10}" type="datetime">
              <a:rPr b="1" lang="es-ES" sz="1400" spc="-1" strike="noStrike">
                <a:solidFill>
                  <a:srgbClr val="000000"/>
                </a:solidFill>
                <a:latin typeface="Industrial736 B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BE0D-BD2B-4D8E-AE65-132E25FDC9B3}" type="slidenum"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RECURSOS HUMANO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Gestión Pública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Profesor: Marcela Guzmán 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UCH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2007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UBSISTEMAS DE LA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38080" y="1066680"/>
            <a:ext cx="7504200" cy="5046840"/>
            <a:chOff x="838080" y="1066680"/>
            <a:chExt cx="7504200" cy="5046840"/>
          </a:xfrm>
        </p:grpSpPr>
        <p:grpSp>
          <p:nvGrpSpPr>
            <p:cNvPr id="72" name=""/>
            <p:cNvGrpSpPr/>
            <p:nvPr/>
          </p:nvGrpSpPr>
          <p:grpSpPr>
            <a:xfrm>
              <a:off x="842400" y="1070640"/>
              <a:ext cx="7494840" cy="5037840"/>
              <a:chOff x="842400" y="1070640"/>
              <a:chExt cx="7494840" cy="50378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842400" y="1070640"/>
                <a:ext cx="7494840" cy="1055880"/>
                <a:chOff x="842400" y="1070640"/>
                <a:chExt cx="7494840" cy="1055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885240" y="1070640"/>
                  <a:ext cx="7408440" cy="105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NIFIC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42400" y="1070640"/>
                  <a:ext cx="7494840" cy="105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842400" y="2126520"/>
                <a:ext cx="2000520" cy="2601000"/>
                <a:chOff x="842400" y="2126520"/>
                <a:chExt cx="2000520" cy="2601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885240" y="2126520"/>
                  <a:ext cx="19141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ganización del trabaj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iseño de puest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finición de perfi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42400" y="2126520"/>
                  <a:ext cx="200052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842920" y="2126520"/>
                <a:ext cx="1756080" cy="2601000"/>
                <a:chOff x="2842920" y="2126520"/>
                <a:chExt cx="1756080" cy="26010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886120" y="2126520"/>
                  <a:ext cx="16693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emple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corpor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ovilida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svincul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842920" y="2126520"/>
                  <a:ext cx="1756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4599000" y="2126520"/>
                <a:ext cx="1675080" cy="2601000"/>
                <a:chOff x="4599000" y="2126520"/>
                <a:chExt cx="1675080" cy="26010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641840" y="2126520"/>
                  <a:ext cx="158868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lanific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Evalu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599000" y="2126520"/>
                  <a:ext cx="1675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274440" y="2126520"/>
                <a:ext cx="2062440" cy="1164600"/>
                <a:chOff x="6274440" y="2126520"/>
                <a:chExt cx="2062440" cy="11646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317640" y="2126520"/>
                  <a:ext cx="1975680" cy="11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 compens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no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274440" y="2126520"/>
                  <a:ext cx="2062440" cy="11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274440" y="3291480"/>
                <a:ext cx="2062440" cy="1436040"/>
                <a:chOff x="6274440" y="3291480"/>
                <a:chExt cx="2062440" cy="14360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317640" y="3291480"/>
                  <a:ext cx="1975680" cy="14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desarroll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moción y carrer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pacit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prendizaje individual y colectiv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274440" y="3291480"/>
                  <a:ext cx="2062440" cy="143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842400" y="4727520"/>
                <a:ext cx="7494840" cy="1380960"/>
                <a:chOff x="842400" y="4727520"/>
                <a:chExt cx="7494840" cy="13809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85240" y="4727520"/>
                  <a:ext cx="7408440" cy="13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s relaciones humanas y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lima laboral                                   Relaciones Laborales                       Políticas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42400" y="4727520"/>
                  <a:ext cx="7494840" cy="13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838080" y="1066680"/>
              <a:ext cx="7504200" cy="5046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52480" y="1676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05740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7339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1008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3915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521-CB0D-4233-AB09-853E767CF0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DDC67-24F2-47B4-9064-BE1D9F77DE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Noción específica a la gestión de recursos humanos en el sector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osibles aproxim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mpleo público en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cuyas funciones están reguladas por normas de derecho público; ejercicio de potestades públicas. Relación con “núcleo estratégico”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regida por estatuto laboral propio, con relaciones laborales definidas por adscripción a una norma en lugar de contra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D4C-C6CB-4457-8AF5-B433A21040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E2BF9-2730-424A-AE94-D8CD6BF471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articulación del empleo público mediante el cual determinados países garantizan existencia de administraciones públicas profesion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Administración profesional, independencia e imparcialidad en su funcionamiento; protección frente a padrinazgo y clientelismo polític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ones específicas, articulad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0DA-156B-45DC-AF29-B85C220F80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07802-BDFC-471E-BEC5-7507FCEF38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ORIGENES Y RAZON DE SER DE LOS SISTEMAS DE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Países desarrollados de Europa y Norteamérica, fines del siglo XVIII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Inclusión en declaración de derechos del hombre (1789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Industrial736 BT"/>
              </a:rPr>
              <a:t>Artículo 6.- La ley es la expresión de la voluntad general. Todos los ciudadanos tienen derecho a contribuir a su elaboración, personalmente o por medio de sus representantes. Debe ser la misma para todos, ya sea que proteja o que sancione. Como todos los ciudadanos son iguales ante ella, todos son igualmente admisibles en toda dignidad, cargo o empleo públicos, según sus capacidades y sin otra distinción que la de sus virtudes y sus talentos.</a:t>
            </a:r>
            <a:endParaRPr b="1" lang="en-US" sz="1600" spc="-1" strike="noStrike">
              <a:solidFill>
                <a:srgbClr val="000000"/>
              </a:solidFill>
              <a:latin typeface="Industrial736 BT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Creación del constitucionalismo moderno, asociado al orden liberal y el mercad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Industrial736 BT"/>
              </a:rPr>
              <a:t>Artículo 38.- Una ley orgánica constitucional determinará la organización básica de la Administración Pública, garantizará la carrera funcionaria y los principios de carácter técnico y profesional en que deba fundarse, y asegurará tanto la igualdad de oportunidades de ingreso a ella como la capacitación y el perfeccionamiento de sus integrantes.</a:t>
            </a:r>
            <a:r>
              <a:rPr b="1" lang="en-US" sz="16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Industrial736 BT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Institución clave de la seguridad jurídica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7B3-3C2F-401A-87C4-E040BD04E6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4E6C6-313F-460D-B3EF-CA7A885D22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OMPONENTES DEL MARCO REGULATORIO DEL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arrera profes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s y deberes de los funcionari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dministración del Servicio Civi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DF0-7455-4D30-A80A-BDEA965FC4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EEDF4-727B-4933-A216-13F48E5EC2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 francé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masivos, selección por tribunal y ranking riguroso en función de exáme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cuelas de funcionarios (reclutamiento de alumnos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Modelo britán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lutamiento a través de órgano centralizado (Civil Service Commission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abiertos, focalizados en características persona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5DA-5D37-42DF-92C7-F5963FA8027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62B3B-D22B-4380-BC30-95BA58D521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 DE CARRER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empleo (position-based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eclutamiento para un empleo o pues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mpetencia abiert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carrera propiamente tal (career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tructuración por niveles ascendent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mpetencia intern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609-99AC-42FD-8B0E-BA1E719BE8C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A4BF5-F63F-4F08-97DF-1E23825072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DERECHOS Y DEBER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 al carg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otección frente al despido arbitrario, favoritism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razones disciplinari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por causas organizativas o económ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ber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a la nación e instituciones bás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serva sobre asuntos conocidos en atención al carg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ódigos de étic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rechos col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Negociación col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Huelg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7628-A5EC-41DA-BD15-7BB78ADCF38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97688-CEA9-406D-AA11-DEA95E06CC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ADMINISTRACION DEL SISTEM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centralizados: Francia Japón, España, Gran Bretañ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descentralizados: Estados Unidos, Suecia, Holanda, Austral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8F5-8235-4C9D-B031-94A36CC6A9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D3727-65B9-4C95-90A1-4C39A6A8E1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PROBLEMAS DEL MODELO DE SERVICIO CIVIL Y REFORMAS RECIENT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spectos estructu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nfrontación entre políticos y burócra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igideces internas inevitab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texto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risis fisc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Expansión cualitativa y cuantitativa de demanda por servicios públ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co de reformas: flexibilidad para mejorar eficencia y capacidad de respuesta frente a ciudadaní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BBC-198F-4CAA-9F86-9AE4AE0A7D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027B7-0E69-4D28-8684-470A0F24C7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RECURSOS HUMANOS EN EL SECTOR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tiv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personal como componente del gasto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os funcionarios como grupo de interés y fuente de conflict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servicio civil como base fundamental de la func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s personas como recurso organizac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E1B-FC86-463A-A057-92F18739369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4FE0A-08DA-4CA7-AEC4-BD0526D46A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EMENTOS COMUNES A REFORM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vilidad, capacidad de redespliegue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scentralización de decisiones claves en gestión de RRHH (reclutamiento, promoción, remuneración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mpliación de discrecionalidad de dir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dición y retribución del desempeñ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lexibilización de formas contractu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rtalecimiento de control político y rendición de cuent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F276-5DCD-4BB2-A2A0-1F4B748A7F8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86502-B9C7-4CFD-8770-09806645C9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EL EMPLEO PUBLICO EN AMERICA LATIN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556000" y="2276640"/>
            <a:ext cx="4105080" cy="3816360"/>
            <a:chOff x="2556000" y="2276640"/>
            <a:chExt cx="4105080" cy="3816360"/>
          </a:xfrm>
        </p:grpSpPr>
        <p:sp>
          <p:nvSpPr>
            <p:cNvPr id="131" name="Pyr1"/>
            <p:cNvSpPr/>
            <p:nvPr/>
          </p:nvSpPr>
          <p:spPr>
            <a:xfrm>
              <a:off x="4153320" y="2276640"/>
              <a:ext cx="920160" cy="845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DIRECTIV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Pyr2"/>
            <p:cNvSpPr/>
            <p:nvPr/>
          </p:nvSpPr>
          <p:spPr>
            <a:xfrm>
              <a:off x="3620520" y="3122280"/>
              <a:ext cx="1980720" cy="9921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PROFESION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Pyr3"/>
            <p:cNvSpPr/>
            <p:nvPr/>
          </p:nvSpPr>
          <p:spPr>
            <a:xfrm>
              <a:off x="3093480" y="4114800"/>
              <a:ext cx="3034440" cy="9910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TECN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Pyr4"/>
            <p:cNvSpPr/>
            <p:nvPr/>
          </p:nvSpPr>
          <p:spPr>
            <a:xfrm>
              <a:off x="2556000" y="5100840"/>
              <a:ext cx="4105080" cy="992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DMINISTRATIV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rot="10800000">
            <a:off x="2050560" y="2205000"/>
            <a:ext cx="358920" cy="1224000"/>
          </a:xfrm>
          <a:custGeom>
            <a:avLst/>
            <a:gdLst>
              <a:gd name="textAreaLeft" fmla="*/ 0 w 358920"/>
              <a:gd name="textAreaRight" fmla="*/ 129600 w 358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2050560" y="3500280"/>
            <a:ext cx="358920" cy="2592720"/>
          </a:xfrm>
          <a:custGeom>
            <a:avLst/>
            <a:gdLst>
              <a:gd name="textAreaLeft" fmla="*/ 0 w 358920"/>
              <a:gd name="textAreaRight" fmla="*/ 129600 w 358920"/>
              <a:gd name="textAreaTop" fmla="*/ 67320 h 2592720"/>
              <a:gd name="textAreaBottom" fmla="*/ 2525400 h 25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2997360"/>
            <a:ext cx="360360" cy="3095640"/>
          </a:xfrm>
          <a:custGeom>
            <a:avLst/>
            <a:gdLst>
              <a:gd name="textAreaLeft" fmla="*/ 0 w 360360"/>
              <a:gd name="textAreaRight" fmla="*/ 12996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2133720"/>
            <a:ext cx="360360" cy="720720"/>
          </a:xfrm>
          <a:custGeom>
            <a:avLst/>
            <a:gdLst>
              <a:gd name="textAreaLeft" fmla="*/ 0 w 360360"/>
              <a:gd name="textAreaRight" fmla="*/ 129960 w 360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8526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SERVICIO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5013360"/>
            <a:ext cx="9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CONTRATOCOM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80360" y="242100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CONFIANZA POLI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436572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PLA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77336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SISTEMAS DE SERVICIO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1700280"/>
            <a:ext cx="10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MERICA LA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320-A261-472E-87FA-EC34C1C3126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FB3A5-F0E9-4DE8-8230-1D6B744FAF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s personas como principal recurso de una organización para lograr sus fi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 eficiencia de las organizaciones está principalmente determinada por el desempeño de su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como determinante fundamental de los costos, relación con economía, eficienc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estión de personal como herramienta al servicio de la eficacia organizativ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B0A-D216-4329-8F28-EA70552DA97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EB32A-AAB9-4395-AAF5-85AFDF8EE0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Longo: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GRH como sistema integrado de gestión, cuya finalidad básica o razón de ser es la adecuación de las personas a la estrategia de una organización para la producción de resultados acordes con las finalidades perseguidas.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3657600"/>
            <a:ext cx="14479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GESTIO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88620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396252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895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510552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58672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5909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4120" y="42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54097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4097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6C4-8C75-47CC-AAF0-3F5413B673F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62C91-26FE-4618-84E5-CD430295A1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nfoque de gestión de recursos humanos (GRH)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ficacia de la organización como objetiv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tencial humano como base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epción estratégica: proactiva, personas como activos potenciales que deben ser aprovechados para el logro de objetivo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Visión integrada: estructura, cultura organizativa, competencias. En foque en motivación de empleados, reconociendo sus interes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GRH como función dir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657-C715-44FA-9CE6-7FC7B236BA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1F56E-2604-4008-860B-D6DF8B68EA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busca aplicar recursos humanos al logro de los fines de la organiz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ara ello se requiere actuar sobre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s competencias del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 motivación del personal para aplicar sus competencias a los fine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3788-5715-4AA5-86E3-2D26E1BBEC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7B3CB-7306-4F3E-B209-365FF16D4C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14126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onductas laborales necesarias para hacer un trabajo efectivo (Woodruffe, 1993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apacidad real del individuo para dominar el conjunto de tareas que configuran la función en concreto (Reis, 1994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Todo atributo personal relacionado al trabajo, conocimiento, experiencia, habilidades y valores que llevan a una persona a desempeñarse bien en su trabajo (Roberts, 1997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Repertorios de comportamientos observables que algunas personas dominan mejor que otras y que los hacen eficaces en una situación determinada (Levy-Leboyer, 1997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apacidad real para lograr un objetivo o resultado en un contexto dado (Mertens, 1996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391-0D02-4201-BA70-5AE50C73A70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4F1D3-D562-47C9-80CA-32B97C041EB3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17704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Industrial736 BT"/>
              </a:rPr>
              <a:t>Una COMPETENCIA es una Característica Subyacente de un individuo que está Relacionada Causalmente a un Criterio de Referencia de Desempeño Superior en un trabajo o situación (Spencer &amp; Spencer, 1993).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1" name=""/>
          <p:cNvSpPr/>
          <p:nvPr/>
        </p:nvSpPr>
        <p:spPr>
          <a:xfrm>
            <a:off x="6837840" y="3581280"/>
            <a:ext cx="1653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Resultado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03680" y="4141800"/>
            <a:ext cx="2417040" cy="831600"/>
            <a:chOff x="6403680" y="4141800"/>
            <a:chExt cx="2417040" cy="831600"/>
          </a:xfrm>
        </p:grpSpPr>
        <p:sp>
          <p:nvSpPr>
            <p:cNvPr id="173" name=""/>
            <p:cNvSpPr/>
            <p:nvPr/>
          </p:nvSpPr>
          <p:spPr>
            <a:xfrm>
              <a:off x="6435720" y="4141800"/>
              <a:ext cx="229392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10320" y="4200480"/>
              <a:ext cx="1964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Rendimiento 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3680" y="4511520"/>
              <a:ext cx="241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l puesto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612080" y="3581280"/>
            <a:ext cx="155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Inten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371600" y="4141800"/>
            <a:ext cx="2046240" cy="831600"/>
            <a:chOff x="1371600" y="4141800"/>
            <a:chExt cx="2046240" cy="831600"/>
          </a:xfrm>
        </p:grpSpPr>
        <p:sp>
          <p:nvSpPr>
            <p:cNvPr id="178" name=""/>
            <p:cNvSpPr/>
            <p:nvPr/>
          </p:nvSpPr>
          <p:spPr>
            <a:xfrm>
              <a:off x="1371600" y="4141800"/>
              <a:ext cx="196560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65560" y="4221000"/>
              <a:ext cx="1952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aracterístic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90120" y="4573440"/>
              <a:ext cx="1456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erson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530360" y="5073480"/>
            <a:ext cx="100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Mo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31440" y="540540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Ra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30000" y="5734080"/>
            <a:ext cx="1894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utoconce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39800" y="3581280"/>
            <a:ext cx="1271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Ac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95560" y="4121280"/>
            <a:ext cx="1965240" cy="831600"/>
            <a:chOff x="3895560" y="4121280"/>
            <a:chExt cx="1965240" cy="831600"/>
          </a:xfrm>
        </p:grpSpPr>
        <p:sp>
          <p:nvSpPr>
            <p:cNvPr id="186" name=""/>
            <p:cNvSpPr/>
            <p:nvPr/>
          </p:nvSpPr>
          <p:spPr>
            <a:xfrm>
              <a:off x="3895560" y="4121280"/>
              <a:ext cx="196524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7920" y="434484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onduc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07000" y="5451480"/>
            <a:ext cx="187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5920" y="5073480"/>
            <a:ext cx="1245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Dest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84720" y="434484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99320" y="437040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: CONCEPTO CONDUCTU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433-53DF-4032-A164-379D899210B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DFD3E-B2C9-4D96-B2AA-F49B7F128969}" type="datetime1">
              <a:rPr lang="en-US"/>
              <a:t>07/30/26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MOTIVACION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terés individual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ngreso monetar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alización personal/profesi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estig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Seguridad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der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Intereses gene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dentificación con una mis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ogro de me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4CC-944B-4CB7-8FBA-174B17546A3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20EFA-D1B8-43C0-9A30-ACE3430E53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NTEXTO DE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no opera en el vacío, la condicionan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in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Estructura organiza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Cultura institu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ex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arco jurídic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ercado del trabaj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F81-2703-445D-96CE-02F5D92A0A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E4AF5-BDA9-4D3D-B4DB-DD6C54147B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971800" y="1886040"/>
          <a:ext cx="3639960" cy="428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86040"/>
                    <a:ext cx="36399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EA2-68A5-4C87-B36B-43138AB764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8C992-E523-48F4-BEB5-73B7C29C1D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1752480"/>
          <a:ext cx="4800600" cy="440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752480"/>
                    <a:ext cx="48006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FF1-DD02-4A95-B00F-A334B9639C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61463-6E3C-4107-942C-A7CF99BB04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Chile: Personal Civil del Gobierno Cent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Según Dependencia (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2133720"/>
          <a:ext cx="7848360" cy="4064040"/>
        </p:xfrm>
        <a:graphic>
          <a:graphicData uri="http://schemas.openxmlformats.org/drawingml/2006/table">
            <a:tbl>
              <a:tblPr/>
              <a:tblGrid>
                <a:gridCol w="5638680"/>
                <a:gridCol w="220968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ministración Cent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58.2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ntraloría General de la Repúb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.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Poder Jud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7.9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ngreso N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8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Ministerio Púb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3.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otal Sector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72.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1B3-9839-4058-AEAD-6486E197537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BC682-5952-49E5-A4BB-E1E2AA19F0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Chile: Personal Civil del Gobierno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Según Estamento (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2133720"/>
          <a:ext cx="7848360" cy="4064040"/>
        </p:xfrm>
        <a:graphic>
          <a:graphicData uri="http://schemas.openxmlformats.org/drawingml/2006/table">
            <a:tbl>
              <a:tblPr/>
              <a:tblGrid>
                <a:gridCol w="5638680"/>
                <a:gridCol w="220968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Directivos 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6.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Directivos no 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.6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59.4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écn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47.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ministrativos y Auxilia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56.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otal Sector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72.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CE4-89DA-4805-951C-8CDB94031B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99D7E-BF8F-4268-82F1-FDDEE32F71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del sector público en procesos de ajuste fiscal 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xposición y vulnerabilidad de gastos en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canismos de ajuste: despidos masivos, incentivos al retiro, no reemplazo, reubic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secuencias sobre gestión pública: adaptación a necesidades, tensiones, fragilidad, etc 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948-6891-40F2-8FB5-D0C3690FAD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CF497-B9C0-4FFC-9464-3FB4384F5B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LOS FUNCIONARIOS PUBLICOS COMO GRUPO DE INTERES Y FUENTE DE CONFLICT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Realidades cotidianas: conflictos, presiones, organizacio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os empleados públicos como grupo de interé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 agente-princip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s de captura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n todos estos caso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onocimiento de intereses particulares, específ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terminantes de eficacia organizacional y del rol del sector público como promotor del interés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A501-C2E3-476A-BF85-37923CCDB3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E3555-D42A-4513-B4F4-4EF0DA588B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Visión tradicional: administración de personal como un conjunto de operaciones especializad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Obten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finición de funcio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valu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tribu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ón de derech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vincul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D71-D674-4B7D-8686-C223AEA35B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12CA7-AA3B-45CC-9859-E28451AE35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21:32Z</dcterms:created>
  <dc:creator>mmc</dc:creator>
  <dc:description/>
  <dc:language>en-US</dc:language>
  <cp:lastModifiedBy>USUARIO</cp:lastModifiedBy>
  <dcterms:modified xsi:type="dcterms:W3CDTF">2007-11-09T19:51:27Z</dcterms:modified>
  <cp:revision>12</cp:revision>
  <dc:subject/>
  <dc:title>RECURSOS HUMANOS</dc:title>
</cp:coreProperties>
</file>