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10C7-3875-4380-8702-37180C44481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5670-F863-43F8-8E00-6E153C7F640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343080" y="4181400"/>
            <a:ext cx="6286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rente a esta crítica, desarrolla metodologías basadas en el uso de MUESTRAS CRITERIO  y de IDENTIFICACIÓN DE PENSAMIENTOS Y CONDUCTAS OPERANTES RELACIONADAS CAUSALEMENTE A RESULTADOS EXISTOSOS, en basea observación en terreno y entrevis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us investigaciones aplicadas originalmente al campo de la Diplomacia noerteamericana demuestran cómo ciertas habilidades específicas descubiertas (Ejemplo: sensibilidad interpersonal intercultural, valoración positiva de los demás y rapidez de aprendizaje de redesmpolítcas de influencia) son capaces de predecir el desempeño futuro de jóvenes diplomáticos, cosa que no permitien test estandarizados de conocimiento e inteligenc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 raíz de investigaciones posteriores desarrolla el enfoque de EVALUACIÓN DE COMPETENCIAS LABORALES, postulando el concepto de COMPETENCIA.  Este enfoque ha sido desarrollado posteriormente por Boyatzis (1981, 1982), Spencer &amp; Spencer (199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NCEPTO EXPLI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os autores plantean que toda competencia tiene 5 DIMENSIONES POSIBLES, CENTRALES (MOTIVOS, RASGOS, AUTIMAGEN) o PERIFÉRICAS (CONOCIMIENTOS Y DESTREZAS).  Además, que cada una de ellas siempre integra algún tipo de INTENCIÓN (3 opciones), con una ACCIÓN (2 opciones) que se relaciona causalmente a un RESULTADO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4678-281E-4D5C-920D-2E54D5AEB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94A6-B726-4CA2-90B4-9688DC66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C40C-F100-48E7-AC87-35FB66D06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63A4-3FE9-4607-B546-6B3354A3B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3773-E310-4840-AB7E-F5B9C4C0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2327-81ED-4E97-9803-9704BD3C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FDD7-7A3B-467C-B1C2-407C2FDB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5E79-E5F5-43FB-B493-9787C96E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581F-AF56-422A-9657-6DA88633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15F3-E4E5-4819-9E67-C4000FA0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B3D0-3E01-4305-BF4A-625ECF4F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1332-685D-4858-BC73-BB8FBF20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000000"/>
                </a:solidFill>
                <a:latin typeface="Industrial736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5D66-DC60-4110-9BB3-7EBE9745A273}" type="datetime">
              <a:rPr b="1" lang="es-ES" sz="1400" spc="-1" strike="noStrike">
                <a:solidFill>
                  <a:srgbClr val="000000"/>
                </a:solidFill>
                <a:latin typeface="Industrial736 BT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Industrial736 B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Industrial736 B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Industrial736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A229-0B48-4480-BEF5-7B103C821ED0}" type="slidenum">
              <a:rPr b="1" lang="en-US" sz="1400" spc="-1" strike="noStrike">
                <a:solidFill>
                  <a:srgbClr val="000000"/>
                </a:solidFill>
                <a:latin typeface="Industrial736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RECURSOS HUMANO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Gestión Pública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Profesor: Marcela Guzmán 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UCH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2007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SUBSISTEMAS DE LA GRH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838080" y="1066680"/>
            <a:ext cx="7504200" cy="5046840"/>
            <a:chOff x="838080" y="1066680"/>
            <a:chExt cx="7504200" cy="5046840"/>
          </a:xfrm>
        </p:grpSpPr>
        <p:grpSp>
          <p:nvGrpSpPr>
            <p:cNvPr id="72" name=""/>
            <p:cNvGrpSpPr/>
            <p:nvPr/>
          </p:nvGrpSpPr>
          <p:grpSpPr>
            <a:xfrm>
              <a:off x="842400" y="1070640"/>
              <a:ext cx="7494840" cy="5037840"/>
              <a:chOff x="842400" y="1070640"/>
              <a:chExt cx="7494840" cy="503784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842400" y="1070640"/>
                <a:ext cx="7494840" cy="1055880"/>
                <a:chOff x="842400" y="1070640"/>
                <a:chExt cx="7494840" cy="10558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885240" y="1070640"/>
                  <a:ext cx="7408440" cy="105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LANIFIC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842400" y="1070640"/>
                  <a:ext cx="7494840" cy="105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842400" y="2126520"/>
                <a:ext cx="2000520" cy="2601000"/>
                <a:chOff x="842400" y="2126520"/>
                <a:chExt cx="2000520" cy="260100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885240" y="2126520"/>
                  <a:ext cx="1914120" cy="260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rganización del trabaj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Diseño de puesto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Definición de perfile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842400" y="2126520"/>
                  <a:ext cx="2000520" cy="260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2842920" y="2126520"/>
                <a:ext cx="1756080" cy="2601000"/>
                <a:chOff x="2842920" y="2126520"/>
                <a:chExt cx="1756080" cy="260100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2886120" y="2126520"/>
                  <a:ext cx="1669320" cy="260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l emple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ncorpor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Movilida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Desvincul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2842920" y="2126520"/>
                  <a:ext cx="1756080" cy="260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4599000" y="2126520"/>
                <a:ext cx="1675080" cy="2601000"/>
                <a:chOff x="4599000" y="2126520"/>
                <a:chExt cx="1675080" cy="260100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4641840" y="2126520"/>
                  <a:ext cx="1588680" cy="260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l rendi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lanific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Evalu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4599000" y="2126520"/>
                  <a:ext cx="1675080" cy="260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6274440" y="2126520"/>
                <a:ext cx="2062440" cy="1164600"/>
                <a:chOff x="6274440" y="2126520"/>
                <a:chExt cx="2062440" cy="116460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6317640" y="2126520"/>
                  <a:ext cx="1975680" cy="11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 la compens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tribución monetari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tribución no monetari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6274440" y="2126520"/>
                  <a:ext cx="2062440" cy="11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6274440" y="3291480"/>
                <a:ext cx="2062440" cy="1436040"/>
                <a:chOff x="6274440" y="3291480"/>
                <a:chExt cx="2062440" cy="143604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6317640" y="3291480"/>
                  <a:ext cx="1975680" cy="143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l desarroll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romoción y carrer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Capacit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Aprendizaje individual y colectiv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274440" y="3291480"/>
                  <a:ext cx="2062440" cy="143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842400" y="4727520"/>
                <a:ext cx="7494840" cy="1380960"/>
                <a:chOff x="842400" y="4727520"/>
                <a:chExt cx="7494840" cy="138096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885240" y="4727520"/>
                  <a:ext cx="7408440" cy="138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 las relaciones humanas y socia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lima laboral                                   Relaciones Laborales                       Políticas socia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842400" y="4727520"/>
                  <a:ext cx="7494840" cy="1380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"/>
            <p:cNvSpPr/>
            <p:nvPr/>
          </p:nvSpPr>
          <p:spPr>
            <a:xfrm>
              <a:off x="838080" y="1066680"/>
              <a:ext cx="7504200" cy="5046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752480" y="1676520"/>
            <a:ext cx="556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1008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1520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228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2286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228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0100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057400" y="4571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733920" y="4571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410080" y="4571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391520" y="4571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D59B-FA52-44BB-B066-702DF91E868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091F74-25E3-4C7D-9598-55DCB161D8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SERVICIO CIVIL Y LA FUNCION PUBLIC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Noción específica a la gestión de recursos humanos en el sector públic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Posibles aproximacione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mpleo público en gener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arte del empleo público cuyas funciones están reguladas por normas de derecho público; ejercicio de potestades públicas. Relación con “núcleo estratégico” del estad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arte del empleo público regida por estatuto laboral propio, con relaciones laborales definidas por adscripción a una norma en lugar de contrat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FA73-7328-40DD-9408-7E183176C11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74FD54-D71E-4588-9E37-9CFEF7ECA7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SERVICIO CIVIL Y LA FUNCION PUBLIC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Sistema de articulación del empleo público mediante el cual determinados países garantizan existencia de administraciones públicas profesional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Administración profesional, independencia e imparcialidad en su funcionamiento; protección frente a padrinazgo y clientelismo polític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gulaciones específicas, articulad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8921-4838-4908-ABC3-8586525F7C1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FD7879-5FF0-4CFD-BB28-0E902A1BB9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ORIGENES Y RAZON DE SER DE LOS SISTEMAS DE SERVICIO CIVI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Países desarrollados de Europa y Norteamérica, fines del siglo XVIII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Inclusión en declaración de derechos del hombre (1789)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Industrial736 BT"/>
              </a:rPr>
              <a:t>Artículo 6.- La ley es la expresión de la voluntad general. Todos los ciudadanos tienen derecho a contribuir a su elaboración, personalmente o por medio de sus representantes. Debe ser la misma para todos, ya sea que proteja o que sancione. Como todos los ciudadanos son iguales ante ella, todos son igualmente admisibles en toda dignidad, cargo o empleo públicos, según sus capacidades y sin otra distinción que la de sus virtudes y sus talentos.</a:t>
            </a:r>
            <a:endParaRPr b="1" lang="en-US" sz="1600" spc="-1" strike="noStrike">
              <a:solidFill>
                <a:srgbClr val="000000"/>
              </a:solidFill>
              <a:latin typeface="Industrial736 BT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Creación del constitucionalismo moderno, asociado al orden liberal y el mercado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Industrial736 BT"/>
              </a:rPr>
              <a:t>Artículo 38.- Una ley orgánica constitucional determinará la organización básica de la Administración Pública, garantizará la carrera funcionaria y los principios de carácter técnico y profesional en que deba fundarse, y asegurará tanto la igualdad de oportunidades de ingreso a ella como la capacitación y el perfeccionamiento de sus integrantes.</a:t>
            </a:r>
            <a:r>
              <a:rPr b="1" lang="en-US" sz="1600" spc="-1" strike="noStrike">
                <a:solidFill>
                  <a:srgbClr val="000000"/>
                </a:solidFill>
                <a:latin typeface="Industrial736 BT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Industrial736 BT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Institución clave de la seguridad jurídica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2F50-C1F6-4EB6-A05F-A97C7DC3769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092F9F-B536-4251-A4E1-10617CFB98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COMPONENTES DEL MARCO REGULATORIO DEL SERVICIO CIVI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Sistemas de acces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Carrera profesiona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Derechos y deberes de los funcionario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Administración del Servicio Civi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27AF-8384-498E-9E96-CAED5CB12B5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33A8A4-4CEA-4CE4-B754-9BEAEA0A8A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SISTEMAS DE ACCES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delo francé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oncursos masivos, selección por tribunal y ranking riguroso en función de exámen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scuelas de funcionarios (reclutamiento de alumnos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Modelo británic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clutamiento a través de órgano centralizado (Civil Service Commission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oncursos abiertos, focalizados en características personal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7A3E-8F95-49DE-AEC3-883C62E38B2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B41AA0-56F8-4EE6-B0C2-77960E63B3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SISTEMA DE CARRER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Sistemas de empleo (position-based)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Reclutamiento para un empleo o puest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Competencia abiert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Sistema de carrera propiamente tal (career)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structuración por niveles ascendent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ompetencia intern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79CE-3D82-4F52-9BB6-D2B8625F201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85293C-AF0C-4821-84D8-24EC384338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DERECHOS Y DEBERE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Derecho al carg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rotección frente al despido arbitrario, favoritism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spido por razones disciplinari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spido por por causas organizativas o económic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Deber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ealtad a la nación e instituciones básic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serva sobre asuntos conocidos en atención al carg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ódigos de étic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Derechos colectivo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Negociación colectiv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Huelg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6DC7-3CD6-48D4-9E4F-2FFF267D7F4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3F3FD5-C1BB-420C-994D-064F29AF05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ADMINISTRACION DEL SISTEM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delos centralizados: Francia Japón, España, Gran Bretañ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delos descentralizados: Estados Unidos, Suecia, Holanda, Australi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7693-AED9-4696-BDDF-10C437DAF39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75F68D-49AD-4C78-AC8B-FB64062DEC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PROBLEMAS DEL MODELO DE SERVICIO CIVIL Y REFORMAS RECIENTE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Aspectos estructurale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Confrontación entre políticos y burócrat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Rigideces internas inevitabl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Contexto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Crisis fisc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Expansión cualitativa y cuantitativa de demanda por servicios públic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Foco de reformas: flexibilidad para mejorar eficencia y capacidad de respuesta frente a ciudadaní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33FA-5D25-46EA-94F2-26F3EE32857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5540E6-3F33-4EF1-9EC9-82B5C51A16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RECURSOS HUMANOS EN EL SECTOR PUBLIC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tivacione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El personal como componente del gasto públic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Los funcionarios como grupo de interés y fuente de conflict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La gestión de recursos humanos como sistema integrante de la gestión públic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El servicio civil como base fundamental de la función públic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Las personas como recurso organizaciona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E1C4-BCFE-4CBB-9529-00753840C62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5F128-B2E6-432A-B284-B48A3685E5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EMENTOS COMUNES A REFORMA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vilidad, capacidad de redespliegue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Descentralización de decisiones claves en gestión de RRHH (reclutamiento, promoción, remuneración)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Ampliación de discrecionalidad de directivo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edición y retribución del desempeñ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Flexibilización de formas contractual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Fortalecimiento de control político y rendición de cuenta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932B-48B5-4B75-839E-6C0C9E20583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595D59-6F98-4A37-A80D-53C9EE0340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SERVICIO CIVIL Y EL EMPLEO PUBLICO EN AMERICA LATIN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556000" y="2276640"/>
            <a:ext cx="4105080" cy="3816360"/>
            <a:chOff x="2556000" y="2276640"/>
            <a:chExt cx="4105080" cy="3816360"/>
          </a:xfrm>
        </p:grpSpPr>
        <p:sp>
          <p:nvSpPr>
            <p:cNvPr id="131" name="Pyr1"/>
            <p:cNvSpPr/>
            <p:nvPr/>
          </p:nvSpPr>
          <p:spPr>
            <a:xfrm>
              <a:off x="4153320" y="2276640"/>
              <a:ext cx="920160" cy="845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DIRECTIV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Pyr2"/>
            <p:cNvSpPr/>
            <p:nvPr/>
          </p:nvSpPr>
          <p:spPr>
            <a:xfrm>
              <a:off x="3620520" y="3122280"/>
              <a:ext cx="1980720" cy="99216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PROFESIONA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Pyr3"/>
            <p:cNvSpPr/>
            <p:nvPr/>
          </p:nvSpPr>
          <p:spPr>
            <a:xfrm>
              <a:off x="3093480" y="4114800"/>
              <a:ext cx="3034440" cy="99108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TECNIC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Pyr4"/>
            <p:cNvSpPr/>
            <p:nvPr/>
          </p:nvSpPr>
          <p:spPr>
            <a:xfrm>
              <a:off x="2556000" y="5100840"/>
              <a:ext cx="4105080" cy="9921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ADMINISTRATIV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 rot="10800000">
            <a:off x="2050560" y="2205000"/>
            <a:ext cx="358920" cy="1224000"/>
          </a:xfrm>
          <a:custGeom>
            <a:avLst/>
            <a:gdLst>
              <a:gd name="textAreaLeft" fmla="*/ 0 w 358920"/>
              <a:gd name="textAreaRight" fmla="*/ 129600 w 3589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0800000">
            <a:off x="2050560" y="3500280"/>
            <a:ext cx="358920" cy="2592720"/>
          </a:xfrm>
          <a:custGeom>
            <a:avLst/>
            <a:gdLst>
              <a:gd name="textAreaLeft" fmla="*/ 0 w 358920"/>
              <a:gd name="textAreaRight" fmla="*/ 129600 w 358920"/>
              <a:gd name="textAreaTop" fmla="*/ 67320 h 2592720"/>
              <a:gd name="textAreaBottom" fmla="*/ 2525400 h 259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77080" y="2997360"/>
            <a:ext cx="360360" cy="3095640"/>
          </a:xfrm>
          <a:custGeom>
            <a:avLst/>
            <a:gdLst>
              <a:gd name="textAreaLeft" fmla="*/ 0 w 360360"/>
              <a:gd name="textAreaRight" fmla="*/ 129960 w 360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77080" y="2133720"/>
            <a:ext cx="360360" cy="720720"/>
          </a:xfrm>
          <a:custGeom>
            <a:avLst/>
            <a:gdLst>
              <a:gd name="textAreaLeft" fmla="*/ 0 w 360360"/>
              <a:gd name="textAreaRight" fmla="*/ 129960 w 360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2852640"/>
            <a:ext cx="86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SERVICIO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5013360"/>
            <a:ext cx="93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CONTRATOCOM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80360" y="242100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CONFIANZA POLIT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51640" y="436572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PLAN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77336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SISTEMAS DE SERVICIO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1700280"/>
            <a:ext cx="107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AMERICA LA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5204-DC60-46CA-82EA-1827ED99525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BA3F26-F4E4-4CC7-99E8-82AB672563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RECURSO ORGANIZACION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Las personas como principal recurso de una organización para lograr sus fin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La eficiencia de las organizaciones está principalmente determinada por el desempeño de su persona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El personal como determinante fundamental de los costos, relación con economía, eficienci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Gestión de personal como herramienta al servicio de la eficacia organizativ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0C0F-29A3-4FA8-A437-094A4E42B66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992C56-DEE8-4C65-BD7C-2660D0FA1F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RECURSO ORGANIZACION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Longo: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GRH como sistema integrado de gestión, cuya finalidad básica o razón de ser es la adecuación de las personas a la estrategia de una organización para la producción de resultados acordes con las finalidades perseguidas.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3657600"/>
            <a:ext cx="1447920" cy="1219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GESTION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HUMA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886200"/>
            <a:ext cx="9907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CON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INTER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3962520"/>
            <a:ext cx="9907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CON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EXTER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2895480"/>
            <a:ext cx="16761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ESTRAT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33920" y="5105520"/>
            <a:ext cx="1676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PERSO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5867280"/>
            <a:ext cx="16761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0920" y="4267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590920" y="312372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426708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334120" y="42670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5409720" y="312372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409720" y="426708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57A1-CF64-4CF6-BC2A-F1F530F84ED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85C3D8-F7F1-4529-A17C-DA61AA7891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RECURSO ORGANIZACION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Enfoque de gestión de recursos humanos (GRH)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ficacia de la organización como objetiv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otencial humano como base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oncepción estratégica: proactiva, personas como activos potenciales que deben ser aprovechados para el logro de objetivos de la organiza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Visión integrada: estructura, cultura organizativa, competencias. En foque en motivación de empleados, reconociendo sus interes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GRH como función directiv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89FB-1A90-41E5-B7BF-EBF0EA3B065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76E0D2-4E15-4A83-8FE4-9FC5105C3F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RECURSO ORGANIZACION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GRH busca aplicar recursos humanos al logro de los fines de la organización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Para ello se requiere actuar sobre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as competencias del pers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a motivación del personal para aplicar sus competencias a los fines de la organiza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071A-4568-472B-93C5-43A842CF734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86FD4C-F2D7-4BE9-8D28-0C326BB195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3520" y="14126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125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Industrial736 BT"/>
              </a:rPr>
              <a:t>Conductas laborales necesarias para hacer un trabajo efectivo (Woodruffe, 1993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35880" indent="-335880">
              <a:spcBef>
                <a:spcPts val="1125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Industrial736 BT"/>
              </a:rPr>
              <a:t>Capacidad real del individuo para dominar el conjunto de tareas que configuran la función en concreto (Reis, 1994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35880" indent="-335880">
              <a:spcBef>
                <a:spcPts val="1125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Industrial736 BT"/>
              </a:rPr>
              <a:t>Todo atributo personal relacionado al trabajo, conocimiento, experiencia, habilidades y valores que llevan a una persona a desempeñarse bien en su trabajo (Roberts, 1997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35880" indent="-335880">
              <a:spcBef>
                <a:spcPts val="1125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Industrial736 BT"/>
              </a:rPr>
              <a:t>Repertorios de comportamientos observables que algunas personas dominan mejor que otras y que los hacen eficaces en una situación determinada (Levy-Leboyer, 1997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35880" indent="-335880">
              <a:spcBef>
                <a:spcPts val="1125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Industrial736 BT"/>
              </a:rPr>
              <a:t>Capacidad real para lograr un objetivo o resultado en un contexto dado (Mertens, 1996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358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COMPETENCIA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349B-0B0C-40D4-AB88-E1D1FC96F51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9E69AB-BAEE-45C3-B2DE-C11C40185936}" type="datetime1">
              <a:rPr lang="en-US"/>
              <a:t>07/30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817704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876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Industrial736 BT"/>
              </a:rPr>
              <a:t>Una COMPETENCIA es una Característica Subyacente de un individuo que está Relacionada Causalmente a un Criterio de Referencia de Desempeño Superior en un trabajo o situación (Spencer &amp; Spencer, 1993).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71" name=""/>
          <p:cNvSpPr/>
          <p:nvPr/>
        </p:nvSpPr>
        <p:spPr>
          <a:xfrm>
            <a:off x="6837840" y="3581280"/>
            <a:ext cx="1653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5400"/>
                </a:solidFill>
                <a:latin typeface="Arial"/>
              </a:rPr>
              <a:t>"Resultado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403680" y="4141800"/>
            <a:ext cx="2417040" cy="831600"/>
            <a:chOff x="6403680" y="4141800"/>
            <a:chExt cx="2417040" cy="831600"/>
          </a:xfrm>
        </p:grpSpPr>
        <p:sp>
          <p:nvSpPr>
            <p:cNvPr id="173" name=""/>
            <p:cNvSpPr/>
            <p:nvPr/>
          </p:nvSpPr>
          <p:spPr>
            <a:xfrm>
              <a:off x="6435720" y="4141800"/>
              <a:ext cx="2293920" cy="83160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50000">
                  <a:srgbClr val="fefefe"/>
                </a:gs>
                <a:gs pos="100000">
                  <a:srgbClr val="fcfeb9"/>
                </a:gs>
              </a:gsLst>
              <a:lin ang="5400000"/>
            </a:gradFill>
            <a:ln w="12600">
              <a:solidFill>
                <a:srgbClr val="0000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610320" y="4200480"/>
              <a:ext cx="1964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Rendimiento 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03680" y="4511520"/>
              <a:ext cx="2417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el puesto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1612080" y="3581280"/>
            <a:ext cx="1553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5400"/>
                </a:solidFill>
                <a:latin typeface="Arial"/>
              </a:rPr>
              <a:t>"Intenció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371600" y="4141800"/>
            <a:ext cx="2046240" cy="831600"/>
            <a:chOff x="1371600" y="4141800"/>
            <a:chExt cx="2046240" cy="831600"/>
          </a:xfrm>
        </p:grpSpPr>
        <p:sp>
          <p:nvSpPr>
            <p:cNvPr id="178" name=""/>
            <p:cNvSpPr/>
            <p:nvPr/>
          </p:nvSpPr>
          <p:spPr>
            <a:xfrm>
              <a:off x="1371600" y="4141800"/>
              <a:ext cx="1965600" cy="83160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50000">
                  <a:srgbClr val="fefefe"/>
                </a:gs>
                <a:gs pos="100000">
                  <a:srgbClr val="fcfeb9"/>
                </a:gs>
              </a:gsLst>
              <a:lin ang="5400000"/>
            </a:gradFill>
            <a:ln w="12600">
              <a:solidFill>
                <a:srgbClr val="0000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65560" y="4221000"/>
              <a:ext cx="1952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Característica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590120" y="4573440"/>
              <a:ext cx="1456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Persona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530360" y="5073480"/>
            <a:ext cx="1001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Mo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31440" y="5405400"/>
            <a:ext cx="960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Ra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30000" y="5734080"/>
            <a:ext cx="1894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Autoconcep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39800" y="3581280"/>
            <a:ext cx="1271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5400"/>
                </a:solidFill>
                <a:latin typeface="Arial"/>
              </a:rPr>
              <a:t>"Acció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895560" y="4121280"/>
            <a:ext cx="1965240" cy="831600"/>
            <a:chOff x="3895560" y="4121280"/>
            <a:chExt cx="1965240" cy="831600"/>
          </a:xfrm>
        </p:grpSpPr>
        <p:sp>
          <p:nvSpPr>
            <p:cNvPr id="186" name=""/>
            <p:cNvSpPr/>
            <p:nvPr/>
          </p:nvSpPr>
          <p:spPr>
            <a:xfrm>
              <a:off x="3895560" y="4121280"/>
              <a:ext cx="1965240" cy="83160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50000">
                  <a:srgbClr val="fefefe"/>
                </a:gs>
                <a:gs pos="100000">
                  <a:srgbClr val="fcfeb9"/>
                </a:gs>
              </a:gsLst>
              <a:lin ang="5400000"/>
            </a:gradFill>
            <a:ln w="12600">
              <a:solidFill>
                <a:srgbClr val="0000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37920" y="434484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Conduc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807000" y="5451480"/>
            <a:ext cx="1877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Cono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5920" y="5073480"/>
            <a:ext cx="1245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Destr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84720" y="4344840"/>
            <a:ext cx="495000" cy="347760"/>
          </a:xfrm>
          <a:prstGeom prst="rightArrow">
            <a:avLst>
              <a:gd name="adj1" fmla="val 50000"/>
              <a:gd name="adj2" fmla="val 71176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99320" y="4370400"/>
            <a:ext cx="495000" cy="347760"/>
          </a:xfrm>
          <a:prstGeom prst="rightArrow">
            <a:avLst>
              <a:gd name="adj1" fmla="val 50000"/>
              <a:gd name="adj2" fmla="val 71176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COMPETENCIAS: CONCEPTO CONDUCTU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53D0-15C2-459E-BEFC-C1BEDD47F0C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FB77B2-CEE7-4909-89A7-7887594FBF5B}" type="datetime1">
              <a:rPr lang="en-US"/>
              <a:t>07/30/26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MOTIVACION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Interés individual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Ingreso monetari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alización personal/profesi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restigi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Seguridad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oder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Intereses generale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ealtad pers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Identificación con una mis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ogro de met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2591-5B0C-4525-BFD0-5571C6234A5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88DFAD-F8CE-47F4-BF2F-7DAE376385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CONTEXTO DE GRH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GRH no opera en el vacío, la condicionan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Factores intern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Industrial736 BT"/>
              </a:rPr>
              <a:t>Estructura organizacional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Industrial736 BT"/>
              </a:rPr>
              <a:t>Cultura institucional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Factores extern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Industrial736 BT"/>
              </a:rPr>
              <a:t>Marco jurídico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Industrial736 BT"/>
              </a:rPr>
              <a:t>Mercado del trabajo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C727-CFDE-472E-AB35-991782BEF72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0237BD-24DC-4484-A525-0ED27B0BCD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COMPONENTE DEL GASTO PUBLIC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971800" y="1886040"/>
          <a:ext cx="3639960" cy="4286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1886040"/>
                    <a:ext cx="363996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AEBF-A5F7-4BB8-B403-D525EFB3C8F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868BA7-C95A-4D4B-9DB1-FC55B1E26C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362320" y="1752480"/>
          <a:ext cx="4800600" cy="4400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752480"/>
                    <a:ext cx="480060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90A6-8A22-40F9-BE5C-02D3992D3FD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887838-CEB2-49B7-B289-E528ECDCD7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990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Industrial736 BT"/>
              </a:rPr>
              <a:t>Chile: Personal Civil del Gobierno Centr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Industrial736 BT"/>
              </a:rPr>
              <a:t>Según Dependencia (20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3520" y="2133720"/>
          <a:ext cx="7848360" cy="4064040"/>
        </p:xfrm>
        <a:graphic>
          <a:graphicData uri="http://schemas.openxmlformats.org/drawingml/2006/table">
            <a:tbl>
              <a:tblPr/>
              <a:tblGrid>
                <a:gridCol w="5638680"/>
                <a:gridCol w="2209680"/>
              </a:tblGrid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dministración Cent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158.2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Contraloría General de la Repúbl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1.4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Poder Judi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7.9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Congreso N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8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Ministerio Públ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3.5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Total Sector Públ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172.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2900-75A2-400B-809F-43CC807F0E6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C7D009-65A6-42A3-A683-4A362F5984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Industrial736 BT"/>
              </a:rPr>
              <a:t>Chile: Personal Civil del Gobierno Cen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Industrial736 BT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Industrial736 BT"/>
              </a:rPr>
              <a:t>Según Estamento (20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33520" y="2133720"/>
          <a:ext cx="7848360" cy="4064040"/>
        </p:xfrm>
        <a:graphic>
          <a:graphicData uri="http://schemas.openxmlformats.org/drawingml/2006/table">
            <a:tbl>
              <a:tblPr/>
              <a:tblGrid>
                <a:gridCol w="5638680"/>
                <a:gridCol w="2209680"/>
              </a:tblGrid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Directivos Profes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6.9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Directivos no Profes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1.6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Profes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59.4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Técn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47.5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dministrativos y Auxilia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56.4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Total Sector Públ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172.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0464-76C8-4661-953F-AA851CEFBA3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D159ED-CC32-45E7-8FDF-5C09C0F0D3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COMPONENTE DEL GASTO PUBLIC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El personal del sector público en procesos de ajuste fiscal 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Exposición y vulnerabilidad de gastos en persona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ecanismos de ajuste: despidos masivos, incentivos al retiro, no reemplazo, reubicación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Consecuencias sobre gestión pública: adaptación a necesidades, tensiones, fragilidad, etc 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F82C-9DCF-4DEE-A1AD-9931CA4ADB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BEEE20-2AA9-433A-ABB0-C32528D537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LOS FUNCIONARIOS PUBLICOS COMO GRUPO DE INTERES Y FUENTE DE CONFLICT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Realidades cotidianas: conflictos, presiones, organizacion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Los empleados públicos como grupo de interé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nfoque agente-princip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nfoques de captura del estad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En todos estos caso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conocimiento de intereses particulares, específic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terminantes de eficacia organizacional y del rol del sector público como promotor del interés gener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DB02-7974-431C-B962-29E499251CE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8F676C-A20D-40ED-AE22-4F692C0ECD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LA GESTIÓN DE RECURSOS HUMANOS COMO SISTEMA INTEGRANTE DE LA GESTIÓN PÚBLIC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Visión tradicional: administración de personal como un conjunto de operaciones especializada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Obten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finición de funcion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valua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tribu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gulación de derech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svincula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2525-6201-448C-ACAE-D6C14F969A7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8CD012-4A7B-4617-A16A-FE6CEF3C21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13:21:32Z</dcterms:created>
  <dc:creator>mmc</dc:creator>
  <dc:description/>
  <dc:language>en-US</dc:language>
  <cp:lastModifiedBy>USUARIO</cp:lastModifiedBy>
  <dcterms:modified xsi:type="dcterms:W3CDTF">2007-11-09T19:51:27Z</dcterms:modified>
  <cp:revision>12</cp:revision>
  <dc:subject/>
  <dc:title>RECURSOS HUMANOS</dc:title>
</cp:coreProperties>
</file>