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AF6A-351D-4052-B2CD-BF665287F16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4B03-1498-4AA2-8033-2E6517BDDB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343080" y="4181400"/>
            <a:ext cx="6286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rente a esta crítica, desarrolla metodologías basadas en el uso de MUESTRAS CRITERIO  y de IDENTIFICACIÓN DE PENSAMIENTOS Y CONDUCTAS OPERANTES RELACIONADAS CAUSALEMENTE A RESULTADOS EXISTOSOS, en basea observación en terreno y entrevis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us investigaciones aplicadas originalmente al campo de la Diplomacia noerteamericana demuestran cómo ciertas habilidades específicas descubiertas (Ejemplo: sensibilidad interpersonal intercultural, valoración positiva de los demás y rapidez de aprendizaje de redesmpolítcas de influencia) son capaces de predecir el desempeño futuro de jóvenes diplomáticos, cosa que no permitien test estandarizados de conocimiento e intelig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 raíz de investigaciones posteriores desarrolla el enfoque de EVALUACIÓN DE COMPETENCIAS LABORALES, postulando el concepto de COMPETENCIA.  Este enfoque ha sido desarrollado posteriormente por Boyatzis (1981, 1982), Spencer &amp; Spencer (199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CEPTO EXPL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os autores plantean que toda competencia tiene 5 DIMENSIONES POSIBLES, CENTRALES (MOTIVOS, RASGOS, AUTIMAGEN) o PERIFÉRICAS (CONOCIMIENTOS Y DESTREZAS).  Además, que cada una de ellas siempre integra algún tipo de INTENCIÓN (3 opciones), con una ACCIÓN (2 opciones) que se relaciona causalmente a un RESULTADO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04A-6945-4B0A-938D-F9DB7946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105-D44E-4D16-B443-84EAF790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6E4-C82D-4B88-A66A-F431A50C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345-1BC0-43E6-8774-33669905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AE8-09E1-4FCB-B138-E877AC76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A9C6-99DE-4522-AB99-E617D758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1EB9-186A-40BC-BAE4-B4E30F24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448A-0FF1-4BED-B788-128E1D03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10A-4AEC-4128-BA83-B28606DC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403E-1D71-4C84-92F2-B5082420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B02-BAE7-4D57-8AD7-3494011F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9F4-19D0-441B-BAA5-7CE4BD31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4E1F-C734-4D00-B7C9-813C8BF00224}" type="datetime">
              <a:rPr b="1" lang="es-ES" sz="1400" spc="-1" strike="noStrike">
                <a:solidFill>
                  <a:srgbClr val="000000"/>
                </a:solidFill>
                <a:latin typeface="Industrial736 B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Industrial736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4AED-2A39-48C4-9D39-F24F311E9472}" type="slidenum">
              <a:rPr b="1" lang="en-US" sz="1400" spc="-1" strike="noStrike">
                <a:solidFill>
                  <a:srgbClr val="000000"/>
                </a:solidFill>
                <a:latin typeface="Industrial736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RECURSOS HUMANO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Gestión Pública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Profesor: Marcela Guzmán 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UCH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2007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UBSISTEMAS DE LA GRH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38080" y="1066680"/>
            <a:ext cx="7504200" cy="5046840"/>
            <a:chOff x="838080" y="1066680"/>
            <a:chExt cx="7504200" cy="5046840"/>
          </a:xfrm>
        </p:grpSpPr>
        <p:grpSp>
          <p:nvGrpSpPr>
            <p:cNvPr id="72" name=""/>
            <p:cNvGrpSpPr/>
            <p:nvPr/>
          </p:nvGrpSpPr>
          <p:grpSpPr>
            <a:xfrm>
              <a:off x="842400" y="1070640"/>
              <a:ext cx="7494840" cy="5037840"/>
              <a:chOff x="842400" y="1070640"/>
              <a:chExt cx="7494840" cy="503784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842400" y="1070640"/>
                <a:ext cx="7494840" cy="1055880"/>
                <a:chOff x="842400" y="1070640"/>
                <a:chExt cx="7494840" cy="1055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885240" y="1070640"/>
                  <a:ext cx="7408440" cy="105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NIFIC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42400" y="1070640"/>
                  <a:ext cx="7494840" cy="105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842400" y="2126520"/>
                <a:ext cx="2000520" cy="2601000"/>
                <a:chOff x="842400" y="2126520"/>
                <a:chExt cx="2000520" cy="26010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885240" y="2126520"/>
                  <a:ext cx="191412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ganización del trabaj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iseño de puest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finición de perfil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42400" y="2126520"/>
                  <a:ext cx="200052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842920" y="2126520"/>
                <a:ext cx="1756080" cy="2601000"/>
                <a:chOff x="2842920" y="2126520"/>
                <a:chExt cx="1756080" cy="26010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886120" y="2126520"/>
                  <a:ext cx="166932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emple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ncorpor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ovilida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svincul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842920" y="2126520"/>
                  <a:ext cx="175608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4599000" y="2126520"/>
                <a:ext cx="1675080" cy="2601000"/>
                <a:chOff x="4599000" y="2126520"/>
                <a:chExt cx="1675080" cy="26010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641840" y="2126520"/>
                  <a:ext cx="158868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lanific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Evalu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599000" y="2126520"/>
                  <a:ext cx="167508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274440" y="2126520"/>
                <a:ext cx="2062440" cy="1164600"/>
                <a:chOff x="6274440" y="2126520"/>
                <a:chExt cx="2062440" cy="11646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6317640" y="2126520"/>
                  <a:ext cx="1975680" cy="11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 la compens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tribución monet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tribución no monet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274440" y="2126520"/>
                  <a:ext cx="2062440" cy="11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274440" y="3291480"/>
                <a:ext cx="2062440" cy="1436040"/>
                <a:chOff x="6274440" y="3291480"/>
                <a:chExt cx="2062440" cy="14360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317640" y="3291480"/>
                  <a:ext cx="1975680" cy="14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desarroll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moción y carrer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pacit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prendizaje individual y colectiv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274440" y="3291480"/>
                  <a:ext cx="2062440" cy="143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842400" y="4727520"/>
                <a:ext cx="7494840" cy="1380960"/>
                <a:chOff x="842400" y="4727520"/>
                <a:chExt cx="7494840" cy="13809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885240" y="4727520"/>
                  <a:ext cx="7408440" cy="13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 las relaciones humanas y soc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lima laboral                                   Relaciones Laborales                       Políticas soc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42400" y="4727520"/>
                  <a:ext cx="7494840" cy="138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838080" y="1066680"/>
              <a:ext cx="7504200" cy="5046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752480" y="16765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05740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7339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41008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3915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39C-224B-4F5F-84E7-0DA2278B37C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C2A79-A819-412B-BF2C-9CAE10EBD0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LA FUNCION PU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Noción específica a la gestión de recursos humanos en el sector públ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osibles aproximacion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mpleo público en gener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arte del empleo público cuyas funciones están reguladas por normas de derecho público; ejercicio de potestades públicas. Relación con “núcleo estratégico” del estad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arte del empleo público regida por estatuto laboral propio, con relaciones laborales definidas por adscripción a una norma en lugar de contrat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CD1-938F-46A3-A8A2-24C7A28CAE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0FE7D-649B-4C1A-9BB0-3E06BA5AD2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LA FUNCION PU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 de articulación del empleo público mediante el cual determinados países garantizan existencia de administraciones públicas profesional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Administración profesional, independencia e imparcialidad en su funcionamiento; protección frente a padrinazgo y clientelismo polític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gulaciones específicas, articulad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D519-2F76-4946-90A5-5245B1B3F9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415E9-B7E6-4D5A-9D49-6AD024FD28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ORIGENES Y RAZON DE SER DE LOS SISTEMAS DE SERVICIO CIVI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Países desarrollados de Europa y Norteamérica, fines del siglo XVIII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Inclusión en declaración de derechos del hombre (1789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Industrial736 BT"/>
              </a:rPr>
              <a:t>Artículo 6.- La ley es la expresión de la voluntad general. Todos los ciudadanos tienen derecho a contribuir a su elaboración, personalmente o por medio de sus representantes. Debe ser la misma para todos, ya sea que proteja o que sancione. Como todos los ciudadanos son iguales ante ella, todos son igualmente admisibles en toda dignidad, cargo o empleo públicos, según sus capacidades y sin otra distinción que la de sus virtudes y sus talentos.</a:t>
            </a:r>
            <a:endParaRPr b="1" lang="en-US" sz="1600" spc="-1" strike="noStrike">
              <a:solidFill>
                <a:srgbClr val="000000"/>
              </a:solidFill>
              <a:latin typeface="Industrial736 BT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Creación del constitucionalismo moderno, asociado al orden liberal y el mercad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Industrial736 BT"/>
              </a:rPr>
              <a:t>Artículo 38.- Una ley orgánica constitucional determinará la organización básica de la Administración Pública, garantizará la carrera funcionaria y los principios de carácter técnico y profesional en que deba fundarse, y asegurará tanto la igualdad de oportunidades de ingreso a ella como la capacitación y el perfeccionamiento de sus integrantes.</a:t>
            </a:r>
            <a:r>
              <a:rPr b="1" lang="en-US" sz="16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Industrial736 BT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Institución clave de la seguridad jurídica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41B-D3A8-4F66-8906-B800955F408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3ADF0-DB13-4C49-A2E0-2779291B60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OMPONENTES DEL MARCO REGULATORIO DEL SERVICIO CIVI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s de acces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arrera profesi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rechos y deberes de los funcionari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dministración del Servicio Civi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9121-A73D-4092-A663-962D3BAA9C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83412-6888-4D2E-BD78-19F7C662CD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ISTEMAS DE ACCES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 francé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ursos masivos, selección por tribunal y ranking riguroso en función de exámen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scuelas de funcionarios (reclutamiento de alumnos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Modelo britán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clutamiento a través de órgano centralizado (Civil Service Commission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ursos abiertos, focalizados en características personal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CD8-D967-459A-B29A-67A5598E88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517ED-DD03-47E6-860D-BC54A34711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ISTEMA DE CARRER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s de empleo (position-based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Reclutamiento para un empleo o puest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ompetencia abiert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 de carrera propiamente tal (career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structuración por niveles ascendent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mpetencia intern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012A-B7BC-4766-8794-CA94CD76247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26449-E164-4E37-8BA9-EA29FEA1E4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DERECHOS Y DEBERE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recho al carg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rotección frente al despido arbitrario, favoritism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pido por razones disciplinari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pido por por causas organizativas o económic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Deber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ealtad a la nación e instituciones básic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serva sobre asuntos conocidos en atención al carg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ódigos de étic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Derechos colectiv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Negociación colectiv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Huelg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B93-2E0A-407C-BB91-F72B06CFB3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B1A44-AFD5-460E-8A85-EDA11C572D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ADMINISTRACION DEL SISTEM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s centralizados: Francia Japón, España, Gran Bretañ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s descentralizados: Estados Unidos, Suecia, Holanda, Australi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947E-685E-4F3D-9467-03AAFC8B35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E5915-6D2F-4ADC-A711-757369C4B4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PROBLEMAS DEL MODELO DE SERVICIO CIVIL Y REFORMAS RECIENTE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spectos estructural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onfrontación entre políticos y burócrat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Rigideces internas inevitabl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ontexto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risis fisc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Expansión cualitativa y cuantitativa de demanda por servicios públic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oco de reformas: flexibilidad para mejorar eficencia y capacidad de respuesta frente a ciudadaní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A14E-7EAF-4A9D-BA54-7C838F5929E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AC5CB-97AC-4E1B-A6EB-5AAC7935C8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RECURSOS HUMANOS EN EL SECTOR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tivacion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l personal como componente del gasto públ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os funcionarios como grupo de interés y fuente de conflict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a gestión de recursos humanos como sistema integrante de la gest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l servicio civil como base fundamental de la func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as personas como recurso organizaci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D78F-1DAE-482A-B4B6-98255C6FEC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C4F5D-27FA-449B-9A30-3A598181C3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EMENTOS COMUNES A REFORMA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vilidad, capacidad de redespliegue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scentralización de decisiones claves en gestión de RRHH (reclutamiento, promoción, remuneración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mpliación de discrecionalidad de directiv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edición y retribución del desempeñ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lexibilización de formas contractual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ortalecimiento de control político y rendición de cuenta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5BF-A258-4469-A2F3-AECB0D88B81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0133A-516D-4605-9621-15BE78EEF8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EL EMPLEO PUBLICO EN AMERICA LATIN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556000" y="2276640"/>
            <a:ext cx="4105080" cy="3816360"/>
            <a:chOff x="2556000" y="2276640"/>
            <a:chExt cx="4105080" cy="3816360"/>
          </a:xfrm>
        </p:grpSpPr>
        <p:sp>
          <p:nvSpPr>
            <p:cNvPr id="131" name="Pyr1"/>
            <p:cNvSpPr/>
            <p:nvPr/>
          </p:nvSpPr>
          <p:spPr>
            <a:xfrm>
              <a:off x="4153320" y="2276640"/>
              <a:ext cx="920160" cy="845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DIRECTIV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Pyr2"/>
            <p:cNvSpPr/>
            <p:nvPr/>
          </p:nvSpPr>
          <p:spPr>
            <a:xfrm>
              <a:off x="3620520" y="3122280"/>
              <a:ext cx="1980720" cy="9921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PROFESION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Pyr3"/>
            <p:cNvSpPr/>
            <p:nvPr/>
          </p:nvSpPr>
          <p:spPr>
            <a:xfrm>
              <a:off x="3093480" y="4114800"/>
              <a:ext cx="3034440" cy="9910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TECN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Pyr4"/>
            <p:cNvSpPr/>
            <p:nvPr/>
          </p:nvSpPr>
          <p:spPr>
            <a:xfrm>
              <a:off x="2556000" y="5100840"/>
              <a:ext cx="4105080" cy="9921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DMINISTRATIV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 rot="10800000">
            <a:off x="2050560" y="2205000"/>
            <a:ext cx="358920" cy="1224000"/>
          </a:xfrm>
          <a:custGeom>
            <a:avLst/>
            <a:gdLst>
              <a:gd name="textAreaLeft" fmla="*/ 0 w 358920"/>
              <a:gd name="textAreaRight" fmla="*/ 129600 w 358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2050560" y="3500280"/>
            <a:ext cx="358920" cy="2592720"/>
          </a:xfrm>
          <a:custGeom>
            <a:avLst/>
            <a:gdLst>
              <a:gd name="textAreaLeft" fmla="*/ 0 w 358920"/>
              <a:gd name="textAreaRight" fmla="*/ 129600 w 358920"/>
              <a:gd name="textAreaTop" fmla="*/ 67320 h 2592720"/>
              <a:gd name="textAreaBottom" fmla="*/ 2525400 h 259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2997360"/>
            <a:ext cx="360360" cy="3095640"/>
          </a:xfrm>
          <a:custGeom>
            <a:avLst/>
            <a:gdLst>
              <a:gd name="textAreaLeft" fmla="*/ 0 w 360360"/>
              <a:gd name="textAreaRight" fmla="*/ 12996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77080" y="2133720"/>
            <a:ext cx="360360" cy="720720"/>
          </a:xfrm>
          <a:custGeom>
            <a:avLst/>
            <a:gdLst>
              <a:gd name="textAreaLeft" fmla="*/ 0 w 360360"/>
              <a:gd name="textAreaRight" fmla="*/ 129960 w 360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85264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SERVICIO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5013360"/>
            <a:ext cx="9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CONTRATOCOM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80360" y="242100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CONFIANZA POLI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436572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PLA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77336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SISTEMAS DE SERVICIO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1700280"/>
            <a:ext cx="10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MERICA LA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4D53-C6B9-4F40-ADA5-9EFC1206119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07F4A-3743-4B8A-B4FA-BFAC3C3BA8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as personas como principal recurso de una organización para lograr sus fin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a eficiencia de las organizaciones está principalmente determinada por el desempeño de su pers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l personal como determinante fundamental de los costos, relación con economía, eficienci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estión de personal como herramienta al servicio de la eficacia organizativ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E7B8-7880-4E5A-8893-524C4B4721D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EEB5C-3855-4B75-8B52-14195E2F60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Longo: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GRH como sistema integrado de gestión, cuya finalidad básica o razón de ser es la adecuación de las personas a la estrategia de una organización para la producción de resultados acordes con las finalidades perseguidas.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3657600"/>
            <a:ext cx="144792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GESTIO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886200"/>
            <a:ext cx="990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3962520"/>
            <a:ext cx="990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X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28954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5105520"/>
            <a:ext cx="1676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PERSO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58672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5909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34120" y="4267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54097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40972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BCA-1855-40E2-BB2C-E1E9DDBA486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27F04-A952-4D1D-9FF7-62EC8E5836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nfoque de gestión de recursos humanos (GRH)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ficacia de la organización como objetiv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otencial humano como base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epción estratégica: proactiva, personas como activos potenciales que deben ser aprovechados para el logro de objetivos de la organiz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Visión integrada: estructura, cultura organizativa, competencias. En foque en motivación de empleados, reconociendo sus interes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GRH como función directiv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A4F-7DAC-4A18-B8F7-7EB869487BF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BFD4B-9377-45B8-B1F8-80E20A0E56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RH busca aplicar recursos humanos al logro de los fines de la organizació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ara ello se requiere actuar sobre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as competencias del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a motivación del personal para aplicar sus competencias a los fines de la organiz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239C-B8A8-41A4-8A28-6F93351A330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3E575-32E7-4E57-84DF-636CD03E77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520" y="14126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onductas laborales necesarias para hacer un trabajo efectivo (Woodruffe, 1993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apacidad real del individuo para dominar el conjunto de tareas que configuran la función en concreto (Reis, 1994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Todo atributo personal relacionado al trabajo, conocimiento, experiencia, habilidades y valores que llevan a una persona a desempeñarse bien en su trabajo (Roberts, 1997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Repertorios de comportamientos observables que algunas personas dominan mejor que otras y que los hacen eficaces en una situación determinada (Levy-Leboyer, 1997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apacidad real para lograr un objetivo o resultado en un contexto dado (Mertens, 1996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MPETENCIA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02A-DD32-44B5-B61A-E86F6391E87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01282-545D-4D9D-A341-F88340C183F7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17704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Industrial736 BT"/>
              </a:rPr>
              <a:t>Una COMPETENCIA es una Característica Subyacente de un individuo que está Relacionada Causalmente a un Criterio de Referencia de Desempeño Superior en un trabajo o situación (Spencer &amp; Spencer, 1993).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1" name=""/>
          <p:cNvSpPr/>
          <p:nvPr/>
        </p:nvSpPr>
        <p:spPr>
          <a:xfrm>
            <a:off x="6837840" y="3581280"/>
            <a:ext cx="1653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Resultado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03680" y="4141800"/>
            <a:ext cx="2417040" cy="831600"/>
            <a:chOff x="6403680" y="4141800"/>
            <a:chExt cx="2417040" cy="831600"/>
          </a:xfrm>
        </p:grpSpPr>
        <p:sp>
          <p:nvSpPr>
            <p:cNvPr id="173" name=""/>
            <p:cNvSpPr/>
            <p:nvPr/>
          </p:nvSpPr>
          <p:spPr>
            <a:xfrm>
              <a:off x="6435720" y="4141800"/>
              <a:ext cx="229392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10320" y="4200480"/>
              <a:ext cx="1964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Rendimiento 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03680" y="4511520"/>
              <a:ext cx="241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l puesto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612080" y="3581280"/>
            <a:ext cx="155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Intenció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371600" y="4141800"/>
            <a:ext cx="2046240" cy="831600"/>
            <a:chOff x="1371600" y="4141800"/>
            <a:chExt cx="2046240" cy="831600"/>
          </a:xfrm>
        </p:grpSpPr>
        <p:sp>
          <p:nvSpPr>
            <p:cNvPr id="178" name=""/>
            <p:cNvSpPr/>
            <p:nvPr/>
          </p:nvSpPr>
          <p:spPr>
            <a:xfrm>
              <a:off x="1371600" y="4141800"/>
              <a:ext cx="196560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65560" y="4221000"/>
              <a:ext cx="1952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aracterístic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90120" y="4573440"/>
              <a:ext cx="1456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erson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530360" y="5073480"/>
            <a:ext cx="100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Mo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31440" y="5405400"/>
            <a:ext cx="96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Ra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30000" y="5734080"/>
            <a:ext cx="1894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Autoconce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39800" y="3581280"/>
            <a:ext cx="1271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Acció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95560" y="4121280"/>
            <a:ext cx="1965240" cy="831600"/>
            <a:chOff x="3895560" y="4121280"/>
            <a:chExt cx="1965240" cy="831600"/>
          </a:xfrm>
        </p:grpSpPr>
        <p:sp>
          <p:nvSpPr>
            <p:cNvPr id="186" name=""/>
            <p:cNvSpPr/>
            <p:nvPr/>
          </p:nvSpPr>
          <p:spPr>
            <a:xfrm>
              <a:off x="3895560" y="4121280"/>
              <a:ext cx="196524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37920" y="434484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onduc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07000" y="5451480"/>
            <a:ext cx="187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Cono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5920" y="5073480"/>
            <a:ext cx="1245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Dest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84720" y="4344840"/>
            <a:ext cx="495000" cy="347760"/>
          </a:xfrm>
          <a:prstGeom prst="rightArrow">
            <a:avLst>
              <a:gd name="adj1" fmla="val 50000"/>
              <a:gd name="adj2" fmla="val 7117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99320" y="4370400"/>
            <a:ext cx="495000" cy="347760"/>
          </a:xfrm>
          <a:prstGeom prst="rightArrow">
            <a:avLst>
              <a:gd name="adj1" fmla="val 50000"/>
              <a:gd name="adj2" fmla="val 7117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MPETENCIAS: CONCEPTO CONDUCTU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39E7-11D4-4757-A87E-4E3BFB37CE8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8FDEC-C5F1-49F1-B2C8-BFDC66B396B0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MOTIVACION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Interés individual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Ingreso monetari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alización personal/profesi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restigi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Seguridad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oder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Intereses general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ealtad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Identificación con una mis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ogro de met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A2D-7105-4A1C-A8A5-77946CC5526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36E30-ED8B-4E8E-898B-016BBD62A6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NTEXTO DE GRH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RH no opera en el vacío, la condicionan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Factores intern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Estructura organizaciona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Cultura instituciona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Factores extern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Marco jurídic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Mercado del trabaj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1797-BFB3-47C0-8D69-BA6881AA71B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9A254-AE9D-4733-B342-A3C6F519A9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971800" y="1886040"/>
          <a:ext cx="3639960" cy="4286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886040"/>
                    <a:ext cx="363996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694-002B-4D1A-BFD0-BDF4754079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E756F-1B12-49DE-AA6C-2674DE5963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1752480"/>
          <a:ext cx="4800600" cy="4400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752480"/>
                    <a:ext cx="48006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0BA-D631-46A9-9113-EDFC786A10E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CA18D-AC5C-40E0-8D98-8623C3E9AD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Chile: Personal Civil del Gobierno Cent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Según Dependencia (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2133720"/>
          <a:ext cx="7848360" cy="4064040"/>
        </p:xfrm>
        <a:graphic>
          <a:graphicData uri="http://schemas.openxmlformats.org/drawingml/2006/table">
            <a:tbl>
              <a:tblPr/>
              <a:tblGrid>
                <a:gridCol w="5638680"/>
                <a:gridCol w="220968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ministración Cent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58.2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ntraloría General de la Repúb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.4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Poder Jud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7.9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ngreso N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8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Ministerio Públ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3.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otal Sector Públ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72.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40F6-2F1D-477B-9E0C-2EDE9D57899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BAB78-F565-4C07-814C-C329A10519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Chile: Personal Civil del Gobierno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Según Estamento (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2133720"/>
          <a:ext cx="7848360" cy="4064040"/>
        </p:xfrm>
        <a:graphic>
          <a:graphicData uri="http://schemas.openxmlformats.org/drawingml/2006/table">
            <a:tbl>
              <a:tblPr/>
              <a:tblGrid>
                <a:gridCol w="5638680"/>
                <a:gridCol w="220968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Directivos Profes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6.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Directivos no Profes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.6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Profes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59.4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écn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47.5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ministrativos y Auxilia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56.4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otal Sector Públ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72.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C74C-2992-466E-B64E-362F213EF5C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2229B-56A7-488C-AD7B-DA3D8461A3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l personal del sector público en procesos de ajuste fiscal 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xposición y vulnerabilidad de gastos en pers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ecanismos de ajuste: despidos masivos, incentivos al retiro, no reemplazo, reubicació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onsecuencias sobre gestión pública: adaptación a necesidades, tensiones, fragilidad, etc 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7A1-1B7F-469C-BB84-34D7A03BF3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20B63-33FC-4D9F-8E2B-82494B2538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LOS FUNCIONARIOS PUBLICOS COMO GRUPO DE INTERES Y FUENTE DE CONFLICT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Realidades cotidianas: conflictos, presiones, organizacion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os empleados públicos como grupo de interé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 agente-princip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s de captura del estad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n todos estos caso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conocimiento de intereses particulares, específic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terminantes de eficacia organizacional y del rol del sector público como promotor del interés gener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500-3911-4063-B859-2E4E556BAD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15F1C-454C-4900-835D-FE31FB4810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LA GESTIÓN DE RECURSOS HUMANOS COMO SISTEMA INTEGRANTE DE LA GESTIÓN PÚ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Visión tradicional: administración de personal como un conjunto de operaciones especializada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Obten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finición de funcion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valu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tribu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gulación de derech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vincul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E7B-E60F-4CAA-9027-D85BBBB72D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A8437-8662-4451-87FD-41053847C6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3:21:32Z</dcterms:created>
  <dc:creator>mmc</dc:creator>
  <dc:description/>
  <dc:language>en-US</dc:language>
  <cp:lastModifiedBy>USUARIO</cp:lastModifiedBy>
  <dcterms:modified xsi:type="dcterms:W3CDTF">2007-11-09T19:51:27Z</dcterms:modified>
  <cp:revision>12</cp:revision>
  <dc:subject/>
  <dc:title>RECURSOS HUMANOS</dc:title>
</cp:coreProperties>
</file>