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4FC-8E79-430F-8162-9C9CF1F9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A4B-3EC6-4C6A-8C30-112152FC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C22-38A6-42FD-AC4A-8E464262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CA6-02EF-40DC-B7A1-203C3734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95B-6B81-47E1-B29B-F71F811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9F6-7AE6-4369-80D6-13B354DB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422-A85A-4DA2-968B-75ED9447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B28-B1FF-4928-8C1B-83DA9F4B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950-831C-475A-82B1-37347833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0BF-441E-4007-B01E-2A203AC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E3B-E59A-4672-B63A-449EBEF2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291-3572-418A-BC0F-8457606C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2D8-98B8-4F12-9DCC-452A872F8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4479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DE INCEN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ERIENCIA CHI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viembr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029200"/>
            <a:ext cx="35812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66"/>
                </a:solidFill>
                <a:latin typeface="Times New Roman"/>
              </a:rPr>
              <a:t>Marcela Guzm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04812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politei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INCENTIVOS POR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66688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colectivo o por unidad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PRINCIPALES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umplimiento de objetivos de gestión se asocia a un incentivo de carácter monetario para los funcionarios de los  servicios públ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porcentaje  de incentivos se otorga según los siguientes tramos de cumplimiento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3733920"/>
          <a:ext cx="5943240" cy="2743200"/>
        </p:xfrm>
        <a:graphic>
          <a:graphicData uri="http://schemas.openxmlformats.org/drawingml/2006/table">
            <a:tbl>
              <a:tblPr/>
              <a:tblGrid>
                <a:gridCol w="2779920"/>
                <a:gridCol w="31633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 Objetivos de Gest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 -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 -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371600" y="6521400"/>
            <a:ext cx="594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 178 Servicios Públ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8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ENTIVO INSTITUCIONAL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GRAMA DE MEJORAMIENTO DE LA GESTIÓN (P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STRUCTURA DEL PROGRAMA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523880"/>
            <a:ext cx="18288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3623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276720"/>
            <a:ext cx="3047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s de Gestión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tap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2179440" y="2163240"/>
            <a:ext cx="5943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2931120" y="3164400"/>
            <a:ext cx="678600" cy="44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952880" y="4572000"/>
            <a:ext cx="3353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quisi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495680"/>
            <a:ext cx="449568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de Expertos (instituciones públic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4610880" y="4304160"/>
            <a:ext cx="534240" cy="2160"/>
          </a:xfrm>
          <a:prstGeom prst="bentConnector4">
            <a:avLst>
              <a:gd name="adj1" fmla="val 21375"/>
              <a:gd name="adj2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MARCO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COS O ÁREAS DE MEJOR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3352320"/>
            <a:ext cx="3789360" cy="17146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lidad de Atención de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nificación y Control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minist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foque de 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3976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junto de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áre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 mejoramiento de la gestión,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comunes para todas las</a:t>
            </a: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institucion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área del Programa Marco está conformada por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, establecidos por el marco de política en el ámbito de la modernización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sistema se desarrolla en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etap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a la que se le ha definido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requisitos técnico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90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89880" y="2133720"/>
            <a:ext cx="18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grama M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057400"/>
            <a:ext cx="4038480" cy="426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733920"/>
            <a:ext cx="6858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514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GRAMA DE MEJORAMIENTO DE LA GESTIÓN (P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en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5 áreas y 11 sistem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gestión co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4 ó 6 etap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desarrollo cuya acreditación o evaluación se realiza a través de una red de expertos, que corresponden a organismos  especializados al interior del ejecu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Avan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orpora los objetivos del Programa Marco Básico y las exigencias de la Norma ISO 9001:2000, éstas últimas en orden a certificar cada uno de los sistemas del PMG. (organismos especializados en Norma ISO, externos al ejec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DE MEJORAMIENTO DE LA GESTION Y NORMA 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 es la norma ISO 9001-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International Standard Organiz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norma internacional que especifica requisitos técnicos mínimos que debe cumplir un sistema de gestión  de calidad para ser certific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e una serie de cláusulas. Cada una de las cuales establece los requisitos para diferentes áreas de un sistema de gestión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norma ISO es un proceso mediante el cual organismos externos certificadores, acreditados por ISO,  realizan una evaluación de los procesos de una institución o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 se efectúa según estándar mínimos declarado en un manual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nual es un conjunto de procedimientos que describen los procesos de la organización  y el alcance de los mis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ceptada por innumerables organizaciones y empresas  nacionales extranjera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-1689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Arial"/>
              </a:rPr>
              <a:t>II. FORMULACIÓN P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772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PROGRAMA MARCO  AVANZADO 2007</a:t>
            </a:r>
            <a:r>
              <a:rPr b="1" lang="es-CL" sz="24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447920"/>
          <a:ext cx="628632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286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Logo%20Politeia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0968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ultur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feccionamiento continu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; procedimientos, metodologías, resultado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dentificar las limitaciones de los instrumentos de evaluación del desempeño para un adecuado uso de la inform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erg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tenciar los elementos conceptuales y operativos comun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907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PRINCIPALES  APRENDIZAJ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9:30:30Z</dcterms:created>
  <dc:creator>USUARIO</dc:creator>
  <dc:description/>
  <dc:language>en-US</dc:language>
  <cp:lastModifiedBy>USUARIO</cp:lastModifiedBy>
  <dcterms:modified xsi:type="dcterms:W3CDTF">2007-11-09T19:47:18Z</dcterms:modified>
  <cp:revision>58</cp:revision>
  <dc:subject/>
  <dc:title>Presentación de PowerPoint</dc:title>
</cp:coreProperties>
</file>