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923A-6502-4DC6-A93F-6E8F902E2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AC62-CB7A-4B18-8816-1A0F69DD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72BB-E24E-4468-87A1-B3A10A214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E41A-5F25-43F0-914C-ED2863D31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30D7-CEA5-47BA-877E-F0AED5280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2104-B043-4A2B-9A85-D1C797E4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7C15-0AB2-4717-A6C8-B81B2B32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1C65-1F74-465E-80BA-2D02D611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C7A2-7396-4328-A929-DD6A8BE6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2747-0E36-465F-B386-F6D7E080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C937-00DF-4AB6-B0FD-C6D89A58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484A-59E5-44AA-A7A9-010FD0CE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DE99-8867-46F7-A4D0-A02E5438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6C67-CB5A-427D-BBCC-BA40ECEA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C438-3729-4266-B972-5AB06B9D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9DFD-D166-41FB-B173-C4D97EA05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EC96-95A5-4961-B7D2-F3E8E0BFF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3DC5-1B28-4382-A741-35296C05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EBBD-7FDD-4503-983B-D97850A0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59F2-83E5-461A-9852-41A2512F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A3AF-2FC0-4E64-9AB6-E589AEC4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4096-B52B-415F-8D77-561F1E6E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2EFD-289F-4835-A348-849AE198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6991-0BD3-4434-A06C-14414669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D580-F820-468F-9BDF-578A1AC52FB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E642-F998-40BD-AAA1-4985B9454A3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Times New Roman"/>
              </a:rPr>
              <a:t>Cost Estimation Handboo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79200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te libro  relativo a la minería presenta fórmulas para estimar costos de explotación,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sto 1/Costo 2 = (capacidad 1/capacidad 2)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0.6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ta formula fue desarrollada por Mular en 197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Times New Roman"/>
              </a:rPr>
              <a:t>En gener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79200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: Factor de esca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osto 1/Costo 2 = (capacidad 1/capacidad 2) </a:t>
            </a:r>
            <a:r>
              <a:rPr b="0" lang="el-GR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Remer y Chai (1990) indica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em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l-G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Transportador de rodillo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levador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ompresor de aire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Secador de aire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Grúa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alderas de vapor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otores eléctrico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Times New Roman"/>
              </a:rPr>
              <a:t>En gener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79200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: Factor de esca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sto 1/Costo 2 = (capacidad 1/capacidad 2) </a:t>
            </a:r>
            <a:r>
              <a:rPr b="0" lang="el-GR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tras fuent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or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inería, agricultu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0,5 – 0,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ecnologías de Inform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comunicacion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0,61 – 0,6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ormativas y segur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0,55 – 0,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23:25:30Z</dcterms:created>
  <dc:creator>Werner Pieber</dc:creator>
  <dc:description/>
  <dc:language>en-US</dc:language>
  <cp:lastModifiedBy>Eduardo Contreras</cp:lastModifiedBy>
  <dcterms:modified xsi:type="dcterms:W3CDTF">2005-08-24T13:38:15Z</dcterms:modified>
  <cp:revision>13</cp:revision>
  <dc:subject/>
  <dc:title>Rediseño Proceso de Negocios  SERMET S.A. www.sermet.cl  </dc:title>
</cp:coreProperties>
</file>