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96DE-0FFC-4AF0-A09C-30F9F9B4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DA9F-EF19-4955-A782-354F8EC0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D996-7E36-4A28-A6BC-AD545EAA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F89-23DD-40E6-8809-5F2AAA35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6B60-4A2F-4F3C-B0A2-CC850385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7387-B57C-4153-9D17-ED2B29BB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A52B-8B6D-454B-81CD-ECDD44C8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D529-78A3-4FDF-8AF2-A427B76A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6087-ADFC-4B3C-9150-F76B4FDD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1AD2-0FE7-4412-85AA-9FAE36D5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7119-EAC1-41FA-9D7B-44A17DEE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FC11-74A2-4830-8949-2CD35785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8E35-22A7-43C6-838B-DFB0E136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5FFA-5D30-4518-A82C-772B05FF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DC0D-C184-4B94-9DB2-808FAB65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11D0-E089-47D9-A9F9-A52C2FF2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9167-2CB4-4EDE-92C8-F62B484C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2A1C-B6C9-42A0-8F1F-22C97038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1F55-85A7-45F5-A8E5-30946DC1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04E4-BC7C-4D38-8873-51CB6F82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75BD-CFBD-4C67-B722-DC0798B3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D63C-54D8-4053-825F-4063E1A0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26FD-5EDE-4DB3-8C8D-CBA542B7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2568-A8EA-4064-A700-276319CC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5278-819F-49F8-B439-4C315B4A9B9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D8CC-5A1E-4DC3-9021-DD862E92FBF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Times New Roman"/>
              </a:rPr>
              <a:t>Cost Estimation Handboo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79200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e libro  relativo a la minería presenta fórmulas para estimar costos de explotación,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sto 1/Costo 2 = (capacidad 1/capacidad 2)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0.6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a formula fue desarrollada por Mular en 197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Times New Roman"/>
              </a:rPr>
              <a:t>En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79200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: Factor de esca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sto 1/Costo 2 = (capacidad 1/capacidad 2) </a:t>
            </a:r>
            <a:r>
              <a:rPr b="0" lang="el-GR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Remer y Chai (1990) indica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em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l-G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Transportador de rodill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levado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mpresor de aire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ecador de aire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Grúa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alderas de vapo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otores eléctrico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0,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Times New Roman"/>
              </a:rPr>
              <a:t>En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79200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: Factor de esca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sto 1/Costo 2 = (capacidad 1/capacidad 2) </a:t>
            </a:r>
            <a:r>
              <a:rPr b="0" lang="el-GR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as fuent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or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inería, agricultu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0,5 – 0,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ecnologías de Inform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comunicacion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0,61 – 0,6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rmativas y segur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0,55 – 0,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23:25:30Z</dcterms:created>
  <dc:creator>Werner Pieber</dc:creator>
  <dc:description/>
  <dc:language>en-US</dc:language>
  <cp:lastModifiedBy>Eduardo Contreras</cp:lastModifiedBy>
  <dcterms:modified xsi:type="dcterms:W3CDTF">2005-08-24T13:38:15Z</dcterms:modified>
  <cp:revision>13</cp:revision>
  <dc:subject/>
  <dc:title>Rediseño Proceso de Negocios  SERMET S.A. www.sermet.cl  </dc:title>
</cp:coreProperties>
</file>