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6077-9BCD-426A-A245-743F4FF35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A32F-62A3-40D4-B4CC-C15F2021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2539-BF68-4215-A17C-7D4741150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2E9A-DA4D-4C1D-AA92-A264C4751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88F3-1AE3-41AD-A065-529EFB051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9ACD-C705-4225-9A4F-1EB19FDF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69C3-8D75-40AD-A449-CE3B972E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F8E5-79F8-4681-AB28-D0952EAF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67D2-2538-4A4D-95B5-9765B2AE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6E1C-872A-40E1-8322-765E9E0C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CD3D-0D27-484B-B526-3E1CFCAE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B188-9291-42C8-B722-F72F54DA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3038-E7B3-486B-9596-0B4C7B45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92A6-9F68-4ED5-91D3-47AF5EE6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A1A6-00EF-42D1-8B4C-F8710562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D0CF-1BB6-4884-B988-E60EA4001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65A6-0894-4B9B-95DB-409CE98B1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91ED-29B3-4DB2-AA41-81F9E15C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B82B-82CA-44D0-AC68-DA4ED406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73D4-58D3-41F5-82BB-4D33A8AB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B69F-4F38-4446-97B6-7B45CBAD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E2D3-9E52-4A8B-9D3A-D2A40B50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86D6-26E2-4DB0-A21D-F2C5C04F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8A17-5D96-4927-BDAE-24CF6809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88BC-4E19-4FC4-9267-C0C8CD0BABC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03FE-9A79-4511-92D2-1C97B840B09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Times New Roman"/>
              </a:rPr>
              <a:t>Cost Estimation Handboo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792000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te libro  relativo a la minería presenta fórmulas para estimar costos de explotación,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sto 1/Costo 2 = (capacidad 1/capacidad 2)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0.6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ta formula fue desarrollada por Mular en 197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Times New Roman"/>
              </a:rPr>
              <a:t>En gener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792000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: Factor de esca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osto 1/Costo 2 = (capacidad 1/capacidad 2) </a:t>
            </a:r>
            <a:r>
              <a:rPr b="0" lang="el-GR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Remer y Chai (1990) indica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em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l-G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Transportador de rodillo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levador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ompresor de aire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Secador de aire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Grúa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alderas de vapor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otores eléctrico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Times New Roman"/>
              </a:rPr>
              <a:t>En gener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792000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: Factor de esca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sto 1/Costo 2 = (capacidad 1/capacidad 2) </a:t>
            </a:r>
            <a:r>
              <a:rPr b="0" lang="el-GR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tras fuent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or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inería, agricultu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0,5 – 0,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ecnologías de Inform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comunicacion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0,61 – 0,6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ormativas y segur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0,55 – 0,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23:25:30Z</dcterms:created>
  <dc:creator>Werner Pieber</dc:creator>
  <dc:description/>
  <dc:language>en-US</dc:language>
  <cp:lastModifiedBy>Eduardo Contreras</cp:lastModifiedBy>
  <dcterms:modified xsi:type="dcterms:W3CDTF">2005-08-24T13:38:15Z</dcterms:modified>
  <cp:revision>13</cp:revision>
  <dc:subject/>
  <dc:title>Rediseño Proceso de Negocios  SERMET S.A. www.sermet.cl  </dc:title>
</cp:coreProperties>
</file>