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40396-E754-417D-BB81-14252571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9C124-4D4F-4D9A-94C2-27829293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D0568-BA95-434D-9272-C48802DF0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3611C-AC0C-4BA4-B09B-5E097AA58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11B4-4467-4D46-8D0E-AA6426C88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C75DD-8DD1-4067-AC66-10E5A9D7A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9E9AB-A14E-410A-B7F5-43B8A1CD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A2AF7-1ABD-4443-BAA2-3A12DC7AA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D9C2D-D1F5-4E63-B642-EC2430AFD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7F758-9488-4DA0-8082-B8CE3A8AE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2B0A6-35FE-48B2-A1D6-096F45B94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5DED4-0F56-4BA7-890A-D91A7DC30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C33F8-7B56-4B9A-8C7A-C613CB10C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097DC-7DFD-4399-8EB5-40117903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6E71A-6C25-4544-82BF-07DB42104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B7406-9E26-4CE6-8CE8-436B6E754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384CE-9E07-4CC9-B597-CE5F47057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6C98-6D67-41D0-BE55-E39FBD8C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A52E2-1AE8-4D8B-9002-86B117C45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D9F2-8DF8-42D9-9197-1DEB91F2C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EB149-0948-4EB5-BFC7-0FAF1C1C3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7A45-08DF-4EBC-B28F-3FD55E280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AFC1-55CF-43B4-85C8-63B1C74FC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DE18-36DB-4269-AA63-8506AB740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6422-D47C-4AA9-A675-5E56ED7661E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5D55-80CD-4237-8C69-E12314DDBBC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6.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6-11-16T19:26:02Z</dcterms:modified>
  <cp:revision>159</cp:revision>
  <dc:subject/>
  <dc:title>Evaluación de Proyectos</dc:title>
</cp:coreProperties>
</file>