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EC214-CE63-4036-8ADC-CC21D526D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2803F-1552-448D-A419-DB5E56964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F32E8-7F52-4127-8BE7-2478FC410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55D88-C6AD-440B-8661-F43F7573E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33448-FC35-4B10-9B58-128B53C64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56D3B-5084-44A3-BAA5-56394C1DD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9BB0F-6340-4C26-A76D-DA375F63C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52684-22C4-4090-B59E-57A959F69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3BB11-35E6-489A-A697-41AA7D843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71DFA-C106-44F7-92CA-A5AE3E984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9FFAC-B778-438C-B8B9-0F0D2EF68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7E573-A1C6-4464-83B4-F3349774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6A6D9-050D-4757-A846-0EDFA63E1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54738-D0BB-48AD-BF30-94C68D31A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25291-AEAF-46B6-A442-0A2B43386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0C8F3-4076-4364-8E3B-88621CDAE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72FAE-4954-4897-99D8-F0400994B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DCFA9-A725-42E6-BEEF-33F75A48D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DD9C5-AFCA-4584-991F-106FB7D39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8F902-E67B-4DAC-A004-38504C89F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5715F-6F8B-49C5-9616-88CD38A17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982D5-2EA1-4431-BB4C-240C12731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F73F3-A467-46AE-9792-8444475BE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D530-F341-48D3-86BA-4BC4EC285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C88A-01D4-428E-9FB4-74D675C691E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E326-5568-4C2E-98F5-ED22A095A9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6.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6-11-16T19:26:02Z</dcterms:modified>
  <cp:revision>159</cp:revision>
  <dc:subject/>
  <dc:title>Evaluación de Proyectos</dc:title>
</cp:coreProperties>
</file>