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F10AA-5288-48FF-A0A4-80ECCBC0C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BFDBA-356E-43F4-BA55-F2DFC9487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946BB-82F5-4A52-86CF-8CDFC7F9F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F5224-6D04-4690-A703-90B448163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82A57-3CDD-446C-9EA7-3EE0BB03A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63618-EF13-4FC6-B800-E761C1FD6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4ECE0-6B29-41D3-B7D1-6888DB2D1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961A8-6404-4112-876D-668C0FAB0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FCCB1-C1EF-452B-A546-1BF8547B3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D37FE-29F7-476C-8F87-CAB1CE8A2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E358A-A4CB-4A38-9FAA-E9543A81B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684BC-3487-4A98-AECF-566A9B757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CB1D9-E174-42B3-8E9E-4733BA41A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71FCE-07D3-40AF-9773-BAEBBF6CB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7DB7A-0F8C-4E74-906F-9590AF106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9B8CD-02EE-4314-B2AC-921C2B68E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93ABC-081D-48FE-B5E9-1290C1882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345D0-FC7A-4754-B07A-579D186D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C6BD0-FF16-4D47-8EE4-4FDABAE21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4D5FE-2CD8-4D3C-9C2F-B9260367D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AB8F4-783C-4BDC-B2D7-51EBD4E34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C5555-D912-4B81-A652-072EDFB80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5441-415B-450E-A03D-33673CB25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A494E-1DC0-4E22-AD05-2C339480E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FFD5-2D95-40ED-91AF-D7F82E58E61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5EA1-693E-4F8C-BEAE-7D371A326D8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6.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6-11-16T19:26:02Z</dcterms:modified>
  <cp:revision>159</cp:revision>
  <dc:subject/>
  <dc:title>Evaluación de Proyectos</dc:title>
</cp:coreProperties>
</file>