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AE1E0-84B8-4360-A417-04859E8BD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D61A-2D7D-499F-8286-57E9307A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07F2-C938-4AAA-9BDD-EEFEB30A6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4CC5C-4A49-4C25-8165-6ECDF7822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0A1F9-B341-49E9-B05B-B2F7BFAD2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A731F-03C2-4E61-811D-C99EFEB59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8F85B-BB6F-4EA3-8C9F-F7BEA68CB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38905-E830-4F0B-9CAC-24FA5EFC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BA6E7-5288-418B-AF7F-AB392FEC0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06E9B-9368-42BF-B0CF-5F7A4118C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FBCA0-E36C-47D7-91D2-D67E3454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524A-2FD9-4B45-8CE6-004C79A90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ADEA-5CA6-4154-B3D4-CD9D0502D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F9353-D6DB-42FA-9EBD-131013F40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735B6-1E10-4D57-B0FC-F7FD2CC8C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FFBD1-7C9C-416D-824A-151677C8B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C2488-19BD-44A3-86F3-32D78744F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D87F-7C42-443C-9A41-32E835E67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DF5EA-3EBB-42DA-A2FD-EAF3CA266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83D9-7549-4429-B694-1D5DA93B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4446C-DC55-4E7D-914A-1C420960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9857-C950-4D0A-929F-0E38C46A0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C9E4E-F2B2-492F-B49D-4F53724E3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F442-539A-4DAE-B1CD-08357BC63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43BC-C087-44CE-8E59-11911465514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2E0B-6CCC-49D3-B8B0-E8D53D6EA30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6.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6-11-16T19:26:02Z</dcterms:modified>
  <cp:revision>159</cp:revision>
  <dc:subject/>
  <dc:title>Evaluación de Proyectos</dc:title>
</cp:coreProperties>
</file>