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DIAP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24D9-9893-477C-A8D0-3712B7DBA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B6F9-E8D4-4BEA-B1A6-3661292BC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CC0E-BA56-4AC7-B23E-D3C9E6A36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B58F-4D35-4F14-917F-1665D3DA3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B546-C63C-4CED-A069-2B527FBB5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2D98-0452-40E8-BA60-C39A6252A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CD7F-D60F-4500-9E9D-02BA2AEBB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FCB1-518C-480D-8A27-C404BD019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19E8-7A34-463B-A2DD-1F972DDD9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7981-98FF-4B77-9736-0F7933BCE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21C5-0049-4559-AD00-A4A7D201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EE45-514D-47ED-B00A-407019BC1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F8AC-2ED2-4933-A8FA-669A9D2CB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F78D-BC75-4C30-94B3-3AC5155CE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C1CF-C668-4D33-B44F-8D3884CFC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8DE7-ACCE-4DDB-91F3-ABDBB3A1B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67D7-65F4-4544-81DB-88A6A326C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3ACD-86E9-4034-A14E-BE30E535F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E271-E762-4102-BA98-30F895F44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5BFF-1E43-4C93-9FEF-2A604730F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769D-F0BA-4719-8F3D-91F1BB946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5A97-0471-4174-8047-112854AC8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10A6-1F33-499F-9D14-9C2311DD5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98E5-36FA-4F9B-83AE-BAB4E7040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8610-A412-433A-BDDF-CEAA6F54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9ACE-7678-4D92-A27E-3DC914B12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a capacidad ocio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No existencia de un actor domin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oca diferenciación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industri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xistencia de barreras de sali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specialización de activ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Necesidad de invertir para cerr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Expectativas de rent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Oportunidad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menaza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ALISIS INTERNO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ADENA DEL VALO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14" name="Group 29"/>
          <p:cNvGrpSpPr/>
          <p:nvPr/>
        </p:nvGrpSpPr>
        <p:grpSpPr>
          <a:xfrm>
            <a:off x="372960" y="2133720"/>
            <a:ext cx="8542440" cy="4267080"/>
            <a:chOff x="372960" y="2133720"/>
            <a:chExt cx="8542440" cy="4267080"/>
          </a:xfrm>
        </p:grpSpPr>
        <p:grpSp>
          <p:nvGrpSpPr>
            <p:cNvPr id="115" name="Group 24"/>
            <p:cNvGrpSpPr/>
            <p:nvPr/>
          </p:nvGrpSpPr>
          <p:grpSpPr>
            <a:xfrm>
              <a:off x="1447560" y="2133720"/>
              <a:ext cx="7467840" cy="4267080"/>
              <a:chOff x="1447560" y="2133720"/>
              <a:chExt cx="7467840" cy="4267080"/>
            </a:xfrm>
          </p:grpSpPr>
          <p:sp>
            <p:nvSpPr>
              <p:cNvPr id="116" name="AutoShape 4"/>
              <p:cNvSpPr/>
              <p:nvPr/>
            </p:nvSpPr>
            <p:spPr>
              <a:xfrm>
                <a:off x="1447920" y="2133720"/>
                <a:ext cx="7467480" cy="4267080"/>
              </a:xfrm>
              <a:custGeom>
                <a:avLst/>
                <a:gdLst>
                  <a:gd name="textAreaLeft" fmla="*/ 0 w 7467480"/>
                  <a:gd name="textAreaRight" fmla="*/ 7467840 w 7467480"/>
                  <a:gd name="textAreaTop" fmla="*/ 0 h 4267080"/>
                  <a:gd name="textAreaBottom" fmla="*/ 4267440 h 426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"/>
              <p:cNvSpPr/>
              <p:nvPr/>
            </p:nvSpPr>
            <p:spPr>
              <a:xfrm flipH="1">
                <a:off x="1447560" y="426744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6"/>
              <p:cNvSpPr/>
              <p:nvPr/>
            </p:nvSpPr>
            <p:spPr>
              <a:xfrm>
                <a:off x="1447920" y="3163680"/>
                <a:ext cx="65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1447920" y="2648520"/>
                <a:ext cx="604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8"/>
              <p:cNvSpPr/>
              <p:nvPr/>
            </p:nvSpPr>
            <p:spPr>
              <a:xfrm>
                <a:off x="1447920" y="3678480"/>
                <a:ext cx="69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2737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0"/>
              <p:cNvSpPr/>
              <p:nvPr/>
            </p:nvSpPr>
            <p:spPr>
              <a:xfrm>
                <a:off x="402768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1"/>
              <p:cNvSpPr/>
              <p:nvPr/>
            </p:nvSpPr>
            <p:spPr>
              <a:xfrm>
                <a:off x="538524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3"/>
              <p:cNvSpPr/>
              <p:nvPr/>
            </p:nvSpPr>
            <p:spPr>
              <a:xfrm>
                <a:off x="6742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15"/>
              <p:cNvSpPr/>
              <p:nvPr/>
            </p:nvSpPr>
            <p:spPr>
              <a:xfrm>
                <a:off x="1924200" y="220716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Infraestructura de la Fir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16"/>
              <p:cNvSpPr/>
              <p:nvPr/>
            </p:nvSpPr>
            <p:spPr>
              <a:xfrm>
                <a:off x="1924200" y="27072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Recursos Hum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17"/>
              <p:cNvSpPr/>
              <p:nvPr/>
            </p:nvSpPr>
            <p:spPr>
              <a:xfrm>
                <a:off x="1924200" y="322344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Tecnolog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18"/>
              <p:cNvSpPr/>
              <p:nvPr/>
            </p:nvSpPr>
            <p:spPr>
              <a:xfrm>
                <a:off x="1924200" y="38106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Adquisici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19"/>
              <p:cNvSpPr/>
              <p:nvPr/>
            </p:nvSpPr>
            <p:spPr>
              <a:xfrm>
                <a:off x="144792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de Entra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20"/>
              <p:cNvSpPr/>
              <p:nvPr/>
            </p:nvSpPr>
            <p:spPr>
              <a:xfrm>
                <a:off x="2738880" y="4929480"/>
                <a:ext cx="12884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c0c0c0"/>
                    </a:solidFill>
                    <a:latin typeface="Times New Roman"/>
                  </a:rPr>
                  <a:t>Operacion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21"/>
              <p:cNvSpPr/>
              <p:nvPr/>
            </p:nvSpPr>
            <p:spPr>
              <a:xfrm>
                <a:off x="409536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de Sa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22"/>
              <p:cNvSpPr/>
              <p:nvPr/>
            </p:nvSpPr>
            <p:spPr>
              <a:xfrm>
                <a:off x="538524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Y Vent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23"/>
              <p:cNvSpPr/>
              <p:nvPr/>
            </p:nvSpPr>
            <p:spPr>
              <a:xfrm>
                <a:off x="6675120" y="4708800"/>
                <a:ext cx="128952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c0c0c0"/>
                    </a:solidFill>
                    <a:latin typeface="Times New Roman"/>
                  </a:rPr>
                  <a:t>Servic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c0c0c0"/>
                    </a:solidFill>
                    <a:latin typeface="Times New Roman"/>
                  </a:rPr>
                  <a:t>Post-Ven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AutoShape 25"/>
            <p:cNvSpPr/>
            <p:nvPr/>
          </p:nvSpPr>
          <p:spPr>
            <a:xfrm>
              <a:off x="1219320" y="213372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26"/>
            <p:cNvSpPr/>
            <p:nvPr/>
          </p:nvSpPr>
          <p:spPr>
            <a:xfrm>
              <a:off x="1219320" y="426708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 rot="16200000">
              <a:off x="-227520" y="288648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c0c0"/>
                  </a:solidFill>
                  <a:latin typeface="Times New Roman"/>
                </a:rPr>
                <a:t>Actividades de Apo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8"/>
            <p:cNvSpPr/>
            <p:nvPr/>
          </p:nvSpPr>
          <p:spPr>
            <a:xfrm rot="16200000">
              <a:off x="-219240" y="494208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c0c0"/>
                  </a:solidFill>
                  <a:latin typeface="Times New Roman"/>
                </a:rPr>
                <a:t>Actividades Primar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cepción y almacenaje  de insum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Manejo de materi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istema de control de inventar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de vehícul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istema de devolución de insumos a provee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duc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mbal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Control de cal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emplazo de equip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de pedi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vehículos de despach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arantí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Fortaleza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iferenci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ta calidad del producto, logística de salida o servicios de post-vent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Focalización: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Concentrados en un grupo de compra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Misión de la Empres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Qué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A quién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Donde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Cuándo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Cómo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29718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CASO: LA ERA DEL HIEL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Compras en pequeños volúmenes 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stante existencia de puntos de comercialización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Bajo Poder de los Comprador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876920" y="2590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7467480" y="2057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572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si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o precio relativo de los sustitut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Alto Poder de los Sustituto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7315200" y="3657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4191120" y="20574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4952880" y="2590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5334120" y="3048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8001000" y="41911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Estrategi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nálisis Externo: Porte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menazas y Oportunidades de la Industri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nálisis Interno: Cadena del Valo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Fortalezas y Debilidades de la Empres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stante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poc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l baj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roveedor con pocos client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000" spc="-1" strike="noStrike">
                <a:solidFill>
                  <a:srgbClr val="c0c0c0"/>
                </a:solidFill>
                <a:latin typeface="Bookman Old Style"/>
              </a:rPr>
              <a:t>  </a:t>
            </a:r>
            <a:r>
              <a:rPr b="1" lang="es-ES" sz="3000" spc="-1" strike="noStrike">
                <a:solidFill>
                  <a:srgbClr val="c0c0c0"/>
                </a:solidFill>
                <a:latin typeface="Bookman Old Style"/>
              </a:rPr>
              <a:t>Bajo Poder de los Proveedores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200400" y="32767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7162920" y="20574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791320" y="2438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743200" y="40384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84582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6324480" y="4952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Caso único Latinoaméric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rreras de entrad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stacionalidad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oca diferenciación de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lto prestigio de marca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stantes canales de distribu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lta concentr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Alto Riego de Entrada de Nuevos Competidore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6095880" y="1981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5857920" y="23572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426708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4952880" y="50292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6"/>
          <p:cNvSpPr/>
          <p:nvPr/>
        </p:nvSpPr>
        <p:spPr>
          <a:xfrm>
            <a:off x="6934320" y="3581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5257800" y="4267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7238880" y="4648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1"/>
          <p:cNvSpPr/>
          <p:nvPr/>
        </p:nvSpPr>
        <p:spPr>
          <a:xfrm>
            <a:off x="5791320" y="38862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Baja cantidad de competidores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Existencia de un actor dominante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Poca diferenciación del producto 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400" spc="-1" strike="noStrike">
                <a:solidFill>
                  <a:srgbClr val="c0c0c0"/>
                </a:solidFill>
                <a:latin typeface="Bookman Old Style"/>
              </a:rPr>
              <a:t>Mediana - Alta Competitividad</a:t>
            </a: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215120" y="214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7315200" y="3733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746748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5486400" y="4267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7696080" y="2666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Expectativas de renta: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Mediana rentabilidad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Oportunidades: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ambio de costumbre, consumo en invierno.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Fomentar aún más el consum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Amenaz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ntrada de nuevos competidor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manda altamente estacional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Manejo de materiales: a gran escal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Sistema de control de inventario: mezclado con otros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ción: altamente automatizad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ontrol de calidad: importante, productos alimentici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 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: varios can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: producto perecibl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: esta en todos la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: orientados y llamativ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: Supermercados tienen alto poder de negocia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: bajos, para todo consumidor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ervicio de atención al cliente 24 hor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Fortalezas de la empresa: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Alto poder de negocia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Competenc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F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Misión de la empresa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Que: Helados estándar a baj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 quien: a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onde: en to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uando: Principalmente en ver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34856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022720" y="2254320"/>
            <a:ext cx="316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Respon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Neutralizar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orregir 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provechar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xplotar fortale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42920" y="3909960"/>
            <a:ext cx="367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Buscar oportunidades que puedan posicionar la empresa con una ventaja competitiva que le permita obtener una rentabilidad superior al cos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3492360" y="278136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184440" y="48006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119240" y="404640"/>
            <a:ext cx="6781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Intenta lograr una </a:t>
            </a:r>
            <a:r>
              <a:rPr b="1" lang="es-ES_tradnl" sz="2500" spc="-1" strike="noStrike">
                <a:solidFill>
                  <a:srgbClr val="ffffff"/>
                </a:solidFill>
                <a:latin typeface="Verdana"/>
              </a:rPr>
              <a:t>ventaja sostenible a largo plazo</a:t>
            </a: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 en cada uno de sus negocios/actividad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1979640" y="1699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380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c0c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619360" y="109044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modo de conseguir un liderazgo competitiv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14400" y="238608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5362560" y="236844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276720" y="4519440"/>
            <a:ext cx="31431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762120" y="2286000"/>
            <a:ext cx="3733200" cy="1828080"/>
            <a:chOff x="762120" y="2286000"/>
            <a:chExt cx="3733200" cy="1828080"/>
          </a:xfrm>
        </p:grpSpPr>
        <p:sp>
          <p:nvSpPr>
            <p:cNvPr id="64" name="Rectangle 9"/>
            <p:cNvSpPr/>
            <p:nvPr/>
          </p:nvSpPr>
          <p:spPr>
            <a:xfrm>
              <a:off x="762120" y="2435040"/>
              <a:ext cx="3733200" cy="1679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2628720" y="228600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1"/>
          <p:cNvGrpSpPr/>
          <p:nvPr/>
        </p:nvGrpSpPr>
        <p:grpSpPr>
          <a:xfrm>
            <a:off x="3276720" y="6478560"/>
            <a:ext cx="3352680" cy="379440"/>
            <a:chOff x="3276720" y="6478560"/>
            <a:chExt cx="3352680" cy="379440"/>
          </a:xfrm>
        </p:grpSpPr>
        <p:sp>
          <p:nvSpPr>
            <p:cNvPr id="67" name="Rectangle 12"/>
            <p:cNvSpPr/>
            <p:nvPr/>
          </p:nvSpPr>
          <p:spPr>
            <a:xfrm>
              <a:off x="3276720" y="6531120"/>
              <a:ext cx="335268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4952880" y="64785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14"/>
          <p:cNvGrpSpPr/>
          <p:nvPr/>
        </p:nvGrpSpPr>
        <p:grpSpPr>
          <a:xfrm>
            <a:off x="2668680" y="2235240"/>
            <a:ext cx="4417920" cy="2208240"/>
            <a:chOff x="2668680" y="2235240"/>
            <a:chExt cx="4417920" cy="2208240"/>
          </a:xfrm>
        </p:grpSpPr>
        <p:sp>
          <p:nvSpPr>
            <p:cNvPr id="70" name="Line 15"/>
            <p:cNvSpPr/>
            <p:nvPr/>
          </p:nvSpPr>
          <p:spPr>
            <a:xfrm>
              <a:off x="4800600" y="223524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2668680" y="421632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 flipH="1">
              <a:off x="4878360" y="421632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18"/>
          <p:cNvGrpSpPr/>
          <p:nvPr/>
        </p:nvGrpSpPr>
        <p:grpSpPr>
          <a:xfrm>
            <a:off x="3200400" y="5587920"/>
            <a:ext cx="3504960" cy="912960"/>
            <a:chOff x="3200400" y="5587920"/>
            <a:chExt cx="3504960" cy="912960"/>
          </a:xfrm>
        </p:grpSpPr>
        <p:sp>
          <p:nvSpPr>
            <p:cNvPr id="74" name="Rectangle 19"/>
            <p:cNvSpPr/>
            <p:nvPr/>
          </p:nvSpPr>
          <p:spPr>
            <a:xfrm>
              <a:off x="3200400" y="5662440"/>
              <a:ext cx="350496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0"/>
            <p:cNvSpPr/>
            <p:nvPr/>
          </p:nvSpPr>
          <p:spPr>
            <a:xfrm>
              <a:off x="4952880" y="558792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1"/>
          <p:cNvGrpSpPr/>
          <p:nvPr/>
        </p:nvGrpSpPr>
        <p:grpSpPr>
          <a:xfrm>
            <a:off x="3048120" y="4419720"/>
            <a:ext cx="3657240" cy="990000"/>
            <a:chOff x="3048120" y="4419720"/>
            <a:chExt cx="3657240" cy="990000"/>
          </a:xfrm>
        </p:grpSpPr>
        <p:sp>
          <p:nvSpPr>
            <p:cNvPr id="77" name="Rectangle 22"/>
            <p:cNvSpPr/>
            <p:nvPr/>
          </p:nvSpPr>
          <p:spPr>
            <a:xfrm>
              <a:off x="3048120" y="4500360"/>
              <a:ext cx="3657240" cy="90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4876560" y="441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4"/>
          <p:cNvGrpSpPr/>
          <p:nvPr/>
        </p:nvGrpSpPr>
        <p:grpSpPr>
          <a:xfrm>
            <a:off x="5181480" y="2133720"/>
            <a:ext cx="3657240" cy="1980360"/>
            <a:chOff x="5181480" y="2133720"/>
            <a:chExt cx="3657240" cy="1980360"/>
          </a:xfrm>
        </p:grpSpPr>
        <p:sp>
          <p:nvSpPr>
            <p:cNvPr id="80" name="Rectangle 25"/>
            <p:cNvSpPr/>
            <p:nvPr/>
          </p:nvSpPr>
          <p:spPr>
            <a:xfrm>
              <a:off x="5181480" y="2295360"/>
              <a:ext cx="3657240" cy="1818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>
              <a:off x="7009920" y="2133720"/>
              <a:ext cx="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7"/>
          <p:cNvGrpSpPr/>
          <p:nvPr/>
        </p:nvGrpSpPr>
        <p:grpSpPr>
          <a:xfrm>
            <a:off x="2514600" y="1066680"/>
            <a:ext cx="4952520" cy="1064880"/>
            <a:chOff x="2514600" y="1066680"/>
            <a:chExt cx="4952520" cy="1064880"/>
          </a:xfrm>
        </p:grpSpPr>
        <p:sp>
          <p:nvSpPr>
            <p:cNvPr id="83" name="Rectangle 28"/>
            <p:cNvSpPr/>
            <p:nvPr/>
          </p:nvSpPr>
          <p:spPr>
            <a:xfrm>
              <a:off x="2514600" y="1153440"/>
              <a:ext cx="4952520" cy="978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9"/>
            <p:cNvSpPr/>
            <p:nvPr/>
          </p:nvSpPr>
          <p:spPr>
            <a:xfrm>
              <a:off x="4990680" y="1066680"/>
              <a:ext cx="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ALISIS EXTERNO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RTE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6" name="Group 38"/>
          <p:cNvGrpSpPr/>
          <p:nvPr/>
        </p:nvGrpSpPr>
        <p:grpSpPr>
          <a:xfrm>
            <a:off x="380880" y="2133720"/>
            <a:ext cx="8382240" cy="4419360"/>
            <a:chOff x="380880" y="2133720"/>
            <a:chExt cx="8382240" cy="4419360"/>
          </a:xfrm>
        </p:grpSpPr>
        <p:sp>
          <p:nvSpPr>
            <p:cNvPr id="87" name="AutoShape 12"/>
            <p:cNvSpPr/>
            <p:nvPr/>
          </p:nvSpPr>
          <p:spPr>
            <a:xfrm>
              <a:off x="3429000" y="5562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429000" y="5791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Sustit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>
              <a:off x="38088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7"/>
            <p:cNvSpPr/>
            <p:nvPr/>
          </p:nvSpPr>
          <p:spPr>
            <a:xfrm>
              <a:off x="38088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Nuevos Competi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22"/>
            <p:cNvSpPr/>
            <p:nvPr/>
          </p:nvSpPr>
          <p:spPr>
            <a:xfrm>
              <a:off x="3505320" y="2133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3505320" y="2362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Compra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28"/>
            <p:cNvSpPr/>
            <p:nvPr/>
          </p:nvSpPr>
          <p:spPr>
            <a:xfrm>
              <a:off x="647712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477120" y="403848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31"/>
            <p:cNvSpPr/>
            <p:nvPr/>
          </p:nvSpPr>
          <p:spPr>
            <a:xfrm>
              <a:off x="342900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2"/>
            <p:cNvSpPr/>
            <p:nvPr/>
          </p:nvSpPr>
          <p:spPr>
            <a:xfrm>
              <a:off x="342900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Competidores Actu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33"/>
            <p:cNvSpPr/>
            <p:nvPr/>
          </p:nvSpPr>
          <p:spPr>
            <a:xfrm>
              <a:off x="4114800" y="320040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34"/>
            <p:cNvSpPr/>
            <p:nvPr/>
          </p:nvSpPr>
          <p:spPr>
            <a:xfrm>
              <a:off x="2743200" y="4038480"/>
              <a:ext cx="53352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5791320" y="4038480"/>
              <a:ext cx="53316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utoShape 36"/>
            <p:cNvSpPr/>
            <p:nvPr/>
          </p:nvSpPr>
          <p:spPr>
            <a:xfrm>
              <a:off x="4114800" y="495288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ompras en grandes volúmen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sin mayor relevancia en su estructura de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sin mayor relevancia en la calidad de su product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Integración hacía atrá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oca existencia de puntos de comercializ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co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precio relat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a existencia de productos complementari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oca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poco sustituible, único 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l alt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roveedor con muchos clientes, ninguno es import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Negocio de bajo riesg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Regulaciones en la Industr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as barreras de entrada: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Inexistencia de 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Sin necesidad de activos específic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a diferenciación de product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prestigio de marca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Muchos canales de distribu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apital necesario para inversión inicial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4:35:13Z</dcterms:created>
  <dc:creator>Naloxi</dc:creator>
  <dc:description/>
  <dc:language>en-US</dc:language>
  <cp:lastModifiedBy>scobian</cp:lastModifiedBy>
  <dcterms:modified xsi:type="dcterms:W3CDTF">2007-10-12T14:00:44Z</dcterms:modified>
  <cp:revision>44</cp:revision>
  <dc:subject/>
  <dc:title>AUXILIAR Nº1  ANALISIS ESTRATEGICO</dc:title>
</cp:coreProperties>
</file>