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C2E-A307-4A72-AC4F-E3F0A222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1919-554C-4700-9AA4-3627DBAE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243-1D30-44E2-84D9-A6320363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94ED-D163-4478-ACC0-1BC286C5A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B263-5A9F-44F5-8DB7-4A830720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3289-0DFC-4D16-92C9-5A278417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5E89-6C22-4801-BAE8-21970DE8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A64-28F7-4908-8DF9-ED1088EB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DEB-3D80-4FC8-8BF0-BE9BBF61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7C3-3868-4122-8D8A-935129818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0731-5571-4180-9EE6-83FEA0F80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2A1D-4357-427D-9FA0-860C7686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555-1D46-4A62-8BE8-9629DB22D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A004-C27E-41AE-A5AD-0BD7D6AC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F6C8-A2A0-4F8D-9999-118742D4A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B9DA-9651-4028-8DC0-E690CB51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B517-2E26-43A2-976B-745821EC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409-0D29-4731-8039-1FD850BA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D67-C5DA-4178-8F05-ACEF40B9C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8CF-3D87-4E20-B8E7-667BA4FE5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ED7-C2A7-4639-BF8B-F5497A49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1BC-7C2F-4247-B86B-3A2F8CB8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FCD-B8AC-47E9-96C1-BDBCE4D7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4EB-567C-42E8-AA02-4B14023D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412-9559-4A7C-BE42-B9702D42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CF5-151A-44B3-A07D-D6DE8DAB4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15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6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17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8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20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1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2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3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AutoShape 25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26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Misión de la Empres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Qué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A quién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Donde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uánd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óm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o precio relativo de los sustitu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8001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Estrateg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57920" y="23572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2670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4952880" y="5029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6934320" y="3581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257800" y="4267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7238880" y="4648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7913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a cantidad de competidores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Mediana - Alt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215120" y="214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3152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4674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4864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769608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34856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2720" y="2254320"/>
            <a:ext cx="316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spon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Neutralizar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rregir 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provechar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plotar 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90996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Buscar oportunidades que puedan posicionar la empresa con una ventaja competitiva que le permita obtener una rentabilidad superior al cos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492360" y="2781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184440" y="48006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119240" y="40464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Intenta lograr una </a:t>
            </a:r>
            <a:r>
              <a:rPr b="1" lang="es-ES_tradnl" sz="2500" spc="-1" strike="noStrike">
                <a:solidFill>
                  <a:srgbClr val="ffffff"/>
                </a:solidFill>
                <a:latin typeface="Verdana"/>
              </a:rPr>
              <a:t>ventaja sostenible a largo plazo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 en cada uno de sus negocios/activida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979640" y="1699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19360" y="109044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14400" y="2386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62560" y="236844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451944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762120" y="2286000"/>
            <a:ext cx="3733200" cy="1828080"/>
            <a:chOff x="762120" y="2286000"/>
            <a:chExt cx="3733200" cy="1828080"/>
          </a:xfrm>
        </p:grpSpPr>
        <p:sp>
          <p:nvSpPr>
            <p:cNvPr id="64" name="Rectangle 9"/>
            <p:cNvSpPr/>
            <p:nvPr/>
          </p:nvSpPr>
          <p:spPr>
            <a:xfrm>
              <a:off x="762120" y="2435040"/>
              <a:ext cx="3733200" cy="1679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628720" y="228600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3276720" y="6478560"/>
            <a:ext cx="3352680" cy="379440"/>
            <a:chOff x="3276720" y="6478560"/>
            <a:chExt cx="3352680" cy="379440"/>
          </a:xfrm>
        </p:grpSpPr>
        <p:sp>
          <p:nvSpPr>
            <p:cNvPr id="67" name="Rectangle 12"/>
            <p:cNvSpPr/>
            <p:nvPr/>
          </p:nvSpPr>
          <p:spPr>
            <a:xfrm>
              <a:off x="3276720" y="6531120"/>
              <a:ext cx="335268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4952880" y="64785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2668680" y="2235240"/>
            <a:ext cx="4417920" cy="2208240"/>
            <a:chOff x="2668680" y="2235240"/>
            <a:chExt cx="4417920" cy="2208240"/>
          </a:xfrm>
        </p:grpSpPr>
        <p:sp>
          <p:nvSpPr>
            <p:cNvPr id="70" name="Line 15"/>
            <p:cNvSpPr/>
            <p:nvPr/>
          </p:nvSpPr>
          <p:spPr>
            <a:xfrm>
              <a:off x="4800600" y="223524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2668680" y="421632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4878360" y="421632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3200400" y="5587920"/>
            <a:ext cx="3504960" cy="912960"/>
            <a:chOff x="3200400" y="5587920"/>
            <a:chExt cx="3504960" cy="912960"/>
          </a:xfrm>
        </p:grpSpPr>
        <p:sp>
          <p:nvSpPr>
            <p:cNvPr id="74" name="Rectangle 19"/>
            <p:cNvSpPr/>
            <p:nvPr/>
          </p:nvSpPr>
          <p:spPr>
            <a:xfrm>
              <a:off x="3200400" y="5662440"/>
              <a:ext cx="350496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4952880" y="55879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048120" y="4419720"/>
            <a:ext cx="3657240" cy="990000"/>
            <a:chOff x="3048120" y="4419720"/>
            <a:chExt cx="3657240" cy="990000"/>
          </a:xfrm>
        </p:grpSpPr>
        <p:sp>
          <p:nvSpPr>
            <p:cNvPr id="77" name="Rectangle 22"/>
            <p:cNvSpPr/>
            <p:nvPr/>
          </p:nvSpPr>
          <p:spPr>
            <a:xfrm>
              <a:off x="3048120" y="4500360"/>
              <a:ext cx="3657240" cy="90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4876560" y="441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181480" y="2133720"/>
            <a:ext cx="3657240" cy="1980360"/>
            <a:chOff x="5181480" y="2133720"/>
            <a:chExt cx="3657240" cy="1980360"/>
          </a:xfrm>
        </p:grpSpPr>
        <p:sp>
          <p:nvSpPr>
            <p:cNvPr id="80" name="Rectangle 25"/>
            <p:cNvSpPr/>
            <p:nvPr/>
          </p:nvSpPr>
          <p:spPr>
            <a:xfrm>
              <a:off x="5181480" y="2295360"/>
              <a:ext cx="3657240" cy="181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7009920" y="21337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514600" y="1066680"/>
            <a:ext cx="4952520" cy="1064880"/>
            <a:chOff x="2514600" y="1066680"/>
            <a:chExt cx="4952520" cy="1064880"/>
          </a:xfrm>
        </p:grpSpPr>
        <p:sp>
          <p:nvSpPr>
            <p:cNvPr id="83" name="Rectangle 28"/>
            <p:cNvSpPr/>
            <p:nvPr/>
          </p:nvSpPr>
          <p:spPr>
            <a:xfrm>
              <a:off x="2514600" y="1153440"/>
              <a:ext cx="4952520" cy="9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990680" y="106668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87" name="AutoShape 12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22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33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34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scobian</cp:lastModifiedBy>
  <dcterms:modified xsi:type="dcterms:W3CDTF">2007-10-12T14:00:44Z</dcterms:modified>
  <cp:revision>44</cp:revision>
  <dc:subject/>
  <dc:title>AUXILIAR Nº1  ANALISIS ESTRATEGICO</dc:title>
</cp:coreProperties>
</file>