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DIAP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2DAB-FA1E-44C9-962C-143CDE57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94C1-0A4B-40AA-8AE9-8B2CB63D8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97CF-ADF2-46FC-A5AC-C1CF24DF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4000-B45A-426C-AD72-C6166554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1581-9148-4034-92A2-E7D566B3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86E9-392F-4C03-B489-A32C8C44E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FDB3-9B6A-49CA-B72C-59FAE670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56ED-B7A8-4633-900E-42CC0C7EC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8454-7DB9-40D7-8C10-36699129E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3F75-4B97-44BB-836E-FA78357F1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D0E-E742-4A89-995F-BA2303ED7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39DA-F578-4FD2-AB6A-11D8DCCD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D991-CCD8-4BAF-9F58-C22B4C51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8DEA-3191-4B0C-858D-F0EE87B2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BF8C-4360-4ADD-A329-960631B30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8D5-CAD3-4560-BD90-632C4E62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AE0-0612-4924-B0A4-3119CA99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080-69E8-4A79-B0A2-51463B0C6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B42D-457B-457F-ACF0-AF6B6D5DD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A8C8-A3EE-466B-9A92-D5A17CB93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DC94-20B5-45A3-B9A8-879E7E111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A723-8C06-49E1-8845-9A02AE8FA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4E49-F744-48E7-A008-0013F102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406C-2E4F-4F71-9E70-42F9DEC1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E419-8F24-43C2-909F-8F106F3E6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BE3D-4F5F-4573-9791-6F1A0814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a capacidad ocio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14" name="Group 29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115" name="Group 24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116" name="AutoShape 4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1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15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16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17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18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19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20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21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22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23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AutoShape 25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26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Misión de la Empres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Qué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A quién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Donde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uánd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óm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Compras en pequeño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stante existencia de puntos de comercialización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876920" y="2590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746748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572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o precio relativo de los sustitut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315200" y="3657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80010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Estrateg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20040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743200" y="40384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84582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24480" y="4952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857920" y="23572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2670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4952880" y="50292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6934320" y="3581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5257800" y="4267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7238880" y="4648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5791320" y="38862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a cantidad de competidores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Mediana - Alta Competitividad</a:t>
            </a: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215120" y="214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315200" y="3733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4674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5486400" y="4267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7696080" y="2666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ción: altamente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orientados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ompetenc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F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34856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022720" y="2254320"/>
            <a:ext cx="316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Respon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Neutralizar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orregir 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provechar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xplotar 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42920" y="3909960"/>
            <a:ext cx="367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Buscar oportunidades que puedan posicionar la empresa con una ventaja competitiva que le permita obtener una rentabilidad superior al cos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492360" y="27813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184440" y="48006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119240" y="404640"/>
            <a:ext cx="6781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Intenta lograr una </a:t>
            </a:r>
            <a:r>
              <a:rPr b="1" lang="es-ES_tradnl" sz="2500" spc="-1" strike="noStrike">
                <a:solidFill>
                  <a:srgbClr val="ffffff"/>
                </a:solidFill>
                <a:latin typeface="Verdana"/>
              </a:rPr>
              <a:t>ventaja sostenible a largo plazo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 en cada uno de sus negocios/actividad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1979640" y="1699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380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c0c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619360" y="109044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14400" y="2386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362560" y="236844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76720" y="451944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762120" y="2286000"/>
            <a:ext cx="3733200" cy="1828080"/>
            <a:chOff x="762120" y="2286000"/>
            <a:chExt cx="3733200" cy="1828080"/>
          </a:xfrm>
        </p:grpSpPr>
        <p:sp>
          <p:nvSpPr>
            <p:cNvPr id="64" name="Rectangle 9"/>
            <p:cNvSpPr/>
            <p:nvPr/>
          </p:nvSpPr>
          <p:spPr>
            <a:xfrm>
              <a:off x="762120" y="2435040"/>
              <a:ext cx="3733200" cy="1679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628720" y="228600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3276720" y="6478560"/>
            <a:ext cx="3352680" cy="379440"/>
            <a:chOff x="3276720" y="6478560"/>
            <a:chExt cx="3352680" cy="379440"/>
          </a:xfrm>
        </p:grpSpPr>
        <p:sp>
          <p:nvSpPr>
            <p:cNvPr id="67" name="Rectangle 12"/>
            <p:cNvSpPr/>
            <p:nvPr/>
          </p:nvSpPr>
          <p:spPr>
            <a:xfrm>
              <a:off x="3276720" y="6531120"/>
              <a:ext cx="335268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4952880" y="64785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2668680" y="2235240"/>
            <a:ext cx="4417920" cy="2208240"/>
            <a:chOff x="2668680" y="2235240"/>
            <a:chExt cx="4417920" cy="2208240"/>
          </a:xfrm>
        </p:grpSpPr>
        <p:sp>
          <p:nvSpPr>
            <p:cNvPr id="70" name="Line 15"/>
            <p:cNvSpPr/>
            <p:nvPr/>
          </p:nvSpPr>
          <p:spPr>
            <a:xfrm>
              <a:off x="4800600" y="223524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2668680" y="421632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4878360" y="421632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3200400" y="5587920"/>
            <a:ext cx="3504960" cy="912960"/>
            <a:chOff x="3200400" y="5587920"/>
            <a:chExt cx="3504960" cy="912960"/>
          </a:xfrm>
        </p:grpSpPr>
        <p:sp>
          <p:nvSpPr>
            <p:cNvPr id="74" name="Rectangle 19"/>
            <p:cNvSpPr/>
            <p:nvPr/>
          </p:nvSpPr>
          <p:spPr>
            <a:xfrm>
              <a:off x="3200400" y="5662440"/>
              <a:ext cx="350496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4952880" y="558792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3048120" y="4419720"/>
            <a:ext cx="3657240" cy="990000"/>
            <a:chOff x="3048120" y="4419720"/>
            <a:chExt cx="3657240" cy="990000"/>
          </a:xfrm>
        </p:grpSpPr>
        <p:sp>
          <p:nvSpPr>
            <p:cNvPr id="77" name="Rectangle 22"/>
            <p:cNvSpPr/>
            <p:nvPr/>
          </p:nvSpPr>
          <p:spPr>
            <a:xfrm>
              <a:off x="3048120" y="4500360"/>
              <a:ext cx="3657240" cy="90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4876560" y="441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5181480" y="2133720"/>
            <a:ext cx="3657240" cy="1980360"/>
            <a:chOff x="5181480" y="2133720"/>
            <a:chExt cx="3657240" cy="1980360"/>
          </a:xfrm>
        </p:grpSpPr>
        <p:sp>
          <p:nvSpPr>
            <p:cNvPr id="80" name="Rectangle 25"/>
            <p:cNvSpPr/>
            <p:nvPr/>
          </p:nvSpPr>
          <p:spPr>
            <a:xfrm>
              <a:off x="5181480" y="2295360"/>
              <a:ext cx="3657240" cy="1818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7009920" y="213372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7"/>
          <p:cNvGrpSpPr/>
          <p:nvPr/>
        </p:nvGrpSpPr>
        <p:grpSpPr>
          <a:xfrm>
            <a:off x="2514600" y="1066680"/>
            <a:ext cx="4952520" cy="1064880"/>
            <a:chOff x="2514600" y="1066680"/>
            <a:chExt cx="4952520" cy="1064880"/>
          </a:xfrm>
        </p:grpSpPr>
        <p:sp>
          <p:nvSpPr>
            <p:cNvPr id="83" name="Rectangle 28"/>
            <p:cNvSpPr/>
            <p:nvPr/>
          </p:nvSpPr>
          <p:spPr>
            <a:xfrm>
              <a:off x="2514600" y="1153440"/>
              <a:ext cx="4952520" cy="97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4990680" y="106668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6" name="Group 38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87" name="AutoShape 12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22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33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34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existencia de puntos de comercializ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a existencia de productos complementari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muchos clientes,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Regulaciones en la Industr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scobian</cp:lastModifiedBy>
  <dcterms:modified xsi:type="dcterms:W3CDTF">2007-10-12T14:00:44Z</dcterms:modified>
  <cp:revision>44</cp:revision>
  <dc:subject/>
  <dc:title>AUXILIAR Nº1  ANALISIS ESTRATEGICO</dc:title>
</cp:coreProperties>
</file>