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5E4E-2BE7-4D59-B634-8564C7BF8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6EE-9EC5-4A46-9F93-680E75E4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A301-E971-4399-9399-62F5D639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D709-9128-4090-93DA-8019695F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CDFC-7F9B-4E51-9653-80AFE0CB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0AAF-B91B-466E-A862-F2F95EF1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5A5E-9FCD-4233-9581-2DF2C381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A3D1-ECDD-4EC9-8F1D-A95B6FBC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98C-72EE-4F09-9524-C472AAAA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DFA-804F-4F98-8D49-ED4BE919E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B30-9192-4B75-9BE3-E9500C49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2AB-8F51-44B0-9EFE-860F91E2D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E557-2F32-4D77-961D-6D454131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7D7F-B469-4909-9FCC-878841AB7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008-1E16-4852-B503-D7385FB6A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583-4061-4982-BDE7-88582B667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56B6-A942-4111-BB9B-2DD7A78E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9B3-E0D6-40B4-AF08-5F2C3E125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CB4E-2302-4F9F-9F94-9C5F7B2BE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4957-BB9A-476E-98CC-C7E3934AC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D3A-18E9-4C13-A919-C3A7944C5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417-71AE-496F-9B7D-93C24FFC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AEC-75CF-464A-AF56-CE15363F7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518F-5EB2-493A-BBBA-CC4E343C6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6EDF-A512-4DEE-A387-A894F5F6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A10B-270A-418B-92D5-1743723A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a capacidad ocio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14" name="Group 29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115" name="Group 24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116" name="AutoShape 4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15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Text Box 16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Text Box 17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8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ext Box 19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Text Box 20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21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22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3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AutoShape 25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26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Misión de la Empres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040" y="25146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Qué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A quién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Donde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uánd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man Old Style"/>
              </a:rPr>
              <a:t>Cómo?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o precio relativo de los sustitut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80010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Estrateg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s-E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5857920" y="23572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42670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4952880" y="50292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6934320" y="3581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8"/>
          <p:cNvSpPr/>
          <p:nvPr/>
        </p:nvSpPr>
        <p:spPr>
          <a:xfrm>
            <a:off x="5257800" y="4267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7238880" y="4648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791320" y="38862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a cantidad de competidores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5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s-ES" sz="3400" spc="-1" strike="noStrike">
                <a:solidFill>
                  <a:srgbClr val="c0c0c0"/>
                </a:solidFill>
                <a:latin typeface="Bookman Old Style"/>
              </a:rPr>
              <a:t>Mediana - Alta Competitividad</a:t>
            </a: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215120" y="214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315200" y="3733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7467480" y="32004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5486400" y="4267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7696080" y="2666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ompetenc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INTERNO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CONCLUSION ANALISIS F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s-ES" sz="5400" spc="-1" strike="noStrike">
                <a:solidFill>
                  <a:srgbClr val="ffffff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34856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022720" y="2254320"/>
            <a:ext cx="316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Respond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Neutralizar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orregir 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provechar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xplotar 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42920" y="3909960"/>
            <a:ext cx="367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Buscar oportunidades que puedan posicionar la empresa con una ventaja competitiva que le permita obtener una rentabilidad superior al cos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3492360" y="278136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184440" y="480060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119240" y="40464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Intenta lograr una </a:t>
            </a:r>
            <a:r>
              <a:rPr b="1" lang="es-ES_tradnl" sz="2500" spc="-1" strike="noStrike">
                <a:solidFill>
                  <a:srgbClr val="ffffff"/>
                </a:solidFill>
                <a:latin typeface="Verdana"/>
              </a:rPr>
              <a:t>ventaja sostenible a largo plazo</a:t>
            </a:r>
            <a:r>
              <a:rPr b="0" lang="es-ES_tradnl" sz="2500" spc="-1" strike="noStrike">
                <a:solidFill>
                  <a:srgbClr val="ffffff"/>
                </a:solidFill>
                <a:latin typeface="Verdana"/>
              </a:rPr>
              <a:t> en cada uno de sus negocios/activida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1979640" y="1699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380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c0c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619360" y="109044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914400" y="238608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5362560" y="236844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4519440"/>
            <a:ext cx="31431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762120" y="2286000"/>
            <a:ext cx="3733200" cy="1828080"/>
            <a:chOff x="762120" y="2286000"/>
            <a:chExt cx="3733200" cy="1828080"/>
          </a:xfrm>
        </p:grpSpPr>
        <p:sp>
          <p:nvSpPr>
            <p:cNvPr id="64" name="Rectangle 9"/>
            <p:cNvSpPr/>
            <p:nvPr/>
          </p:nvSpPr>
          <p:spPr>
            <a:xfrm>
              <a:off x="762120" y="2435040"/>
              <a:ext cx="3733200" cy="1679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628720" y="228600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3276720" y="6478560"/>
            <a:ext cx="3352680" cy="379440"/>
            <a:chOff x="3276720" y="6478560"/>
            <a:chExt cx="3352680" cy="379440"/>
          </a:xfrm>
        </p:grpSpPr>
        <p:sp>
          <p:nvSpPr>
            <p:cNvPr id="67" name="Rectangle 12"/>
            <p:cNvSpPr/>
            <p:nvPr/>
          </p:nvSpPr>
          <p:spPr>
            <a:xfrm>
              <a:off x="3276720" y="6531120"/>
              <a:ext cx="335268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>
              <a:off x="4952880" y="64785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2668680" y="2235240"/>
            <a:ext cx="4417920" cy="2208240"/>
            <a:chOff x="2668680" y="2235240"/>
            <a:chExt cx="4417920" cy="2208240"/>
          </a:xfrm>
        </p:grpSpPr>
        <p:sp>
          <p:nvSpPr>
            <p:cNvPr id="70" name="Line 15"/>
            <p:cNvSpPr/>
            <p:nvPr/>
          </p:nvSpPr>
          <p:spPr>
            <a:xfrm>
              <a:off x="4800600" y="223524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2668680" y="421632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7"/>
            <p:cNvSpPr/>
            <p:nvPr/>
          </p:nvSpPr>
          <p:spPr>
            <a:xfrm flipH="1">
              <a:off x="4878360" y="421632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8"/>
          <p:cNvGrpSpPr/>
          <p:nvPr/>
        </p:nvGrpSpPr>
        <p:grpSpPr>
          <a:xfrm>
            <a:off x="3200400" y="5587920"/>
            <a:ext cx="3504960" cy="912960"/>
            <a:chOff x="3200400" y="5587920"/>
            <a:chExt cx="3504960" cy="912960"/>
          </a:xfrm>
        </p:grpSpPr>
        <p:sp>
          <p:nvSpPr>
            <p:cNvPr id="74" name="Rectangle 19"/>
            <p:cNvSpPr/>
            <p:nvPr/>
          </p:nvSpPr>
          <p:spPr>
            <a:xfrm>
              <a:off x="3200400" y="5662440"/>
              <a:ext cx="350496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4952880" y="558792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1"/>
          <p:cNvGrpSpPr/>
          <p:nvPr/>
        </p:nvGrpSpPr>
        <p:grpSpPr>
          <a:xfrm>
            <a:off x="3048120" y="4419720"/>
            <a:ext cx="3657240" cy="990000"/>
            <a:chOff x="3048120" y="4419720"/>
            <a:chExt cx="3657240" cy="990000"/>
          </a:xfrm>
        </p:grpSpPr>
        <p:sp>
          <p:nvSpPr>
            <p:cNvPr id="77" name="Rectangle 22"/>
            <p:cNvSpPr/>
            <p:nvPr/>
          </p:nvSpPr>
          <p:spPr>
            <a:xfrm>
              <a:off x="3048120" y="4500360"/>
              <a:ext cx="3657240" cy="909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4876560" y="441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5181480" y="2133720"/>
            <a:ext cx="3657240" cy="1980360"/>
            <a:chOff x="5181480" y="2133720"/>
            <a:chExt cx="3657240" cy="1980360"/>
          </a:xfrm>
        </p:grpSpPr>
        <p:sp>
          <p:nvSpPr>
            <p:cNvPr id="80" name="Rectangle 25"/>
            <p:cNvSpPr/>
            <p:nvPr/>
          </p:nvSpPr>
          <p:spPr>
            <a:xfrm>
              <a:off x="5181480" y="2295360"/>
              <a:ext cx="3657240" cy="1818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7009920" y="2133720"/>
              <a:ext cx="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7"/>
          <p:cNvGrpSpPr/>
          <p:nvPr/>
        </p:nvGrpSpPr>
        <p:grpSpPr>
          <a:xfrm>
            <a:off x="2514600" y="1066680"/>
            <a:ext cx="4952520" cy="1064880"/>
            <a:chOff x="2514600" y="1066680"/>
            <a:chExt cx="4952520" cy="1064880"/>
          </a:xfrm>
        </p:grpSpPr>
        <p:sp>
          <p:nvSpPr>
            <p:cNvPr id="83" name="Rectangle 28"/>
            <p:cNvSpPr/>
            <p:nvPr/>
          </p:nvSpPr>
          <p:spPr>
            <a:xfrm>
              <a:off x="2514600" y="1153440"/>
              <a:ext cx="4952520" cy="978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9"/>
            <p:cNvSpPr/>
            <p:nvPr/>
          </p:nvSpPr>
          <p:spPr>
            <a:xfrm>
              <a:off x="4990680" y="1066680"/>
              <a:ext cx="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6" name="Group 38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87" name="AutoShape 12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16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7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22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8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31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2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33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utoShape 34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Baja existencia de productos complementari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scobian</cp:lastModifiedBy>
  <dcterms:modified xsi:type="dcterms:W3CDTF">2007-10-12T14:00:44Z</dcterms:modified>
  <cp:revision>44</cp:revision>
  <dc:subject/>
  <dc:title>AUXILIAR Nº1  ANALISIS ESTRATEGICO</dc:title>
</cp:coreProperties>
</file>