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F3734-457D-434C-9A0F-3C2745E08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C352D-6D25-48D6-8D06-2B6923890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32F8E-064E-424F-B17C-6066D6EF0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666B6-10E0-495E-BE8A-BDB4A43CA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DDD90-3C86-482E-A4DF-F3C5757224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E4058-6696-4284-87F2-C27149190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398E1-5600-419A-B05F-AB1E299FB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1A99E-47DE-40B5-B922-F3975B004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4657E-234E-4421-BE0D-5D72EA730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2AD15-32DB-404D-95DC-F4CEC629E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07083-DFCE-4FA7-9134-E7B2B0E7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EB0B4-D470-4C88-BB27-D925E4016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7591C-4AA3-42F4-AF3A-29EBAC87C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138A5-731D-4D0B-B070-11570298F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EA36D-919E-4E98-B592-325BC827D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488FF-6284-4818-AB31-4B31B38BE2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528EA-71DF-463A-8E79-7F1BFD5D68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60B7A-39A3-4C9E-8840-464DBF0D7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FEB42-ED6D-462E-A9DD-AE810E443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2B46B-1084-4817-AE05-A526A26D8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CA17F-FB69-4CF2-A3B0-1BAC689EA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A96FB-98B3-4639-B76E-1BB9581DD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C27CF-60CB-43F5-B5BC-CEFB0F47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5E11-9065-4E88-9D25-7CBAC0807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2193-12D9-4B2D-962E-13E9F46BF20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49E3-4F5E-46B0-BBA7-CD92A6AD146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 i) = (1 + r) * (1 + </a:t>
            </a:r>
            <a:r>
              <a:rPr b="0" lang="en-US" sz="1800" spc="-1" strike="noStrike">
                <a:solidFill>
                  <a:srgbClr val="000000"/>
                </a:solidFill>
                <a:latin typeface="Symbol"/>
                <a:ea typeface="Symbol"/>
              </a:rPr>
              <a:t></a:t>
            </a:r>
            <a:r>
              <a:rPr b="0" lang="en-US"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r)(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2 / 1,05 =&gt; </a:t>
            </a:r>
            <a:r>
              <a:rPr b="0" lang="en-US" sz="2000" spc="-1" strike="noStrike">
                <a:solidFill>
                  <a:srgbClr val="000000"/>
                </a:solidFill>
                <a:latin typeface="Symbol"/>
                <a:ea typeface="Symbol"/>
              </a:rPr>
              <a:t></a:t>
            </a:r>
            <a:r>
              <a:rPr b="0" lang="en-US" sz="2000" spc="-1" strike="noStrike">
                <a:solidFill>
                  <a:srgbClr val="000000"/>
                </a:solidFill>
                <a:latin typeface="Tahoma"/>
              </a:rPr>
              <a:t>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Rentabilidad mínima exigida</a:t>
            </a:r>
            <a:endParaRPr b="0" lang="en-US" sz="2600" spc="-1" strike="noStrike">
              <a:solidFill>
                <a:srgbClr val="000000"/>
              </a:solidFill>
              <a:latin typeface="Tahom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Costo de capital…etc </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7"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6"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7"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29"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0"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3"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4"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3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3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4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4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1283040" y="5054760"/>
            <a:ext cx="248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 ejemplo en</a:t>
            </a:r>
            <a:endParaRPr b="0" lang="en-US" sz="2800" spc="-1" strike="noStrike">
              <a:solidFill>
                <a:srgbClr val="000000"/>
              </a:solidFill>
              <a:latin typeface="Times New Roman"/>
            </a:endParaRPr>
          </a:p>
        </p:txBody>
      </p:sp>
      <p:sp>
        <p:nvSpPr>
          <p:cNvPr id="255" name=""/>
          <p:cNvSpPr/>
          <p:nvPr/>
        </p:nvSpPr>
        <p:spPr>
          <a:xfrm>
            <a:off x="1292400" y="5856120"/>
            <a:ext cx="33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ttp://www.bancafacil.cl</a:t>
            </a:r>
            <a:endParaRPr b="0" lang="en-US" sz="2400" spc="-1" strike="noStrike">
              <a:solidFill>
                <a:srgbClr val="000000"/>
              </a:solidFill>
              <a:latin typeface="Times New Roman"/>
            </a:endParaRPr>
          </a:p>
        </p:txBody>
      </p:sp>
      <p:sp>
        <p:nvSpPr>
          <p:cNvPr id="25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31640" y="5157720"/>
            <a:ext cx="24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Amortiz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tere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6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6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7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7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7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7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cp:keywords/>
  <dc:language>en-US</dc:language>
  <cp:lastModifiedBy>Eduardo Contreras Villablanca</cp:lastModifiedBy>
  <cp:lastPrinted>1997-04-16T17:24:08Z</cp:lastPrinted>
  <dcterms:modified xsi:type="dcterms:W3CDTF">2007-07-06T16:05:07Z</dcterms:modified>
  <cp:revision>17</cp:revision>
  <dc:subject>Planificación financiera</dc:subject>
  <dc:title>PLANIFICACION FINANCIERA</dc:title>
</cp:coreProperties>
</file>