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478AA-DA95-4657-9CED-B1EC1AFEA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ECC32-E121-48FF-8522-474C1F978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228AB-D44F-43E3-A930-768C63D23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4E41E-A55C-48E1-AF4B-61B3CD76E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D576C5-6F56-4D32-BE70-4F8664F3CA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5B19F-F88B-4FC9-912B-E09AAB638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1787E-9C54-4411-AA2C-9692E6369D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FDB36-F37B-4D08-A609-5BA3D893E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6E52F4-F971-4DC5-906D-CC36EE216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A4EE7-1895-4CC6-A563-66920195F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72FB2-31CB-477C-90EB-0C9B29E61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DE9F3-BC87-4116-8C50-9B85AA669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87CCB-8DE6-474F-8FA8-C931A2D1E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99F23-95FC-4E79-8006-850AD4099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F5774-5A09-4DE8-92CC-B19D58F51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C33397-E36D-4C8D-9A57-074278F8A4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ED843F-941A-4F83-ABE2-2267437FD6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E6D7E-2CBF-4520-AC91-01166DD01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42906-D4B9-4368-AAB0-34A75AD0E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CC09F-561A-4CBF-BDC7-9E5703D94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031DD-BB59-4ADD-86DD-FFF3CB0D9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D439A-A842-4487-8703-5C92454D7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3D8C6-3EC0-49B0-A452-9A9ED2F42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CBEC2-0103-4C65-936E-37C63A6F3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558D-F1EC-419C-AB63-8F6E97431C5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A0128-AC93-4409-BDB0-B3108411751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Perfil de una inversión y Perfil de un Crédi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Tipos de interés (Simple y compues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Igualdad de Fisher y el efecto de la inflación</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Tasas equivalentes</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Valor futuro, valor presente y valor presente neto</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 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 i) = (1 + r) * (1 + </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0 (1+i) = 500 (1+r)(1+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Symbol"/>
                <a:ea typeface="Symbol"/>
              </a:rPr>
              <a:t></a:t>
            </a:r>
            <a:r>
              <a:rPr b="0" lang="en-US" sz="2000" spc="-1" strike="noStrike">
                <a:solidFill>
                  <a:srgbClr val="000000"/>
                </a:solidFill>
                <a:latin typeface="Tahoma"/>
              </a:rPr>
              <a:t>) = (1+i) / (1+r) = 1,2 / 1,05 =&gt; </a:t>
            </a:r>
            <a:r>
              <a:rPr b="0" lang="en-US" sz="2000" spc="-1" strike="noStrike">
                <a:solidFill>
                  <a:srgbClr val="000000"/>
                </a:solidFill>
                <a:latin typeface="Symbol"/>
                <a:ea typeface="Symbol"/>
              </a:rPr>
              <a:t></a:t>
            </a:r>
            <a:r>
              <a:rPr b="0" lang="en-US" sz="2000" spc="-1" strike="noStrike">
                <a:solidFill>
                  <a:srgbClr val="000000"/>
                </a:solidFill>
                <a:latin typeface="Tahoma"/>
              </a:rPr>
              <a:t>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lación de paridad entre tasas para economías abiertas:</a:t>
            </a:r>
            <a:endParaRPr b="0" lang="en-US" sz="22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r) = (1+ Libor + s)(1+e) /(1+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2" marL="1143000" indent="-228600" algn="just">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ahoma"/>
              </a:rPr>
              <a:t>  </a:t>
            </a:r>
            <a:r>
              <a:rPr b="0" lang="es-ES_tradnl" sz="2000" spc="-1" strike="noStrike">
                <a:solidFill>
                  <a:srgbClr val="000000"/>
                </a:solidFill>
                <a:latin typeface="Tahoma"/>
              </a:rPr>
              <a:t>y r ya definido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ibor: Tasa de interés interbancaria de Londre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 Spread (depende del riesgo paí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variación esperada del tipo de cambio  </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F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8" name=""/>
          <p:cNvGrpSpPr/>
          <p:nvPr/>
        </p:nvGrpSpPr>
        <p:grpSpPr>
          <a:xfrm>
            <a:off x="1890720" y="2286000"/>
            <a:ext cx="3017160" cy="1983600"/>
            <a:chOff x="1890720" y="2286000"/>
            <a:chExt cx="3017160" cy="1983600"/>
          </a:xfrm>
        </p:grpSpPr>
        <p:sp>
          <p:nvSpPr>
            <p:cNvPr id="149"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3"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4"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5"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6"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P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2" name=""/>
          <p:cNvGrpSpPr/>
          <p:nvPr/>
        </p:nvGrpSpPr>
        <p:grpSpPr>
          <a:xfrm>
            <a:off x="1890720" y="2286000"/>
            <a:ext cx="3017160" cy="1983600"/>
            <a:chOff x="1890720" y="2286000"/>
            <a:chExt cx="3017160" cy="1983600"/>
          </a:xfrm>
        </p:grpSpPr>
        <p:sp>
          <p:nvSpPr>
            <p:cNvPr id="163"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7"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8"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70"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 crédit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édito: Significa obtener un flujo de dinero hoy, que será pagado en cuotas en el futur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interés</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z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otas</a:t>
            </a:r>
            <a:endParaRPr b="0" lang="en-US" sz="2000" spc="-1" strike="noStrike">
              <a:solidFill>
                <a:srgbClr val="000000"/>
              </a:solidFill>
              <a:latin typeface="Tahoma"/>
            </a:endParaRPr>
          </a:p>
        </p:txBody>
      </p:sp>
      <p:grpSp>
        <p:nvGrpSpPr>
          <p:cNvPr id="87" name=""/>
          <p:cNvGrpSpPr/>
          <p:nvPr/>
        </p:nvGrpSpPr>
        <p:grpSpPr>
          <a:xfrm>
            <a:off x="1752480" y="4759200"/>
            <a:ext cx="5991120" cy="1262880"/>
            <a:chOff x="1752480" y="4759200"/>
            <a:chExt cx="5991120" cy="1262880"/>
          </a:xfrm>
        </p:grpSpPr>
        <p:sp>
          <p:nvSpPr>
            <p:cNvPr id="88"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0"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1327320"/>
            <a:ext cx="8534160" cy="29397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3" name=""/>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4" name=""/>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7" name=""/>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8" name=""/>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9" name=""/>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80" name=""/>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81" name=""/>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2" name=""/>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3" name=""/>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4" name=""/>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5" name=""/>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6" name=""/>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7" name=""/>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0" name=""/>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1" name=""/>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2" name=""/>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3" name=""/>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4" name=""/>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5" name=""/>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6" name=""/>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7" name=""/>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8" name=""/>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9" name=""/>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456840"/>
            <a:ext cx="8534160" cy="1763640"/>
          </a:xfrm>
          <a:prstGeom prst="rect">
            <a:avLst/>
          </a:prstGeom>
          <a:noFill/>
          <a:ln w="0">
            <a:noFill/>
          </a:ln>
        </p:spPr>
        <p:txBody>
          <a:bodyPr lIns="90000" rIns="90000" tIns="46800" bIns="46800"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201" name=""/>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Tasa mínim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Costo de oportunidad del capital</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Rentabilidad mínima exigid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Costo de capital…etc </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t>
            </a:r>
            <a:r>
              <a:rPr b="0" lang="es-ES_tradnl"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COSTO DE OPORTUNIDAD DEL CAPITAL</a:t>
            </a:r>
            <a:r>
              <a:rPr b="1" lang="en-US"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7"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6"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7"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8"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9"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0"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3" name=""/>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4"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3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39"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8"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49"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0"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1"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3"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1283040" y="5054760"/>
            <a:ext cx="248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 ejemplo en</a:t>
            </a:r>
            <a:endParaRPr b="0" lang="en-US" sz="2800" spc="-1" strike="noStrike">
              <a:solidFill>
                <a:srgbClr val="000000"/>
              </a:solidFill>
              <a:latin typeface="Times New Roman"/>
            </a:endParaRPr>
          </a:p>
        </p:txBody>
      </p:sp>
      <p:sp>
        <p:nvSpPr>
          <p:cNvPr id="255" name=""/>
          <p:cNvSpPr/>
          <p:nvPr/>
        </p:nvSpPr>
        <p:spPr>
          <a:xfrm>
            <a:off x="1292400" y="5856120"/>
            <a:ext cx="33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bancafacil.cl</a:t>
            </a:r>
            <a:endParaRPr b="0" lang="en-US" sz="2400" spc="-1" strike="noStrike">
              <a:solidFill>
                <a:srgbClr val="000000"/>
              </a:solidFill>
              <a:latin typeface="Times New Roman"/>
            </a:endParaRPr>
          </a:p>
        </p:txBody>
      </p:sp>
      <p:sp>
        <p:nvSpPr>
          <p:cNvPr id="256"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731640" y="5157720"/>
            <a:ext cx="240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Amortiz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terese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9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Desembolsar hoy una suma de dinero, esperando retorn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descuen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ación del proyec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ujos</a:t>
            </a:r>
            <a:endParaRPr b="0" lang="en-US" sz="2000" spc="-1" strike="noStrike">
              <a:solidFill>
                <a:srgbClr val="000000"/>
              </a:solidFill>
              <a:latin typeface="Tahoma"/>
            </a:endParaRPr>
          </a:p>
        </p:txBody>
      </p:sp>
      <p:sp>
        <p:nvSpPr>
          <p:cNvPr id="99"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1"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6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61"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70"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71"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2"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3"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4"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5" name=""/>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76" name=""/>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77" name=""/>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0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que estamos en un mundo donde no existe inflación y se nos plantea la posibilidad de elegir $ 100 hoy o $ 100 mañana ¿Qué preferimo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la tasa es del 10%. Dos alternativas:</a:t>
            </a:r>
            <a:endParaRPr b="0" lang="en-US" sz="22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ar los 100 en una caja fuerte al cabo de 1 año tengo los mismos 100.</a:t>
            </a:r>
            <a:endParaRPr b="0" lang="en-US" sz="20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ositar los 100 al cabo de un año tengo 110.</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alor Futuro: Es el valor alcanzado por un capital o principal al final del período analiz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Es el rendimiento o costo de un capital colocado o prestado a un tiempo determin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definimos:</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 = tasa de interés</a:t>
            </a:r>
            <a:endParaRPr b="0" lang="en-US" sz="20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Monto invertid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vierto Po hoy</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 cabo de un año obtengo:</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1 = Po + r * P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é pasa si esto lo queremos invertir a más de un período?</a:t>
            </a: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Tipos de interés: simple y compuesto</a:t>
            </a:r>
            <a:endParaRPr b="0" lang="en-US" sz="3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 Es el in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1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o Observemos que sólo calculamos intereses sobre el principal.</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 r * Po + r * Po = Po + 2 * r * Po = 12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o + n * r * Po ==&gt;   Pn = Po * (1 + n * r)</a:t>
            </a:r>
            <a:endParaRPr b="0" lang="en-US" sz="2200" spc="-1" strike="noStrike">
              <a:solidFill>
                <a:srgbClr val="000000"/>
              </a:solidFill>
              <a:latin typeface="Tahoma"/>
            </a:endParaRPr>
          </a:p>
        </p:txBody>
      </p:sp>
      <p:sp>
        <p:nvSpPr>
          <p:cNvPr id="114"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371240"/>
            <a:ext cx="7772400" cy="48006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Compuesto</a:t>
            </a:r>
            <a:endParaRPr b="0" lang="en-US" sz="3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 Significa que el interés ganado sobre el capital invertido se añade al principal. Se gana interés sobre el interés. De otra forma se asume reinversión de los intereses en periodos intermed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Po (1+r) =110 </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1  Intereses sobre  capital más interes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 r*(Po (1+r) )= = 121</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1+r) = Po (1+r)</a:t>
            </a:r>
            <a:r>
              <a:rPr b="0" lang="es-ES_tradnl" sz="2200" spc="-1" strike="noStrike" baseline="30000">
                <a:solidFill>
                  <a:srgbClr val="000000"/>
                </a:solidFill>
                <a:latin typeface="Tahoma"/>
              </a:rPr>
              <a:t>2</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n-1 + r * Pn-1 ==&gt;   Pn = Po * (1 + r)</a:t>
            </a:r>
            <a:r>
              <a:rPr b="0" lang="es-ES_tradnl" sz="2200" spc="-1" strike="noStrike" baseline="30000">
                <a:solidFill>
                  <a:srgbClr val="000000"/>
                </a:solidFill>
                <a:latin typeface="Tahoma"/>
              </a:rPr>
              <a:t>n</a:t>
            </a:r>
            <a:endParaRPr b="0" lang="en-US" sz="2200" spc="-1" strike="noStrike">
              <a:solidFill>
                <a:srgbClr val="000000"/>
              </a:solidFill>
              <a:latin typeface="Tahoma"/>
            </a:endParaRPr>
          </a:p>
        </p:txBody>
      </p:sp>
      <p:sp>
        <p:nvSpPr>
          <p:cNvPr id="117" name=""/>
          <p:cNvSpPr/>
          <p:nvPr/>
        </p:nvSpPr>
        <p:spPr>
          <a:xfrm>
            <a:off x="4952880" y="594360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Simple vs Interés compuesto</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eamos que se obtiene para un período más largo y diferentes tasas de interés.</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0% y n = 40 años:</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500</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4.525,93 (9,0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3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704 (2,3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7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26.786,35 (28,27 veces)</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Interés Compuesto - Intervalos </a:t>
            </a:r>
            <a:endParaRPr b="0" lang="en-US" sz="4000" spc="-1" strike="noStrike">
              <a:solidFill>
                <a:srgbClr val="000000"/>
              </a:solidFill>
              <a:latin typeface="Arial Black"/>
            </a:endParaRPr>
          </a:p>
        </p:txBody>
      </p:sp>
      <p:pic>
        <p:nvPicPr>
          <p:cNvPr id="121" name="" descr=""/>
          <p:cNvPicPr/>
          <p:nvPr/>
        </p:nvPicPr>
        <p:blipFill>
          <a:blip r:embed="rId1"/>
          <a:stretch/>
        </p:blipFill>
        <p:spPr>
          <a:xfrm>
            <a:off x="318960" y="1905120"/>
            <a:ext cx="8361360" cy="4795560"/>
          </a:xfrm>
          <a:prstGeom prst="rect">
            <a:avLst/>
          </a:prstGeom>
          <a:ln w="9360">
            <a:solidFill>
              <a:srgbClr val="000000"/>
            </a:solidFill>
            <a:miter/>
          </a:ln>
        </p:spPr>
      </p:pic>
      <p:sp>
        <p:nvSpPr>
          <p:cNvPr id="122" name=""/>
          <p:cNvSpPr/>
          <p:nvPr/>
        </p:nvSpPr>
        <p:spPr>
          <a:xfrm flipV="1">
            <a:off x="6953400" y="1676520"/>
            <a:ext cx="0" cy="3124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000000"/>
              </a:solidFill>
              <a:latin typeface="Times New Roman"/>
            </a:endParaRPr>
          </a:p>
        </p:txBody>
      </p:sp>
      <p:sp>
        <p:nvSpPr>
          <p:cNvPr id="12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25" name=""/>
          <p:cNvSpPr/>
          <p:nvPr/>
        </p:nvSpPr>
        <p:spPr>
          <a:xfrm flipH="1">
            <a:off x="4250160" y="4343400"/>
            <a:ext cx="643680" cy="9540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6" name=""/>
          <p:cNvSpPr/>
          <p:nvPr/>
        </p:nvSpPr>
        <p:spPr>
          <a:xfrm flipV="1">
            <a:off x="4577400" y="3888000"/>
            <a:ext cx="636840" cy="12996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7" name=""/>
          <p:cNvSpPr/>
          <p:nvPr/>
        </p:nvSpPr>
        <p:spPr>
          <a:xfrm flipV="1">
            <a:off x="1104840" y="3885840"/>
            <a:ext cx="7105680" cy="19080"/>
          </a:xfrm>
          <a:prstGeom prst="line">
            <a:avLst/>
          </a:prstGeom>
          <a:ln w="9360">
            <a:solidFill>
              <a:srgbClr val="00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cp:keywords/>
  <dc:language>en-US</dc:language>
  <cp:lastModifiedBy>Eduardo Contreras Villablanca</cp:lastModifiedBy>
  <cp:lastPrinted>1997-04-16T17:24:08Z</cp:lastPrinted>
  <dcterms:modified xsi:type="dcterms:W3CDTF">2007-07-06T16:05:07Z</dcterms:modified>
  <cp:revision>17</cp:revision>
  <dc:subject>Planificación financiera</dc:subject>
  <dc:title>PLANIFICACION FINANCIERA</dc:title>
</cp:coreProperties>
</file>