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FRENADA.WAV" ContentType="audio/x-wav"/>
  <Override PartName="/ppt/media/DIAPO.WAV" ContentType="audio/x-wav"/>
  <Override PartName="/ppt/media/CLIC.WAV" ContentType="audio/x-wav"/>
  <Override PartName="/ppt/media/LATIGO.WAV" ContentType="audio/x-wav"/>
  <Override PartName="/ppt/media/DISPARO.WAV" ContentType="audio/x-wav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C42B-95EB-452B-9BED-A24D720C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5302-B863-402F-A535-CCD8A261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70F9-A026-497E-B982-E93CB009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00D0-0071-4AB6-BAF1-28EF66165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944D-333D-4F72-90A1-D87EDEE6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31ED-4CBC-4774-BF5E-F1676D1A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2E8A-04E9-4C93-90A0-5E1D2B53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FC38-690C-4E79-A960-8B2C8FDE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EB81-4FD9-49AF-9FF8-AF92B6E5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12FE-84FD-4FBA-A3FE-C1EFDD9C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A6B6-DD74-4B2A-BDA4-679CACD8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3987-65A3-4445-B49B-265F1709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0531-8C29-4125-9DD8-3A891AEE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3D6A-F2F2-4EFE-A791-0C3CBF75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406B-848F-42E1-8EE5-75355180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1E05-0B54-4E1F-A3A3-D2ECDB18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2D06-2603-4445-918F-4B573BE4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45D6-1D04-4F0E-A502-B31D4DEE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1FA4-3BCF-431C-A94D-878F6B24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17E2-9A53-4311-AF1E-A33404DE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ACC0-BB7C-4C8B-84E7-94A8EDD1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4BAE-D97E-4B39-A4AA-32A09604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8F45-F344-42FA-8FC9-8497823C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D7ED-AF0A-4480-AA5D-B011027F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B748-5828-4C11-9D1A-20D551307C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CAC3-598E-43DB-89F4-38E0EBE37B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FRENADA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audio" Target="../media/LATIGO.WAV"/><Relationship Id="rId16" Type="http://schemas.openxmlformats.org/officeDocument/2006/relationships/audio" Target="../media/LATIGO.WAV"/><Relationship Id="rId17" Type="http://schemas.openxmlformats.org/officeDocument/2006/relationships/audio" Target="../media/LATIGO.WAV"/><Relationship Id="rId1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audio" Target="../media/LATIGO.WAV"/><Relationship Id="rId16" Type="http://schemas.openxmlformats.org/officeDocument/2006/relationships/audio" Target="../media/LATIGO.WAV"/><Relationship Id="rId17" Type="http://schemas.openxmlformats.org/officeDocument/2006/relationships/audio" Target="../media/LATIGO.WAV"/><Relationship Id="rId18" Type="http://schemas.openxmlformats.org/officeDocument/2006/relationships/audio" Target="../media/LATIGO.WAV"/><Relationship Id="rId19" Type="http://schemas.openxmlformats.org/officeDocument/2006/relationships/audio" Target="../media/LATIGO.WAV"/><Relationship Id="rId20" Type="http://schemas.openxmlformats.org/officeDocument/2006/relationships/audio" Target="../media/LATIGO.WAV"/><Relationship Id="rId21" Type="http://schemas.openxmlformats.org/officeDocument/2006/relationships/audio" Target="../media/LATIGO.WAV"/><Relationship Id="rId22" Type="http://schemas.openxmlformats.org/officeDocument/2006/relationships/audio" Target="../media/LATIGO.WAV"/><Relationship Id="rId23" Type="http://schemas.openxmlformats.org/officeDocument/2006/relationships/audio" Target="../media/LATIGO.WAV"/><Relationship Id="rId24" Type="http://schemas.openxmlformats.org/officeDocument/2006/relationships/audio" Target="../media/LATIGO.WAV"/><Relationship Id="rId25" Type="http://schemas.openxmlformats.org/officeDocument/2006/relationships/audio" Target="../media/LATIGO.WAV"/><Relationship Id="rId26" Type="http://schemas.openxmlformats.org/officeDocument/2006/relationships/audio" Target="../media/LATIGO.WAV"/><Relationship Id="rId27" Type="http://schemas.openxmlformats.org/officeDocument/2006/relationships/audio" Target="../media/LATIGO.WAV"/><Relationship Id="rId28" Type="http://schemas.openxmlformats.org/officeDocument/2006/relationships/audio" Target="../media/LATIGO.WAV"/><Relationship Id="rId29" Type="http://schemas.openxmlformats.org/officeDocument/2006/relationships/audio" Target="../media/LATIGO.WAV"/><Relationship Id="rId30" Type="http://schemas.openxmlformats.org/officeDocument/2006/relationships/audio" Target="../media/LATIGO.WAV"/><Relationship Id="rId31" Type="http://schemas.openxmlformats.org/officeDocument/2006/relationships/audio" Target="../media/LATIGO.WAV"/><Relationship Id="rId32" Type="http://schemas.openxmlformats.org/officeDocument/2006/relationships/audio" Target="../media/LATIGO.WAV"/><Relationship Id="rId33" Type="http://schemas.openxmlformats.org/officeDocument/2006/relationships/audio" Target="../media/LATIGO.WAV"/><Relationship Id="rId34" Type="http://schemas.openxmlformats.org/officeDocument/2006/relationships/audio" Target="../media/LATIGO.WAV"/><Relationship Id="rId35" Type="http://schemas.openxmlformats.org/officeDocument/2006/relationships/audio" Target="../media/LATIGO.WAV"/><Relationship Id="rId36" Type="http://schemas.openxmlformats.org/officeDocument/2006/relationships/audio" Target="../media/LATIGO.WAV"/><Relationship Id="rId37" Type="http://schemas.openxmlformats.org/officeDocument/2006/relationships/audio" Target="../media/LATIGO.WAV"/><Relationship Id="rId38" Type="http://schemas.openxmlformats.org/officeDocument/2006/relationships/audio" Target="../media/LATIGO.WAV"/><Relationship Id="rId39" Type="http://schemas.openxmlformats.org/officeDocument/2006/relationships/audio" Target="../media/LATIGO.WAV"/><Relationship Id="rId40" Type="http://schemas.openxmlformats.org/officeDocument/2006/relationships/audio" Target="../media/LATIGO.WAV"/><Relationship Id="rId41" Type="http://schemas.openxmlformats.org/officeDocument/2006/relationships/audio" Target="../media/LATIGO.WAV"/><Relationship Id="rId42" Type="http://schemas.openxmlformats.org/officeDocument/2006/relationships/audio" Target="../media/LATIGO.WAV"/><Relationship Id="rId43" Type="http://schemas.openxmlformats.org/officeDocument/2006/relationships/audio" Target="../media/LATIGO.WAV"/><Relationship Id="rId44" Type="http://schemas.openxmlformats.org/officeDocument/2006/relationships/audio" Target="../media/LATIGO.WAV"/><Relationship Id="rId4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DIAP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audio" Target="../media/DIAPO.WAV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audio" Target="../media/CLIC.WAV"/><Relationship Id="rId12" Type="http://schemas.openxmlformats.org/officeDocument/2006/relationships/audio" Target="../media/CLIC.WAV"/><Relationship Id="rId1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DISPARO.WAV"/><Relationship Id="rId6" Type="http://schemas.openxmlformats.org/officeDocument/2006/relationships/audio" Target="../media/DISPARO.WAV"/><Relationship Id="rId7" Type="http://schemas.openxmlformats.org/officeDocument/2006/relationships/audio" Target="../media/DISPARO.WAV"/><Relationship Id="rId8" Type="http://schemas.openxmlformats.org/officeDocument/2006/relationships/audio" Target="../media/DISPARO.WAV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5216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3333cc"/>
                </a:solidFill>
                <a:latin typeface="Arial Black"/>
              </a:rPr>
              <a:t>Evaluación de Proyectos</a:t>
            </a:r>
            <a:br>
              <a:rPr sz="7200"/>
            </a:br>
            <a:br>
              <a:rPr sz="7200"/>
            </a:b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REN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143000" y="958320"/>
            <a:ext cx="777240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6 Generación y análisis de la idea de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crucial contar con un buen diagnóstico, de modo que la generación de una idea de proyecto de inversión surja como consecuencia clara de necesidades insatisfechas, de objetivos y/o políticas generales de la organización, de un plan de desarrollo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establecer su magnitud, a quienes afecta y la confiabilidad de la información utilizada. Así como también las alternativas disponi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l análisis surgirá la especificación precisa del bien que se desea construir o el servicio que se pretende dar. Y servirá para adoptar la decisión de abandonar, postergar o profundizar la idea de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143000" y="958320"/>
            <a:ext cx="7772400" cy="53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7 Estudio en el Nivel de Perf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studian los antecedentes que permitan formar un juicio respecto de la conveniencia  y factibilidad técnico-económica de llevar a cabo la idea de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énfasis está en identificar los beneficios y costos pertinentes respecto de la situación base (situación actual optimizada), sin incurrir en mayores costos en recursos financieros y humanos para medirlos y valorarl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be incluir un análisis preliminar de los aspectos técnicos, estudios de mercado y los de evalu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utilizan estimaciones gruesas de los beneficios y costos.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Generalmente basadas en información exist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cide abandonar, postergar o profundizar el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43000" y="853560"/>
            <a:ext cx="7772400" cy="55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8 Estudio de Prefactibi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énfasis de esta etapa es medir los beneficios y costos identificados en la etapa de perf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do lo anterior permite tener una estimación de los montos de inversión, costos de operación y de los ingresos que generaría el proyecto durante su vida útil. Lo que se utiliza para la evaluación económica y para determinar las alternativas más renta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viene sensibilizar los resultados de la evaluación a cambios en las variables más impor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cide realizar el proyecto o postergar, abandonar o profundizar 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9 Estudio de Factibi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143000" y="151884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coordinar la organización, puesta en marcha y operación del proyecto. Determinar el calendario de desembolsos para la inversión, disponibilidad de equipos y sus plazos, anteproyecto de ingeniería, selección y entrenamiento del personal de administración, operación y manteni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uentes, condiciones y plazos de financi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143000" y="888840"/>
            <a:ext cx="7772400" cy="56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0 Tipos de Evalu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Según para quien se evalué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mismo proyecto se puede evaluar desde diferentes puntos de vista y arrojar diferentes result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 ocurre porque los proyectos afectan de diferente manera a los agentes involucrados, quienes tienen, por lo general, diferentes objetivos e intere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 Proyecto de vertedero para las comunas del centro-sur de Santiag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Inversionis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Municip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Vecinos de municip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Vecinos del se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Paí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3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3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3000" y="64764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 Proyecto de inversión extranjera mix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Inversionista n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Inversionista extranj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Bancos que aportan financia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Estado n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Gobierno reg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Gobierno extranj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Privad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desde la perspectiva de un agente económico privado o individual (persona, empresa, grupo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Social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desde la perspectiva del conjunto del país (sociedad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siempre un proyecto que es rentable para un privado lo será también para la comunidad, y vicever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Según el momento en que se realic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x Ante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en el período de preinversión, entrega una recomendación sobre la conveniencia de realizar el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x Post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una vez ejecutado el proyecto, sirve para estimar los verdaderos beneficios del proyecto, encontrar las fuentes de error y generar aprendizaj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143000" y="7664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1 Preparación y evaluación de proyectos (Contenidos mínim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I. Preparación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Antecedentes gener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, ámbito o sector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bicación de la zona de e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generales de la zona en estudio (culturales, económicas, políticas, et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ción de segmentos producto - merc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generales de los gestores del proyecto (aspectos organizacionales, marco legal, aspectos de cultura organizativa, et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as informaciones  relevantes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trevistas con expertos o personas experimentadas en el t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copilación bibliográfica (incluye estudios anteriores a nivel de perfil, prefactibilidad o factibilidad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0" algn="just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0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3000" y="766440"/>
            <a:ext cx="7772400" cy="58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2" marL="45216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)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udio de merc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5216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8576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pecificación de el (los) producto (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 histórica y sus factores de incid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líticas y métodos de tarificación y prec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 actual y proyec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calización y concentración de la ofer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bertura geográf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tricciones de disponibilidad de recurs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indent="0" algn="just">
              <a:lnSpc>
                <a:spcPct val="75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8576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histórica y factores de incid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actual y proyec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gmentación de la dem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calización de la dem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centración de la demanda (por áreas geográficas, por segmentos, por ingreso, et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po de consumo (residencial, comercial, industri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5216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ste punto puede/debe ser complement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4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4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143000" y="1550520"/>
            <a:ext cx="7772400" cy="55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c)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Diagnós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0" algn="just">
              <a:lnSpc>
                <a:spcPct val="75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tecedentes generales + estudio de mercado 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definición de situación sin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jemplos de resultados de diagnós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Demanda insatisfech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ala calidad de los servic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0" algn="just">
              <a:lnSpc>
                <a:spcPct val="75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d)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Optimización de la situación act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Los beneficios netos de se obtienen comparando la situación con proyecto con la sin proyecto 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optimizada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situación base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), evitando que se asignen al proyecto beneficios que no  correspond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jemplo de optimizaciones de la situación act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diseño de procesos y reingenier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ejoras en la gest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odificaciones que impliquen inversiones margi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143000" y="1779120"/>
            <a:ext cx="77724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 Obje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ar un vocabulario común y una visión general sobre qué es la Evaluación de Proyec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2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a idea de cambio en la asignación actual de recursos que sigue un objetivo y que genera beneficios y costos, cualitativos y cuantitativos, tanto al realizador del proyecto como a tercer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elegir una carr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plantación y tala de un bosque de pi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obras de benefic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lanzar un nuevo produ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mejoramiento de una carret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3000" y="38088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lvl="1" marL="356760" indent="-96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e)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Generación de alternativas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Las alternativas generadas deben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Permitir solucionar y/o aprovechar las oportunidades identificadas en el diagnóst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técnicamente facti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económicamente facti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fundamentalmente distintas entre s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comparables en términos de result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f)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lección (preselección) de alterna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56760" indent="-96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 deberá analizar la conveniencia de las distintas alternativas comparándolas entre sí de acuerdo a criterios técnicos y económ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56760" indent="0" algn="just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56760" indent="-96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Para la (s) alternativa(s) seleccionada (s) se debe analiz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Tamaño óptimo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Localización ópti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omento óptimo para realizar 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Prediseño (obras civiles, equipamiento, insum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Evaluación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 Estimación de beneficios y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stimación de b y c es un proceso de tres pasos sucesivos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di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pendiendo del agente que hace la estimación tendremos byc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v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78408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78408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 (valorables), no cuantificables (no valor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, no cuantifica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b y c directos e indirectos cuantificables deben ser estimados según algún numerario común (normalmente $ de hoy), en cambio los no cuantificables deben ser identificados y medidos en las unidades que resulte pertin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 : beneficio no cuantificable de un proyecto de semaforización : disminución de accid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 Cálculo de indica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 presente neto (vpn o va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sa interna de retorno (t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íodo de recuperación del capital (pr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 Financia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álisis de las distintas alternativas, se deberá analizar temas como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 vs. Arrien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 vs. Leas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easing vs. Arrien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centajes de capital propio vs. Deu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álisis comparativo de distintas instituciones financie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7840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vaproy2.Do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4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4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4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4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4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4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42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42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42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42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42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42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42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42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42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2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2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42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42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42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42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42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42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42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42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2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2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42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42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42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42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42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42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42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42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42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42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42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42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42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42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42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42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42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42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42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42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42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42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42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42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42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42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42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42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42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42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42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42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7" end="6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42">
                                            <p:txEl>
                                              <p:pRg st="67" end="6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42">
                                            <p:txEl>
                                              <p:pRg st="67" end="6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II. Evaluación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stimación de beneficios y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stimación de beneficios y costos es un proceso de tres pasos sucesiv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38920" indent="-223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ción / Medición / Valo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pende del agente que hace la estimación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38920" indent="-223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v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 (valorables), no cuantificables (no valor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38920" indent="-223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, no cuantifica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b y c directos e indirectos cuantificables deben ser estimados según algún numerario común (normalmente $ de hoy), los no cuantificables deben ser identificados y medidos en las unidades que resulte pertin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 : beneficio no (o menos) cuantificable de un proyecto de semaforización : disminución de accid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4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4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143000" y="1884240"/>
            <a:ext cx="777240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álculo de indica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 presente neto (VPN o VA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sa interna de retorno (T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íodo de recuperación del capital (PR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Financia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nálisis de las distintas alternativas, se deberá analizar temas como 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centajes de capital propio vs. Deud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icitud de préstam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misión de bo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misión de ac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066680" y="17524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509040" indent="0">
              <a:lnSpc>
                <a:spcPct val="125000"/>
              </a:lnSpc>
              <a:buNone/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ES_tradnl" sz="4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es-ES_tradnl" sz="4400" spc="-1" strike="noStrike">
                <a:solidFill>
                  <a:srgbClr val="a50021"/>
                </a:solidFill>
                <a:latin typeface="Tahoma"/>
              </a:rPr>
              <a:t>ANÁLISIS ESTRATÉGICO DEL MERCAD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Planificación Estratég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 proceso organizacional que apunta a la especificación de la estrategia de una firma y la asignación de las tareas y responsabilidades necesarias para llevarla a cab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lación con la Evaluación de Proyectos:  Muchas veces un proyecto es parte de una estrategia más general, o bien, algunas veces una idea de proyecto da origen a una nueva estrateg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ceso de Planificación Estratégica consiste 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r la visión de la organización: misión, segmentar los negocios/actividades, determinar el grado de integración horizontal y vertical, filosofía/cultura de la organización y tópicos especiales con significación estratég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sión del negocio: identificación de segmentos de producto-mercado, ámbitos del negocio/actividad y forma de mantener un liderazgo competitiv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Planificación Estratég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633680" y="3092400"/>
            <a:ext cx="5010120" cy="26654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022400" y="2049480"/>
            <a:ext cx="694224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mulación de  la estrategia de negocios y programas generales de 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21600" y="6023880"/>
            <a:ext cx="6887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uente: GERENCIA DE PROYECTOS POR VALOR GANADO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César Augusto Leal Coronado*, Germán Gutiérrez Pache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Escuela Colombiana de Ingeniería, 2007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ceso de Planificación Estratégica de Negoc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2743200" y="1066680"/>
            <a:ext cx="4572000" cy="1067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isión d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ámbitos: de producto, de mercado y geo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identificación de las competencias distin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modo de conseguir un liderazgo competiti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2209680"/>
            <a:ext cx="335268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In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Desempeño pasado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yecciones futu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dentificación de factores in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ríticos para lograr una vent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peti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finición de Fortaleza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86400" y="2209680"/>
            <a:ext cx="335268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Desempeño pasado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yecciones futu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dentificación de factores ex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ue contribuyen al atractivo de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dust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finición de Oport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y Amena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52680" y="4343400"/>
            <a:ext cx="335304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ormulación de la Estrate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 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junto de programas gene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 acción a lo largo del a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352680" y="5334120"/>
            <a:ext cx="3353040" cy="914400"/>
            <a:chOff x="3352680" y="5334120"/>
            <a:chExt cx="3353040" cy="914400"/>
          </a:xfrm>
        </p:grpSpPr>
        <p:sp>
          <p:nvSpPr>
            <p:cNvPr id="257" name=""/>
            <p:cNvSpPr/>
            <p:nvPr/>
          </p:nvSpPr>
          <p:spPr>
            <a:xfrm>
              <a:off x="3352680" y="5410080"/>
              <a:ext cx="3353040" cy="838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ogramación Estratég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Definición y evaluación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programas específicos de a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29200" y="5334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352680" y="6248520"/>
            <a:ext cx="3353040" cy="380520"/>
            <a:chOff x="3352680" y="6248520"/>
            <a:chExt cx="3353040" cy="380520"/>
          </a:xfrm>
        </p:grpSpPr>
        <p:sp>
          <p:nvSpPr>
            <p:cNvPr id="260" name=""/>
            <p:cNvSpPr/>
            <p:nvPr/>
          </p:nvSpPr>
          <p:spPr>
            <a:xfrm>
              <a:off x="3352680" y="6302520"/>
              <a:ext cx="3353040" cy="3265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esupuesto y Control de Gest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29200" y="624852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895480" y="2133720"/>
            <a:ext cx="4419720" cy="2209680"/>
            <a:chOff x="2895480" y="2133720"/>
            <a:chExt cx="4419720" cy="2209680"/>
          </a:xfrm>
        </p:grpSpPr>
        <p:sp>
          <p:nvSpPr>
            <p:cNvPr id="263" name=""/>
            <p:cNvSpPr/>
            <p:nvPr/>
          </p:nvSpPr>
          <p:spPr>
            <a:xfrm>
              <a:off x="5029200" y="213372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95480" y="4114800"/>
              <a:ext cx="2057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05520" y="4114800"/>
              <a:ext cx="22096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nálisis del Medio Exter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nálisis Estructural del Sector Industrial o el Modelo de las Cinco Fuerzas Competitivas (Michael Porter, Profesor de Harvard University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tula que hay cinco fuerzas que conforman la estructura de una industri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ensidad de la rivalidad entre competi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menaza de nuevos participa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menaza de Sustitu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der de Negociación de los Provee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der de Negociación de los Compra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s fuerzas delimitan precios, costos y requerimientos de inversión, que constituyen los factores explicativos de la rentabilidad esperada de largo plazo de la industr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828960" y="2381400"/>
            <a:ext cx="2266920" cy="21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mpet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57960" y="2914560"/>
            <a:ext cx="1619280" cy="68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mp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66680" y="2914560"/>
            <a:ext cx="1619280" cy="68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81400" y="5648400"/>
            <a:ext cx="1619280" cy="68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usti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81400" y="533520"/>
            <a:ext cx="1619280" cy="68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ue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articip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186280" y="2203560"/>
            <a:ext cx="1675800" cy="1282680"/>
            <a:chOff x="2186280" y="2203560"/>
            <a:chExt cx="1675800" cy="1282680"/>
          </a:xfrm>
        </p:grpSpPr>
        <p:sp>
          <p:nvSpPr>
            <p:cNvPr id="273" name=""/>
            <p:cNvSpPr/>
            <p:nvPr/>
          </p:nvSpPr>
          <p:spPr>
            <a:xfrm>
              <a:off x="2685960" y="3029040"/>
              <a:ext cx="1143000" cy="457200"/>
            </a:xfrm>
            <a:prstGeom prst="rightArrow">
              <a:avLst>
                <a:gd name="adj1" fmla="val 50000"/>
                <a:gd name="adj2" fmla="val 625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86280" y="2203560"/>
              <a:ext cx="16758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oder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egoc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e Provee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268160" y="2666880"/>
            <a:ext cx="1489680" cy="1827720"/>
            <a:chOff x="4268160" y="2666880"/>
            <a:chExt cx="1489680" cy="1827720"/>
          </a:xfrm>
        </p:grpSpPr>
        <p:sp>
          <p:nvSpPr>
            <p:cNvPr id="276" name=""/>
            <p:cNvSpPr/>
            <p:nvPr/>
          </p:nvSpPr>
          <p:spPr>
            <a:xfrm flipV="1">
              <a:off x="4552920" y="2666880"/>
              <a:ext cx="919080" cy="990720"/>
            </a:xfrm>
            <a:custGeom>
              <a:avLst/>
              <a:gdLst>
                <a:gd name="textAreaLeft" fmla="*/ 0 w 919080"/>
                <a:gd name="textAreaRight" fmla="*/ 919440 w 919080"/>
                <a:gd name="textAreaTop" fmla="*/ 360 h 990720"/>
                <a:gd name="textAreaBottom" fmla="*/ 9914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68160" y="3701880"/>
              <a:ext cx="148968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Rivalidad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ompeti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ct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452040" y="4514760"/>
            <a:ext cx="1777320" cy="1123920"/>
            <a:chOff x="3452040" y="4514760"/>
            <a:chExt cx="1777320" cy="1123920"/>
          </a:xfrm>
        </p:grpSpPr>
        <p:sp>
          <p:nvSpPr>
            <p:cNvPr id="279" name=""/>
            <p:cNvSpPr/>
            <p:nvPr/>
          </p:nvSpPr>
          <p:spPr>
            <a:xfrm>
              <a:off x="3452040" y="4946760"/>
              <a:ext cx="143964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menaza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Sustit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72160" y="4514760"/>
              <a:ext cx="457200" cy="1123920"/>
            </a:xfrm>
            <a:prstGeom prst="upArrow">
              <a:avLst>
                <a:gd name="adj1" fmla="val 50000"/>
                <a:gd name="adj2" fmla="val 6145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083280" y="3048120"/>
            <a:ext cx="1812960" cy="1319760"/>
            <a:chOff x="6083280" y="3048120"/>
            <a:chExt cx="1812960" cy="1319760"/>
          </a:xfrm>
        </p:grpSpPr>
        <p:sp>
          <p:nvSpPr>
            <p:cNvPr id="282" name=""/>
            <p:cNvSpPr/>
            <p:nvPr/>
          </p:nvSpPr>
          <p:spPr>
            <a:xfrm>
              <a:off x="6083280" y="3575160"/>
              <a:ext cx="181296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oder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egoc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e Compr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105600" y="3048120"/>
              <a:ext cx="1152360" cy="419040"/>
            </a:xfrm>
            <a:prstGeom prst="leftArrow">
              <a:avLst>
                <a:gd name="adj1" fmla="val 50000"/>
                <a:gd name="adj2" fmla="val 6875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772160" y="1219320"/>
            <a:ext cx="1744920" cy="1162080"/>
            <a:chOff x="4772160" y="1219320"/>
            <a:chExt cx="1744920" cy="1162080"/>
          </a:xfrm>
        </p:grpSpPr>
        <p:sp>
          <p:nvSpPr>
            <p:cNvPr id="285" name=""/>
            <p:cNvSpPr/>
            <p:nvPr/>
          </p:nvSpPr>
          <p:spPr>
            <a:xfrm>
              <a:off x="5039280" y="1289160"/>
              <a:ext cx="14778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menaza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uev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articipa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0800000">
              <a:off x="4772160" y="1219320"/>
              <a:ext cx="457200" cy="1162080"/>
            </a:xfrm>
            <a:prstGeom prst="upArrow">
              <a:avLst>
                <a:gd name="adj1" fmla="val 50000"/>
                <a:gd name="adj2" fmla="val 6354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1430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s barreras a la entrada están relacionadas positivamente con el atractivo de la industria. En tanto que las barreras a la salida aumentan la inestabilidad (riesgo) del nego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entar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todas las fuerzas son igualmente importa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todos los factores son igualmente impor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todos los factores están en la lista (son una guí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3800520" y="22287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lta y 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86520" y="22287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 alt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ro probabl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0520" y="31431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a y 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86520" y="31431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 baj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ro probabl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42280" y="2867040"/>
            <a:ext cx="1349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r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33680" y="2523960"/>
            <a:ext cx="1157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ev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71840" y="3457440"/>
            <a:ext cx="790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10800" y="1228680"/>
            <a:ext cx="1155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r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 sa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53080" y="1704960"/>
            <a:ext cx="1157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ev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29240" y="1743120"/>
            <a:ext cx="790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8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8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8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8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8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8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04800" y="609480"/>
            <a:ext cx="6229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oyectos y sistema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09800" y="1752480"/>
            <a:ext cx="2666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ores e insu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67320" y="1733400"/>
            <a:ext cx="2666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95760" y="3314880"/>
            <a:ext cx="2324160" cy="2133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95720" y="386712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stema Produ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38400" y="245736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38400" y="28386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38400" y="323856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76200" y="3638520"/>
            <a:ext cx="19080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4038480"/>
            <a:ext cx="19080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14360" y="445788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33440" y="53532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33440" y="491508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33440" y="58104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38920" y="325764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77080" y="386712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33440" y="62676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53400" y="445788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10840" y="2333520"/>
            <a:ext cx="1598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no de o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400" y="2771640"/>
            <a:ext cx="1442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41040" y="3781440"/>
            <a:ext cx="1335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22880" y="3152880"/>
            <a:ext cx="657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 +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02160" y="3133800"/>
            <a:ext cx="141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82200" y="3571920"/>
            <a:ext cx="1826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terias pr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22520" y="3971880"/>
            <a:ext cx="97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2720" y="4410000"/>
            <a:ext cx="1128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83640" y="4867200"/>
            <a:ext cx="108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rre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40880" y="5286240"/>
            <a:ext cx="1017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41240" y="5819760"/>
            <a:ext cx="133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99560" y="6143760"/>
            <a:ext cx="913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93680" y="4390920"/>
            <a:ext cx="1128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67200" y="2571840"/>
            <a:ext cx="12571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67200" y="3105000"/>
            <a:ext cx="100944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3448080"/>
            <a:ext cx="1067040" cy="133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90840" y="3886200"/>
            <a:ext cx="304920" cy="1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62280" y="4286160"/>
            <a:ext cx="723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819520" y="4590720"/>
            <a:ext cx="7426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705040" y="5028840"/>
            <a:ext cx="914400" cy="190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743200" y="5314680"/>
            <a:ext cx="971640" cy="36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029040" y="5543280"/>
            <a:ext cx="95256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238560" y="5753160"/>
            <a:ext cx="857160" cy="66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000840" y="3390840"/>
            <a:ext cx="857160" cy="285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153120" y="4114440"/>
            <a:ext cx="628560" cy="95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29440" y="4629240"/>
            <a:ext cx="666720" cy="57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trabajo pionero de Porter (o la matriz del BCS) comienza a ser cuestionado después de un tiemp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factores determinantes de la rentabilidad tendrían que ver más con factores propios de cada empresa (más que con la industri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propio Porter y otros desarrollan el modelo de la cadena de va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oco se traslada de la industria a la compañía (y de los productos a los client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1143000" y="94284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nálisis del Medio Inter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análisis del medio interno intenta identificar el conjunto de factores que determina la posición competitiva que va a adoptar el negocio a fin de obtener una ventaja competitiva sosten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metodología para realizar el análisis 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r los competidores releva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alizar las capacidades que la firma puede controlar y en las que tiene que sobresalir para lograr una ventaja competitiva sosten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o de un perfil competitivo midiendo fortalezas y debilidades del negocio frente a cada uno de los competidores de mayor importa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umen de las fortalezas y debilidades gener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0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nálisis de las Capacidades de la Firm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 requiere de conocer las actividades de la firma que otorgan valor y separalas en etapas estratégicamente relev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metodología utilizada es la Cadena del Val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0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143000" y="1413000"/>
            <a:ext cx="7772400" cy="54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y dos grupos de actividades: las primarias y las de apoy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ctividades Primari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Logística Intern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ecepción, almacenaje, manejo de materiales, bodegaje, control de inventario, programación de vehículos y devolución a provee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Operacione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transformación de los insumos en el producto/servicio final. Producción, embalaje, montaje, mantenimiento, control de calidad, reemplazo de equi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Logística Extern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istribución del producto terminado. Almacenaje de productos terminados, operación de vehículos de despacho, procesamiento y programación de pedi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Marketing y Venta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inducir y facilitar el proceso de compra a los clientes. Diseño de producto, selección y relación con canales de distribución, determinación de precios, apoyo publicitario, cotizaciones, política de descuentos y despach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1143000" y="1727280"/>
            <a:ext cx="777240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Servici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antener o acrecentar el valor del producto después de la venta. Instalación, reparación, entrenamiento, suministro de repuestos y ajustes del produ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ctividades de Apoy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Adquisicione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ompra de materias primas, suministros y otros íte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Desarrollo de Tecnologí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onocimiento experto, procedimientos e insumos tecnológicos que precise cada actividad de la cadena del val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Manejo de Recursos Humano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lección, promoción y colocación; evaluación, recompensas, desarrollo administrativo y relación accionistas(dueños) / ejecutivos / emple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Infraestructura de la Firm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gestión general, planificación, finanzas, manejo contable, legal, asuntos de gobierno y gestión de ca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1143000" y="46044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dena del Val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507672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4328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0984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7640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6408720" y="3836880"/>
            <a:ext cx="2189160" cy="2733840"/>
            <a:chOff x="6408720" y="3836880"/>
            <a:chExt cx="2189160" cy="2733840"/>
          </a:xfrm>
        </p:grpSpPr>
        <p:sp>
          <p:nvSpPr>
            <p:cNvPr id="308" name=""/>
            <p:cNvSpPr/>
            <p:nvPr/>
          </p:nvSpPr>
          <p:spPr>
            <a:xfrm flipV="1">
              <a:off x="7746840" y="3836880"/>
              <a:ext cx="851040" cy="2733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08720" y="6570720"/>
              <a:ext cx="1349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34520" y="5103720"/>
              <a:ext cx="97020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Servi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076400" y="1084320"/>
            <a:ext cx="6657840" cy="696960"/>
            <a:chOff x="1076400" y="1084320"/>
            <a:chExt cx="6657840" cy="696960"/>
          </a:xfrm>
        </p:grpSpPr>
        <p:sp>
          <p:nvSpPr>
            <p:cNvPr id="312" name=""/>
            <p:cNvSpPr/>
            <p:nvPr/>
          </p:nvSpPr>
          <p:spPr>
            <a:xfrm>
              <a:off x="3066480" y="1212840"/>
              <a:ext cx="28965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nfraestructura de la Fir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1076400" y="1084320"/>
              <a:ext cx="0" cy="696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076400" y="1085760"/>
              <a:ext cx="6657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076400" y="1770120"/>
            <a:ext cx="6877080" cy="696960"/>
            <a:chOff x="1076400" y="1770120"/>
            <a:chExt cx="6877080" cy="696960"/>
          </a:xfrm>
        </p:grpSpPr>
        <p:sp>
          <p:nvSpPr>
            <p:cNvPr id="316" name=""/>
            <p:cNvSpPr/>
            <p:nvPr/>
          </p:nvSpPr>
          <p:spPr>
            <a:xfrm>
              <a:off x="6410520" y="1771560"/>
              <a:ext cx="1542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58760" y="1898640"/>
              <a:ext cx="31600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Manejo de Recursos Human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076400" y="1770120"/>
              <a:ext cx="5343840" cy="696960"/>
              <a:chOff x="1076400" y="1770120"/>
              <a:chExt cx="5343840" cy="696960"/>
            </a:xfrm>
          </p:grpSpPr>
          <p:sp>
            <p:nvSpPr>
              <p:cNvPr id="319" name=""/>
              <p:cNvSpPr/>
              <p:nvPr/>
            </p:nvSpPr>
            <p:spPr>
              <a:xfrm flipV="1">
                <a:off x="1076400" y="1770120"/>
                <a:ext cx="0" cy="696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076400" y="1771560"/>
                <a:ext cx="534384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1076400" y="2455920"/>
            <a:ext cx="7105680" cy="696960"/>
            <a:chOff x="1076400" y="2455920"/>
            <a:chExt cx="7105680" cy="696960"/>
          </a:xfrm>
        </p:grpSpPr>
        <p:sp>
          <p:nvSpPr>
            <p:cNvPr id="322" name=""/>
            <p:cNvSpPr/>
            <p:nvPr/>
          </p:nvSpPr>
          <p:spPr>
            <a:xfrm>
              <a:off x="6410520" y="2457360"/>
              <a:ext cx="1771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38200" y="2546280"/>
              <a:ext cx="26236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esarrollo de Tecnologí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1076400" y="2455920"/>
              <a:ext cx="5343840" cy="696960"/>
              <a:chOff x="1076400" y="2455920"/>
              <a:chExt cx="5343840" cy="696960"/>
            </a:xfrm>
          </p:grpSpPr>
          <p:sp>
            <p:nvSpPr>
              <p:cNvPr id="325" name=""/>
              <p:cNvSpPr/>
              <p:nvPr/>
            </p:nvSpPr>
            <p:spPr>
              <a:xfrm flipV="1">
                <a:off x="1076400" y="2455920"/>
                <a:ext cx="0" cy="696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076400" y="2457360"/>
                <a:ext cx="534384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7" name=""/>
          <p:cNvGrpSpPr/>
          <p:nvPr/>
        </p:nvGrpSpPr>
        <p:grpSpPr>
          <a:xfrm>
            <a:off x="1076400" y="3141720"/>
            <a:ext cx="7524360" cy="696960"/>
            <a:chOff x="1076400" y="3141720"/>
            <a:chExt cx="7524360" cy="696960"/>
          </a:xfrm>
        </p:grpSpPr>
        <p:sp>
          <p:nvSpPr>
            <p:cNvPr id="328" name=""/>
            <p:cNvSpPr/>
            <p:nvPr/>
          </p:nvSpPr>
          <p:spPr>
            <a:xfrm>
              <a:off x="6410160" y="3828960"/>
              <a:ext cx="2190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10160" y="3143160"/>
              <a:ext cx="19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78480" y="3251160"/>
              <a:ext cx="15386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dquisi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1076400" y="3141720"/>
              <a:ext cx="5343480" cy="696960"/>
              <a:chOff x="1076400" y="3141720"/>
              <a:chExt cx="5343480" cy="696960"/>
            </a:xfrm>
          </p:grpSpPr>
          <p:sp>
            <p:nvSpPr>
              <p:cNvPr id="332" name=""/>
              <p:cNvSpPr/>
              <p:nvPr/>
            </p:nvSpPr>
            <p:spPr>
              <a:xfrm flipV="1">
                <a:off x="1076400" y="3141720"/>
                <a:ext cx="0" cy="696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076400" y="3143160"/>
                <a:ext cx="534348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" name=""/>
          <p:cNvGrpSpPr/>
          <p:nvPr/>
        </p:nvGrpSpPr>
        <p:grpSpPr>
          <a:xfrm>
            <a:off x="2409840" y="1771200"/>
            <a:ext cx="4000320" cy="2057760"/>
            <a:chOff x="2409840" y="1771200"/>
            <a:chExt cx="4000320" cy="2057760"/>
          </a:xfrm>
        </p:grpSpPr>
        <p:sp>
          <p:nvSpPr>
            <p:cNvPr id="335" name=""/>
            <p:cNvSpPr/>
            <p:nvPr/>
          </p:nvSpPr>
          <p:spPr>
            <a:xfrm flipV="1">
              <a:off x="5076720" y="1771200"/>
              <a:ext cx="0" cy="20480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743280" y="1781280"/>
              <a:ext cx="0" cy="20476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409840" y="1781280"/>
              <a:ext cx="0" cy="20476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410160" y="1771200"/>
              <a:ext cx="0" cy="20480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7734240" y="1085760"/>
            <a:ext cx="1190520" cy="5486400"/>
            <a:chOff x="7734240" y="1085760"/>
            <a:chExt cx="1190520" cy="5486400"/>
          </a:xfrm>
        </p:grpSpPr>
        <p:sp>
          <p:nvSpPr>
            <p:cNvPr id="340" name=""/>
            <p:cNvSpPr/>
            <p:nvPr/>
          </p:nvSpPr>
          <p:spPr>
            <a:xfrm flipV="1">
              <a:off x="8072280" y="3827160"/>
              <a:ext cx="851040" cy="2733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753320" y="1085760"/>
              <a:ext cx="84780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76960" y="1095480"/>
              <a:ext cx="84780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34240" y="1085760"/>
              <a:ext cx="352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753320" y="6572160"/>
              <a:ext cx="352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Ventajas competitiv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¿Tecnología?, ¿operaciones?: Se consideraron alguna vez como fuente de ventajas competi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oy son prerequisi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 requiere cada vez más: Flexibilidad ante el cambio (fuente de ventaj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éxito de ayer no es garantía de éxito en el futuro, por el contrario, parece desventaja e impedimento a la innov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Ventajas competitiv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Jack Welch, CEO de General Electri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 que fue la clave del éxito en los 70, es una receta para marcar el paso en los 80 y un boleto para el cementerio en los 90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oy no podemos hablar de buenas o malas insdustrias (v.g. El “Análisis estructural de los sectores industriales” de los primeros trabajos de Porter) sino de buenas o malas empres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486080" y="3029040"/>
            <a:ext cx="175248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valua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467000" y="380880"/>
            <a:ext cx="7315200" cy="1390680"/>
            <a:chOff x="1467000" y="380880"/>
            <a:chExt cx="7315200" cy="1390680"/>
          </a:xfrm>
        </p:grpSpPr>
        <p:sp>
          <p:nvSpPr>
            <p:cNvPr id="132" name=""/>
            <p:cNvSpPr/>
            <p:nvPr/>
          </p:nvSpPr>
          <p:spPr>
            <a:xfrm>
              <a:off x="3219480" y="609480"/>
              <a:ext cx="198108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00360" y="609480"/>
              <a:ext cx="175284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95800" y="533520"/>
              <a:ext cx="2666880" cy="10666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67000" y="43812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bjetiv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24400" y="380880"/>
              <a:ext cx="5257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76480" y="116208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409760" y="1752480"/>
            <a:ext cx="1752480" cy="1295280"/>
            <a:chOff x="1409760" y="1752480"/>
            <a:chExt cx="1752480" cy="1295280"/>
          </a:xfrm>
        </p:grpSpPr>
        <p:sp>
          <p:nvSpPr>
            <p:cNvPr id="139" name=""/>
            <p:cNvSpPr/>
            <p:nvPr/>
          </p:nvSpPr>
          <p:spPr>
            <a:xfrm>
              <a:off x="1409760" y="175248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Generación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lternativ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14640" y="2457360"/>
              <a:ext cx="533160" cy="590400"/>
            </a:xfrm>
            <a:prstGeom prst="downArrow">
              <a:avLst>
                <a:gd name="adj1" fmla="val 50000"/>
                <a:gd name="adj2" fmla="val 27684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190600" y="38289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42960" y="4438800"/>
            <a:ext cx="175284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oriz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09560" y="-68400"/>
            <a:ext cx="4089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l proceso de to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e deci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19280" y="5695920"/>
            <a:ext cx="175248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cu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3466800" y="59241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47840" y="5105520"/>
            <a:ext cx="533520" cy="590400"/>
          </a:xfrm>
          <a:prstGeom prst="downArrow">
            <a:avLst>
              <a:gd name="adj1" fmla="val 50000"/>
              <a:gd name="adj2" fmla="val 27665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53280" y="5730840"/>
            <a:ext cx="2774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gro 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90680" y="5486400"/>
            <a:ext cx="775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39520" y="4753080"/>
            <a:ext cx="19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57880" y="5514840"/>
            <a:ext cx="2352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86240" y="3124080"/>
            <a:ext cx="914400" cy="1809720"/>
          </a:xfrm>
          <a:custGeom>
            <a:avLst/>
            <a:gdLst>
              <a:gd name="textAreaLeft" fmla="*/ 0 w 914400"/>
              <a:gd name="textAreaRight" fmla="*/ 330120 w 914400"/>
              <a:gd name="textAreaTop" fmla="*/ 47160 h 1809720"/>
              <a:gd name="textAreaBottom" fmla="*/ 176256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08360" y="3701880"/>
            <a:ext cx="4345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terios coherentes con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43000" y="85716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4 Evaluación de Proy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borda en forma explícita el problema de la asignación de recursos escasos en forma óptim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comienda al tomador de decisiones, a través de distintas metodologías, para determinar la conveniencia relativa de una acción o un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562040" y="3581280"/>
            <a:ext cx="175284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24400" y="3562200"/>
            <a:ext cx="5333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467000" y="704880"/>
            <a:ext cx="7315200" cy="1390680"/>
            <a:chOff x="1467000" y="704880"/>
            <a:chExt cx="7315200" cy="1390680"/>
          </a:xfrm>
        </p:grpSpPr>
        <p:sp>
          <p:nvSpPr>
            <p:cNvPr id="157" name=""/>
            <p:cNvSpPr/>
            <p:nvPr/>
          </p:nvSpPr>
          <p:spPr>
            <a:xfrm>
              <a:off x="3219480" y="933480"/>
              <a:ext cx="198108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00360" y="933480"/>
              <a:ext cx="175284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95800" y="857520"/>
              <a:ext cx="2666880" cy="10666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67000" y="76212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reinvers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24400" y="704880"/>
              <a:ext cx="5257800" cy="12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Se prepara y evalúa el proyecto de manera de obtener de él, el máximo excedente económico  a lo largo de su vida útil, realizando para esto estudios de mercado, técnicos, económicos, financieros y otro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76480" y="148608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447920" y="21906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2133720"/>
            <a:ext cx="5257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14640" y="2952720"/>
            <a:ext cx="533160" cy="609480"/>
          </a:xfrm>
          <a:prstGeom prst="downArrow">
            <a:avLst>
              <a:gd name="adj1" fmla="val 50000"/>
              <a:gd name="adj2" fmla="val 28579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70240" y="44280"/>
            <a:ext cx="3094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Ciclo de u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3680" indent="-10476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, mide y valoriza, cuantitativa y cualitativamente, los beneficios y costos para la persona(s) o instituciones relev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-10476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inversión será rentable si permite un aumento mayor en la riqueza que el que se podría obtener utilizando los recursos en otras inversiones alterna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5 Etapas de la Evaluación de Proy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elección de los mejores proyectos de inversión, es decir, los de mayor conveniencia relativa (evaluación) y hacia los cuales deben destinarse preferentemente los recursos disponibles, constituye un proceso que sigue las siguientes etapas iterativ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09680" y="4057560"/>
            <a:ext cx="5791320" cy="685800"/>
            <a:chOff x="2209680" y="4057560"/>
            <a:chExt cx="5791320" cy="685800"/>
          </a:xfrm>
        </p:grpSpPr>
        <p:sp>
          <p:nvSpPr>
            <p:cNvPr id="169" name=""/>
            <p:cNvSpPr/>
            <p:nvPr/>
          </p:nvSpPr>
          <p:spPr>
            <a:xfrm>
              <a:off x="2209680" y="4057560"/>
              <a:ext cx="5791320" cy="45720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Generación y Análisis de la idea del proye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0600" y="4514760"/>
              <a:ext cx="38088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209680" y="4743360"/>
            <a:ext cx="5791320" cy="685800"/>
            <a:chOff x="2209680" y="4743360"/>
            <a:chExt cx="5791320" cy="685800"/>
          </a:xfrm>
        </p:grpSpPr>
        <p:sp>
          <p:nvSpPr>
            <p:cNvPr id="172" name=""/>
            <p:cNvSpPr/>
            <p:nvPr/>
          </p:nvSpPr>
          <p:spPr>
            <a:xfrm>
              <a:off x="2209680" y="4743360"/>
              <a:ext cx="5791320" cy="45720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studio en el Nivel de Perf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00600" y="5200560"/>
              <a:ext cx="38088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09680" y="6114960"/>
            <a:ext cx="5791320" cy="45720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udio de 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209680" y="5429160"/>
            <a:ext cx="5791320" cy="685800"/>
            <a:chOff x="2209680" y="5429160"/>
            <a:chExt cx="5791320" cy="685800"/>
          </a:xfrm>
        </p:grpSpPr>
        <p:sp>
          <p:nvSpPr>
            <p:cNvPr id="176" name=""/>
            <p:cNvSpPr/>
            <p:nvPr/>
          </p:nvSpPr>
          <p:spPr>
            <a:xfrm>
              <a:off x="2209680" y="5429160"/>
              <a:ext cx="5791320" cy="45720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studio de prefactibil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5886360"/>
              <a:ext cx="38088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1486080" y="3029040"/>
            <a:ext cx="175248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467000" y="380880"/>
            <a:ext cx="7315200" cy="1390680"/>
            <a:chOff x="1467000" y="380880"/>
            <a:chExt cx="7315200" cy="1390680"/>
          </a:xfrm>
        </p:grpSpPr>
        <p:sp>
          <p:nvSpPr>
            <p:cNvPr id="181" name=""/>
            <p:cNvSpPr/>
            <p:nvPr/>
          </p:nvSpPr>
          <p:spPr>
            <a:xfrm>
              <a:off x="3219480" y="609480"/>
              <a:ext cx="198108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00360" y="609480"/>
              <a:ext cx="175284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95800" y="533520"/>
              <a:ext cx="2666880" cy="10666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67000" y="43812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Id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24400" y="380880"/>
              <a:ext cx="5257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76480" y="116208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409760" y="1752480"/>
            <a:ext cx="1752480" cy="1295280"/>
            <a:chOff x="1409760" y="1752480"/>
            <a:chExt cx="1752480" cy="1295280"/>
          </a:xfrm>
        </p:grpSpPr>
        <p:sp>
          <p:nvSpPr>
            <p:cNvPr id="188" name=""/>
            <p:cNvSpPr/>
            <p:nvPr/>
          </p:nvSpPr>
          <p:spPr>
            <a:xfrm>
              <a:off x="1409760" y="175248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erf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14640" y="2457360"/>
              <a:ext cx="533160" cy="590400"/>
            </a:xfrm>
            <a:prstGeom prst="downArrow">
              <a:avLst>
                <a:gd name="adj1" fmla="val 50000"/>
                <a:gd name="adj2" fmla="val 27684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190600" y="38289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42960" y="4438800"/>
            <a:ext cx="175284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08480" y="-68400"/>
            <a:ext cx="4133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iclo de vida de u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5695920"/>
            <a:ext cx="175248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3466800" y="59241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47840" y="5105520"/>
            <a:ext cx="533520" cy="590400"/>
          </a:xfrm>
          <a:prstGeom prst="downArrow">
            <a:avLst>
              <a:gd name="adj1" fmla="val 50000"/>
              <a:gd name="adj2" fmla="val 27665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9040" y="5987880"/>
            <a:ext cx="1451880" cy="55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90680" y="5486400"/>
            <a:ext cx="775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39520" y="4753080"/>
            <a:ext cx="19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57880" y="5514840"/>
            <a:ext cx="2352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6240" y="800280"/>
            <a:ext cx="914400" cy="4133520"/>
          </a:xfrm>
          <a:custGeom>
            <a:avLst/>
            <a:gdLst>
              <a:gd name="textAreaLeft" fmla="*/ 0 w 914400"/>
              <a:gd name="textAreaRight" fmla="*/ 330120 w 914400"/>
              <a:gd name="textAreaTop" fmla="*/ 107640 h 4133520"/>
              <a:gd name="textAreaBottom" fmla="*/ 4025880 h 41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13400" y="2540160"/>
            <a:ext cx="1724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360" y="5778360"/>
            <a:ext cx="1334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flipV="1">
            <a:off x="1657440" y="514440"/>
            <a:ext cx="0" cy="28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638360" y="2666880"/>
            <a:ext cx="304704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124080" y="177156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743360" y="91440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400800" y="57240"/>
            <a:ext cx="3047040" cy="159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6667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stos/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981920" y="35812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695600" y="3733560"/>
            <a:ext cx="0" cy="26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62080" y="3753000"/>
            <a:ext cx="2019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rado de Incertid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81520" y="628560"/>
            <a:ext cx="1352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re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38920" y="78120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39160" y="636264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5640" y="4133880"/>
            <a:ext cx="28180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14680" y="4686480"/>
            <a:ext cx="2818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480" y="5295960"/>
            <a:ext cx="3237840" cy="11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95680" y="5867280"/>
            <a:ext cx="361944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mbral de lo previ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143000" y="1919160"/>
            <a:ext cx="777240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a una de ellas busca reproducir el ciclo de vida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2T06:30:40Z</dcterms:created>
  <dc:creator>Eduardo Contreras</dc:creator>
  <dc:description/>
  <dc:language>en-US</dc:language>
  <cp:lastModifiedBy>Eduardo Contreras Villablanca</cp:lastModifiedBy>
  <cp:lastPrinted>1998-09-30T04:31:26Z</cp:lastPrinted>
  <dcterms:modified xsi:type="dcterms:W3CDTF">2007-06-20T21:57:27Z</dcterms:modified>
  <cp:revision>168</cp:revision>
  <dc:subject/>
  <dc:title>Evaluación de Proyectos</dc:title>
</cp:coreProperties>
</file>