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A2B-25E6-4557-A2B9-2318AD0B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E3A-0353-4FB6-9097-9508EE6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F80-18EC-455F-9B51-657D31A9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816-DFF0-4803-BA44-9F858EA3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24E-5FFC-4F83-8995-9AFFAAFB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6CA8-EE37-4A67-8A60-E090ED9E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987C-7B7C-4EC1-B6D6-E8633D28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2749-47C6-460D-8504-5DD2B288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C830-955E-4E81-8F80-7EB50FB9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5E99-A981-4A87-8088-1AF148E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8D97-D50F-4CFD-B7B3-BD18CF7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345-3B07-42F6-BC97-44C1C042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16E4-8B23-4DE3-9F1F-3188F88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E0BD-0CEA-40FC-854E-E997AB5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E3B0-6D0B-4226-A27E-CD01B3B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3EE1-0C64-4316-AA52-04C66EDE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FFE6-1650-4338-989B-791E1A88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72D-A3FD-49FB-88F9-AF9E975B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AEC-7940-46C7-AB65-5986C659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AB1-5555-47F8-81A5-F5AAD325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8E5-6ADB-42B5-A87F-E4822EAD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193-EECB-4D41-B4C6-5E53622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F70-D748-4530-B124-1704FEB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9E5-1D96-472F-B2C3-CD9CF805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80FB-666A-48F2-8078-734E214F11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7C3A-3CD4-475C-952C-BC8C227447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4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4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4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4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2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2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2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2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2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2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2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2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2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2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2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2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2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2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2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2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2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2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2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2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2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42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2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42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42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42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2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42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88424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ANÁLISIS ESTRATÉGICO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57" name="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0" name="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63" name="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73" name="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76" name=""/>
            <p:cNvSpPr/>
            <p:nvPr/>
          </p:nvSpPr>
          <p:spPr>
            <a:xfrm flipV="1">
              <a:off x="4552920" y="2666880"/>
              <a:ext cx="919080" cy="99072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360 h 990720"/>
                <a:gd name="textAreaBottom" fmla="*/ 9914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79" name="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82" name="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85" name="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8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8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08" name="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12" name="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16" name="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22" name="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25" name="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7" name="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28" name="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35" name="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0" name="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32" name="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39" name="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57" name="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69" name="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72" name="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76" name="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1" name="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88" name="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7-06-20T21:57:27Z</dcterms:modified>
  <cp:revision>168</cp:revision>
  <dc:subject/>
  <dc:title>Evaluación de Proyectos</dc:title>
</cp:coreProperties>
</file>