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FF7-3F77-4ADD-89A3-4773A78A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CBE-BEFB-4852-A2DE-AABF112D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0B5D-B30A-4EA8-A262-5F3E43BE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701-8F69-4C79-9AA5-4F2A6D9E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BFB0-E58F-4DFD-A360-5D15917D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E17C-395C-44D8-B796-4F846584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E6E9-5872-417B-818E-E9CDAE6A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00BD-EA13-45E2-9290-F22849D7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0EEA-BB40-4A1F-A888-ECFB1BCB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1BAC-EB4A-4627-8610-CB242704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4574-1898-43BF-842F-7A293778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BB69-490D-4E08-8BDB-5C6FEA87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8570-0EAE-4D94-8B1E-1A57FDEA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7A5D-62C2-4C42-8509-5F78A754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5F96-1E67-42B3-B571-E2800AAB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8A52-83E4-4B00-8D61-0E9116E6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5CFD-C6A4-44E0-8CDC-0AA3EBFE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447-B99C-4F7C-8943-EAB00AF4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2D0-8ADD-4D6A-9E1A-2A351BF5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555-C178-400F-9A74-4037B88C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367-75DB-4248-94F2-61F24680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2B77-2555-43B4-8284-CB2BCA03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B3F-03E5-49EC-B2F9-332E969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865-9BF5-4525-BB9F-67B0B033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FF8D-654F-49E4-8A8F-DEEF29E5F4F5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C61D-7285-4FBC-AC6D-14ED926DC50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10 de septiembre de 2007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uente: Zeithalm, Parasuraman y Be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nfi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 </a:t>
            </a: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(Confiabili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de proveer de un servicio oport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slas y Bomberos (o Caj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acción ante probl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dad en el 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volu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de 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ocimiento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tesía, am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dicación exclus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Bienvenida, Limpieza de vidrios, ubicación de la ta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misión de credibilidad a través de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en cero, dar bol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mpat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para comprender las necesidades e intereses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Hablar del auto, limpiador de inye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ariencia, limpieza, atractivo, tecnología, 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angueras y Limpiaparabrisas, ru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evos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mo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Vasos, pelotas, Majoret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minución de la variabilidad, cumplimiento de compromi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Tiempo (Rapidez y Perce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Órdenes de compra, fact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Agua y 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delo de Brech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mensiones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Cómo medir la calidad de un servicio médic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inco enfo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 adecuada la secuencia de actividad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lasificación de pacientes, asignación de boxes, doctores y enfermeras, toma de exámen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Hay recursos disponi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Discusión entre doctores, utilización (enfermos en pasill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Se están siguiendo los procedimien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olegio médico, pitutos, fona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es el efecto en el largo plaz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ortalidad infantil, distancia promedio a un centro médico, rechazos por prev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tá satisfecho el Clien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nfecciones por cirugía, muertes por enfermedad, queja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cuestas de calidad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cuestas de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mediciones son invas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Respuestas versus Ses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fecto Ha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Atributos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sca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ner números no logra obje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de la firma a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tre dimens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tividad: Percepciones y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criminar entre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ir medidas Obje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olucrarse en la medi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0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0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3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vestigación de Merc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a través de la Jerarqu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6" idx="3"/>
            <a:endCxn id="15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5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436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Me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Polí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1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5" idx="3"/>
            <a:endCxn id="187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7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centivos conflictivos o perve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nt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6" idx="3"/>
            <a:endCxn id="21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1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Marketing – Oper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obreofrece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4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9" idx="3"/>
            <a:endCxn id="25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>
            <a:off x="3512880" y="4149360"/>
            <a:ext cx="1080" cy="289440"/>
          </a:xfrm>
          <a:prstGeom prst="straightConnector1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668680" y="414972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l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Por qué el servicio de una bencinera es de buena o mala calida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9-10T11:31:39Z</dcterms:modified>
  <cp:revision>6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