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5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9D9-EF51-48B1-8F8C-133A03CF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240-7312-419C-9189-ED5C3F0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819-D7C2-4625-B91A-73CAA101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DB1-11B0-4244-AE88-826B617F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414-6F58-4BD7-8B96-4B270378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141D-1F57-45F9-AF93-3F8E1B3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8BFF-1695-4636-B540-34E9A46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BEC6-7E2D-4CC0-ACEE-2D70A2B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124-0BAA-4E5E-95C9-2BA93C42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DA5-D077-41D3-ABAF-F3298A6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EBD5-1526-4CEC-AEAD-0C81389A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378-6A95-4868-8990-35E6561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78B3-F677-4F4D-A452-FBDF3B6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2439-292C-426D-AF1A-728CC65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D4B-F2BC-412B-8C55-9E13A7E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278E-3E90-4549-95A3-8F3A1A0D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CFBF-BD22-45B5-9802-AF626138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76A-F456-493F-9D2B-C2A7B458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15A-7DD5-46E8-9A61-10C1C4D8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EEC-0F12-4903-AA5B-D935FA5D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369-6CA6-4A33-92EF-23D8FF4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AC8-852F-486E-98B6-5315356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7DE-6F8D-4285-8458-4220A4C3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222-D47F-4B0B-A145-AD0DFDA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640-7DA9-4150-956A-F32647DAFEA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C476-C10E-486F-8EA1-0A94D4A16F4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elación con el Clien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5 de noviembr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59280" y="5373720"/>
            <a:ext cx="12952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46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92" name=""/>
          <p:cNvGraphicFramePr/>
          <p:nvPr/>
        </p:nvGraphicFramePr>
        <p:xfrm>
          <a:off x="762120" y="2362320"/>
          <a:ext cx="6324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6324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Pregun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tos con éxito en la región Es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mpo promedio desde la entrega hasta la cobranza para los locales de Ñuño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ventos (Indicad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mensiones (texto, niveles de detalle, cambian poc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97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98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5373720"/>
            <a:ext cx="107964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90720" y="3048120"/>
          <a:ext cx="74660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7466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990720" y="2743200"/>
          <a:ext cx="44100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4410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7080" y="2305080"/>
          <a:ext cx="709164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305080"/>
                    <a:ext cx="70916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56000" y="5373720"/>
            <a:ext cx="129564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38080" y="2387520"/>
          <a:ext cx="69343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87520"/>
                    <a:ext cx="69343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81800" y="5157720"/>
            <a:ext cx="12952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3880" y="2276640"/>
            <a:ext cx="4275360" cy="4572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07160" y="3251160"/>
            <a:ext cx="1231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48194"/>
              <a:gd name="adj5" fmla="val 247916"/>
              <a:gd name="adj6" fmla="val -29562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Baj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7080" y="4651200"/>
            <a:ext cx="11682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61958"/>
              <a:gd name="adj5" fmla="val -108333"/>
              <a:gd name="adj6" fmla="val 21956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Alt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195960" y="4221000"/>
                <a:ext cx="26971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6588000" y="51944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egún datos de Economax, Julio 200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mento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el Cliente (CR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de la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ligros de un C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24000" y="2009880"/>
            <a:ext cx="6335640" cy="5379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7693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amañ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odelos de propen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ij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 Prob segm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adquiera produc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dada la ac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prec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tras variables: Productos ya existentes, acciones ya ejecuta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fetim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void the Four Perils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952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rear antes la Estrategia de Marketing (Segmentar, Posicionar, Competenc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rediseñar antes los procesos en los que intervienen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sar el éxito en la Tecnología (Informática vs. Proyecto Empresa, Pilo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osar a los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4653000"/>
            <a:ext cx="662472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1640" y="3021120"/>
            <a:ext cx="109872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37280" y="3021120"/>
            <a:ext cx="1098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ada al loc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 – Insta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eg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Gestión de la Espera – Oferta – Deman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ransaccione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Diseño de Procesos – Capacity Plann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pagos que realiz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icing – Diseño de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espach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nsultas, posventa, reclam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Ca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c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omociones – Estrateg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visitas al sitio web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Tecnologí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Gestión de la Relación con el Cli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rolar los momentos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cambio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uno a 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frecer produ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ectar fug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mento de rent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organizacional y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 de CRM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Morgan"/>
          <p:cNvPicPr/>
          <p:nvPr/>
        </p:nvPicPr>
        <p:blipFill>
          <a:blip r:embed="rId1"/>
          <a:stretch/>
        </p:blipFill>
        <p:spPr>
          <a:xfrm>
            <a:off x="914400" y="4114800"/>
            <a:ext cx="3657600" cy="245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76920" y="3429000"/>
          <a:ext cx="297180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3429000"/>
                    <a:ext cx="2971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2666880"/>
          <a:ext cx="266688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666880"/>
                    <a:ext cx="2666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590920" y="2743200"/>
          <a:ext cx="236196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743200"/>
                    <a:ext cx="2361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371600" y="2438280"/>
          <a:ext cx="62064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2438280"/>
                    <a:ext cx="620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00600" y="4038480"/>
            <a:ext cx="3962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 de un C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ffe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Capt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nuevos cli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06880" y="2708280"/>
            <a:ext cx="1892160" cy="1239840"/>
          </a:xfrm>
          <a:custGeom>
            <a:avLst/>
            <a:gdLst>
              <a:gd name="textAreaLeft" fmla="*/ 236520 w 1892160"/>
              <a:gd name="textAreaRight" fmla="*/ 1655640 w 189216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3e1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Desarrol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valor de comp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796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c7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te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clientes exist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0320" y="301788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Ciclo de V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de 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6000" y="3727440"/>
            <a:ext cx="156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Diferenci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Innov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onveniec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Marketing direc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9080" y="3716280"/>
            <a:ext cx="174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istemat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rvicio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gmen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Venta cruz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cesos repetibl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000" y="3727440"/>
            <a:ext cx="186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Adap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ntender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Nuevos produc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gramas de lealt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881520"/>
            <a:ext cx="9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nfoque C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3320" y="5373720"/>
            <a:ext cx="5734080" cy="398880"/>
          </a:xfrm>
          <a:prstGeom prst="rect">
            <a:avLst/>
          </a:prstGeom>
          <a:solidFill>
            <a:srgbClr val="39a0d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Aplicaciones Integradas de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83720" y="5138640"/>
            <a:ext cx="980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oftw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ieb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larif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piphan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l Center, web, e-m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Warehou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Ware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42920" y="367992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utomá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91280" y="371628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4422600"/>
            <a:ext cx="172872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ctu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len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1-05T20:16:51Z</dcterms:modified>
  <cp:revision>145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