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5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853-9C15-4D39-B76F-9C09A44E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E10-40FF-4F04-98CE-533792B9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516-E52C-4935-9DE4-8927E97F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E50-B489-4EEB-864A-6E6B8BB1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928B-9E19-412E-9332-032C0850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05FA-E63A-4802-A8BE-3081999D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7180-C510-4C66-A34A-99A0291C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20EF-BF8E-43ED-A960-2522C425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B339-7A24-4EE3-B836-7D415D05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0285-9988-43C3-9440-D9685C73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C071-E3BC-4ED1-A975-D8143B7D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0FC-E2CE-4FB8-A704-19E7A4FA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65D2-A9DD-43BE-8901-B74C6991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90F6-D0B2-4CE4-9541-CD5E99F9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84D7-E763-4C92-B1BF-A2BE16F3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1F9C-BEF9-4B1D-8402-7930A716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1A88-ABBA-49FC-9206-EC8B14A7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166-1840-45B8-9C1C-716D0535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572-6B09-42A8-9005-04196974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338-7AB0-4C4D-8325-624E9C91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A16-9352-4647-BD7C-76A3789A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302-5BA8-4D5D-B1BA-06DF5022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B03-6F39-4F83-B17D-6366EBA9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BC8-4F25-4DBE-82E7-32264ED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F5B5-173E-4DC1-94FE-96141D818B4A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91AE-DBEC-4B48-B5AF-18A25F54F0FF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Relación con el Client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5 de noviembr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L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59280" y="5373720"/>
            <a:ext cx="12952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L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0" y="981000"/>
            <a:ext cx="914400" cy="837720"/>
            <a:chOff x="2556000" y="981000"/>
            <a:chExt cx="914400" cy="837720"/>
          </a:xfrm>
        </p:grpSpPr>
        <p:grpSp>
          <p:nvGrpSpPr>
            <p:cNvPr id="146" name=""/>
            <p:cNvGrpSpPr/>
            <p:nvPr/>
          </p:nvGrpSpPr>
          <p:grpSpPr>
            <a:xfrm>
              <a:off x="2556000" y="1285560"/>
              <a:ext cx="914400" cy="533160"/>
              <a:chOff x="2556000" y="1285560"/>
              <a:chExt cx="914400" cy="533160"/>
            </a:xfrm>
          </p:grpSpPr>
          <p:sp>
            <p:nvSpPr>
              <p:cNvPr id="147" name=""/>
              <p:cNvSpPr/>
              <p:nvPr/>
            </p:nvSpPr>
            <p:spPr>
              <a:xfrm>
                <a:off x="27082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368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654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082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9368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654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6323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609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895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323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609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895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2556000" y="1438200"/>
                <a:ext cx="838080" cy="380520"/>
                <a:chOff x="2556000" y="1438200"/>
                <a:chExt cx="838080" cy="3805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6323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609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0895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560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7846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0132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5560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7846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0132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" name=""/>
            <p:cNvGrpSpPr/>
            <p:nvPr/>
          </p:nvGrpSpPr>
          <p:grpSpPr>
            <a:xfrm>
              <a:off x="2556000" y="981000"/>
              <a:ext cx="914400" cy="532440"/>
              <a:chOff x="2556000" y="981000"/>
              <a:chExt cx="914400" cy="532440"/>
            </a:xfrm>
          </p:grpSpPr>
          <p:sp>
            <p:nvSpPr>
              <p:cNvPr id="170" name=""/>
              <p:cNvSpPr/>
              <p:nvPr/>
            </p:nvSpPr>
            <p:spPr>
              <a:xfrm>
                <a:off x="27082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368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654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082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368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654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323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609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895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323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609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895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2556000" y="1133280"/>
                <a:ext cx="838080" cy="380160"/>
                <a:chOff x="2556000" y="1133280"/>
                <a:chExt cx="838080" cy="3801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6323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609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0895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5560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7846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132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5560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7846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0132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92" name=""/>
          <p:cNvGraphicFramePr/>
          <p:nvPr/>
        </p:nvGraphicFramePr>
        <p:xfrm>
          <a:off x="762120" y="2362320"/>
          <a:ext cx="6324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62320"/>
                    <a:ext cx="6324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L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po de Pregunt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ductos con éxito en la región Est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mpo promedio desde la entrega hasta la cobranza para los locales de Ñuño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ventos (Indicado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mensiones (texto, niveles de detalle, cambian poc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556000" y="981000"/>
            <a:ext cx="914400" cy="837720"/>
            <a:chOff x="2556000" y="981000"/>
            <a:chExt cx="914400" cy="837720"/>
          </a:xfrm>
        </p:grpSpPr>
        <p:grpSp>
          <p:nvGrpSpPr>
            <p:cNvPr id="197" name=""/>
            <p:cNvGrpSpPr/>
            <p:nvPr/>
          </p:nvGrpSpPr>
          <p:grpSpPr>
            <a:xfrm>
              <a:off x="2556000" y="1285560"/>
              <a:ext cx="914400" cy="533160"/>
              <a:chOff x="2556000" y="1285560"/>
              <a:chExt cx="914400" cy="533160"/>
            </a:xfrm>
          </p:grpSpPr>
          <p:sp>
            <p:nvSpPr>
              <p:cNvPr id="198" name=""/>
              <p:cNvSpPr/>
              <p:nvPr/>
            </p:nvSpPr>
            <p:spPr>
              <a:xfrm>
                <a:off x="27082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368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654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7082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368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654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323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609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895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6323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8609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895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2556000" y="1438200"/>
                <a:ext cx="838080" cy="380520"/>
                <a:chOff x="2556000" y="1438200"/>
                <a:chExt cx="838080" cy="380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6323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8609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0895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5560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7846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0132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5560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7846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0132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0" name=""/>
            <p:cNvGrpSpPr/>
            <p:nvPr/>
          </p:nvGrpSpPr>
          <p:grpSpPr>
            <a:xfrm>
              <a:off x="2556000" y="981000"/>
              <a:ext cx="914400" cy="532440"/>
              <a:chOff x="2556000" y="981000"/>
              <a:chExt cx="914400" cy="532440"/>
            </a:xfrm>
          </p:grpSpPr>
          <p:sp>
            <p:nvSpPr>
              <p:cNvPr id="221" name=""/>
              <p:cNvSpPr/>
              <p:nvPr/>
            </p:nvSpPr>
            <p:spPr>
              <a:xfrm>
                <a:off x="27082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368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1654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082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9368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654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6323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8609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0895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6323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609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895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2556000" y="1133280"/>
                <a:ext cx="838080" cy="380160"/>
                <a:chOff x="2556000" y="1133280"/>
                <a:chExt cx="838080" cy="3801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6323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8609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0895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560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7846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0132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5560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7846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0132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por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979640" y="5373720"/>
            <a:ext cx="1079640" cy="10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por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990720" y="3048120"/>
          <a:ext cx="74660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8120"/>
                    <a:ext cx="74660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990720" y="2743200"/>
          <a:ext cx="441000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743200"/>
                    <a:ext cx="44100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por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57080" y="2305080"/>
          <a:ext cx="709164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2305080"/>
                    <a:ext cx="709164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xecutive Information Syst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356000" y="5373720"/>
            <a:ext cx="129564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xecutive Information Syst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838080" y="2387520"/>
          <a:ext cx="693432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87520"/>
                    <a:ext cx="693432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M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581800" y="5157720"/>
            <a:ext cx="129528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M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523880" y="2276640"/>
            <a:ext cx="4275360" cy="4572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607160" y="3251160"/>
            <a:ext cx="12319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48194"/>
              <a:gd name="adj5" fmla="val 247916"/>
              <a:gd name="adj6" fmla="val -29562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Baja Asociació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7080" y="4651200"/>
            <a:ext cx="11682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61958"/>
              <a:gd name="adj5" fmla="val -108333"/>
              <a:gd name="adj6" fmla="val 21956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Alta Asociació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195960" y="4221000"/>
                <a:ext cx="269712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U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6588000" y="519444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ahoma"/>
              </a:rPr>
              <a:t>Según datos de Economax, Julio 200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588000" y="2492280"/>
            <a:ext cx="23623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mento de Ver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ón con el Cliente (CR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ol de la 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ligros de un C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M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24000" y="2009880"/>
            <a:ext cx="6335640" cy="5379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588000" y="2492280"/>
            <a:ext cx="23623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M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276280"/>
            <a:ext cx="76932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tribu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amañ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luste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odelos de propen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ijk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= Prob segmento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adquiera producto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dada la acción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k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preci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tras variables: Productos ya existentes, acciones ya ejecutad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ifetime val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ug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void the Four Perils (P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83952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crear antes la Estrategia de Marketing (Segmentar, Posicionar, Competenci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rediseñar antes los procesos en los que intervienen 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sar el éxito en la Tecnología (Informática vs. Proyecto Empresa, Pilot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osar a los 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4653000"/>
            <a:ext cx="6624720" cy="0"/>
          </a:xfrm>
          <a:prstGeom prst="line">
            <a:avLst/>
          </a:prstGeom>
          <a:ln w="572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mento de Ver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3021120"/>
            <a:ext cx="1098360" cy="3071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1640" y="3021120"/>
            <a:ext cx="1098720" cy="3071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00720" y="3021120"/>
            <a:ext cx="1098360" cy="3071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137280" y="3021120"/>
            <a:ext cx="1098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mento de Ver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ntrada al loca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Localización – Instalacion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ntrega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Gestión de la Espera – Oferta – Demand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ransacciones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Diseño de Procesos – Capacity Plannin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os pagos que realiza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Pricing – Diseño de Produc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os despachos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Localiza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nsultas, posventa, reclamos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Calid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municac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Promociones – Estrategi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as visitas al sitio web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Tecnologí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Gestión de la Relación con el Client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rolar los momentos de ver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cambio de 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ón uno a u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frecer produ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ectar fug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mento de rent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organizacional y técn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CR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jemplos de CRM (P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3160" y="246852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43160" y="246852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43160" y="246852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Morgan"/>
          <p:cNvPicPr/>
          <p:nvPr/>
        </p:nvPicPr>
        <p:blipFill>
          <a:blip r:embed="rId1"/>
          <a:stretch/>
        </p:blipFill>
        <p:spPr>
          <a:xfrm>
            <a:off x="914400" y="4114800"/>
            <a:ext cx="3657600" cy="245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4876920" y="3429000"/>
          <a:ext cx="297180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3429000"/>
                    <a:ext cx="29718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715000" y="2666880"/>
          <a:ext cx="2666880" cy="55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2666880"/>
                    <a:ext cx="26668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590920" y="2743200"/>
          <a:ext cx="2361960" cy="43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2743200"/>
                    <a:ext cx="23619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371600" y="2438280"/>
          <a:ext cx="62064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71600" y="2438280"/>
                    <a:ext cx="620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800600" y="4038480"/>
            <a:ext cx="39625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nfoque de un C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2708280"/>
            <a:ext cx="1892520" cy="1239840"/>
          </a:xfrm>
          <a:custGeom>
            <a:avLst/>
            <a:gdLst>
              <a:gd name="textAreaLeft" fmla="*/ 236520 w 1892520"/>
              <a:gd name="textAreaRight" fmla="*/ 1656000 w 1892520"/>
              <a:gd name="textAreaTop" fmla="*/ 309960 h 1239840"/>
              <a:gd name="textAreaBottom" fmla="*/ 9298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ffe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Capt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(nuevos cliente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06880" y="2708280"/>
            <a:ext cx="1892160" cy="1239840"/>
          </a:xfrm>
          <a:custGeom>
            <a:avLst/>
            <a:gdLst>
              <a:gd name="textAreaLeft" fmla="*/ 236520 w 1892160"/>
              <a:gd name="textAreaRight" fmla="*/ 1655640 w 1892160"/>
              <a:gd name="textAreaTop" fmla="*/ 309960 h 1239840"/>
              <a:gd name="textAreaBottom" fmla="*/ 9298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3e1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Desarrol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(valor de compra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7960" y="2708280"/>
            <a:ext cx="1892520" cy="1239840"/>
          </a:xfrm>
          <a:custGeom>
            <a:avLst/>
            <a:gdLst>
              <a:gd name="textAreaLeft" fmla="*/ 236520 w 1892520"/>
              <a:gd name="textAreaRight" fmla="*/ 1656000 w 1892520"/>
              <a:gd name="textAreaTop" fmla="*/ 309960 h 1239840"/>
              <a:gd name="textAreaBottom" fmla="*/ 9298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fc7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Reten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(clientes existente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0320" y="301788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Ciclo de V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de 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6000" y="3727440"/>
            <a:ext cx="1561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Diferenci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Innov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Conveniec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Marketing direc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9080" y="3716280"/>
            <a:ext cx="1748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Sistematiz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Servicio al clien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Segment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Venta cruzad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Procesos repetibl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000" y="3727440"/>
            <a:ext cx="1867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Adapt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Entender al clien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Nuevos product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Programas de lealt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3881520"/>
            <a:ext cx="99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Enfoque C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73320" y="5373720"/>
            <a:ext cx="5734080" cy="398880"/>
          </a:xfrm>
          <a:prstGeom prst="rect">
            <a:avLst/>
          </a:prstGeom>
          <a:solidFill>
            <a:srgbClr val="39a0d9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Aplicaciones Integradas de C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83720" y="5138640"/>
            <a:ext cx="980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Softwa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Sieb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Orac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Clarif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Epiphan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ol de la Inform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l Center, web, e-m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macenami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ata Warehou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Warehou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42920" y="367992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Automát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91280" y="3716280"/>
            <a:ext cx="16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Manu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64360" y="4422600"/>
            <a:ext cx="1728720" cy="1789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Forma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Actua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Llen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11-05T20:16:51Z</dcterms:modified>
  <cp:revision>145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