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4D5-D87D-4406-AAC7-028436AC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3D7-DF2C-4B47-A7C1-C552F6ED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7990-FF2C-4B5A-99CB-683B21F1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08E-A69F-4224-9F16-B7D1F85C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C3C2-BFE9-418D-9ED5-9D8286FD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8370-EB29-4B02-BF4A-68012F04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097D-25CF-4269-B32F-F8169414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8B17-67ED-4FFD-8F41-EDBDCD1C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33C3-5F2C-480F-8133-C3C29819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5DCD-D3BD-4B90-9D5F-3F12DB4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55B5-7636-4B4A-BAE3-593E9F85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059-0CAB-437F-B666-7833E2EA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D9BC-4610-42CD-ACE9-F3FAF481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1C84-4509-4EA8-A38B-275BF08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892A-96CC-4AED-B87C-EE287A75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947-115E-4454-AC89-02F733E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FA0-F672-4C02-AFD7-62387E5D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134-ECCF-4714-AA79-0830013B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6B1-7981-46E5-B11F-578EDDA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8EF-F902-4B0B-8F89-030A4BD6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417-8DB0-4560-8896-2805A0DF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F38-C9A1-4C1E-840C-45E6ECA7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87E-1C1E-408C-AE6F-0F33F13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57B-364F-488D-B997-F1C3262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AC1D-3367-42C6-A095-ECB7450465E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901D-3B0D-4A86-9DC5-08CE800C7F3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elación con el Clie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5 de noviembr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59280" y="5373720"/>
            <a:ext cx="12952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46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2" name=""/>
          <p:cNvGraphicFramePr/>
          <p:nvPr/>
        </p:nvGraphicFramePr>
        <p:xfrm>
          <a:off x="762120" y="2362320"/>
          <a:ext cx="6324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324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Pregun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os con éxito en la región Es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mpo promedio desde la entrega hasta la cobranza para los locales de Ñuño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ventos (Indicad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mensiones (texto, niveles de detalle, cambian po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97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5373720"/>
            <a:ext cx="107964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90720" y="3048120"/>
          <a:ext cx="7466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7466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990720" y="2743200"/>
          <a:ext cx="4410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4410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7080" y="2305080"/>
          <a:ext cx="70916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305080"/>
                    <a:ext cx="70916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56000" y="5373720"/>
            <a:ext cx="1295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38080" y="2387520"/>
          <a:ext cx="69343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69343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81800" y="5157720"/>
            <a:ext cx="12952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3880" y="2276640"/>
            <a:ext cx="427536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07160" y="3251160"/>
            <a:ext cx="1231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48194"/>
              <a:gd name="adj5" fmla="val 247916"/>
              <a:gd name="adj6" fmla="val -29562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aj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080" y="4651200"/>
            <a:ext cx="11682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61958"/>
              <a:gd name="adj5" fmla="val -108333"/>
              <a:gd name="adj6" fmla="val 219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lt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195960" y="4221000"/>
                <a:ext cx="2697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588000" y="51944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egún datos de Economax, Julio 2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mento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el Cliente (C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de la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ligros de un C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24000" y="2009880"/>
            <a:ext cx="6335640" cy="5379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amañ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delos de propen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ij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 Prob segm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adquiera produc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dada la ac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prec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tras variables: Productos ya existentes, acciones ya ejecut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fetim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void the Four Perils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952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rear antes la Estrategia de Marketing (Segmentar, Posicionar, Competenc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rediseñar antes los procesos en los que intervienen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sar el éxito en la Tecnología (Informática vs. Proyecto Empresa, Pilo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osar a los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4653000"/>
            <a:ext cx="662472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1640" y="3021120"/>
            <a:ext cx="109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37280" y="3021120"/>
            <a:ext cx="1098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ada al loc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 – Insta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eg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Gestión de la Espera – Oferta – Deman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ransaccion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Diseño de Procesos – Capacity Plann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pagos que realiz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icing – Diseño de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espach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sultas, posventa, reclam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Ca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c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omociones – Estrateg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visitas al sitio web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Tecnologí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Gestión de la Relación con el Cli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rolar los momentos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cambio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uno a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frecer produ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ectar fu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mento de rent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organizacional y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CRM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Morgan"/>
          <p:cNvPicPr/>
          <p:nvPr/>
        </p:nvPicPr>
        <p:blipFill>
          <a:blip r:embed="rId1"/>
          <a:stretch/>
        </p:blipFill>
        <p:spPr>
          <a:xfrm>
            <a:off x="914400" y="4114800"/>
            <a:ext cx="3657600" cy="245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76920" y="3429000"/>
          <a:ext cx="297180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3429000"/>
                    <a:ext cx="2971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2666880"/>
          <a:ext cx="266688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666880"/>
                    <a:ext cx="2666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590920" y="2743200"/>
          <a:ext cx="23619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743200"/>
                    <a:ext cx="2361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71600" y="2438280"/>
          <a:ext cx="6206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2438280"/>
                    <a:ext cx="62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00600" y="403848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 de un C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ffe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Capt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nuevos cli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06880" y="2708280"/>
            <a:ext cx="1892160" cy="1239840"/>
          </a:xfrm>
          <a:custGeom>
            <a:avLst/>
            <a:gdLst>
              <a:gd name="textAreaLeft" fmla="*/ 236520 w 1892160"/>
              <a:gd name="textAreaRight" fmla="*/ 1655640 w 189216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3e1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Desarrol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valor de comp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796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c7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te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clientes exist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0320" y="301788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Ciclo de V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de 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6000" y="3727440"/>
            <a:ext cx="156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Diferenci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Innov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onveniec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Marketing direc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9080" y="3716280"/>
            <a:ext cx="174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istemat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rvicio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gmen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Venta cruz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cesos repetib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000" y="3727440"/>
            <a:ext cx="186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Adap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ntender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Nuevos produc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gramas de lealt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881520"/>
            <a:ext cx="9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nfoque C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3320" y="5373720"/>
            <a:ext cx="5734080" cy="398880"/>
          </a:xfrm>
          <a:prstGeom prst="rect">
            <a:avLst/>
          </a:prstGeom>
          <a:solidFill>
            <a:srgbClr val="39a0d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Aplicaciones Integradas de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3720" y="5138640"/>
            <a:ext cx="980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oftw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ieb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lari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piphan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l Center, web, e-m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Warehou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Ware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42920" y="36799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utomá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91280" y="371628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4422600"/>
            <a:ext cx="17287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ctu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len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1-05T20:16:51Z</dcterms:modified>
  <cp:revision>145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