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13.jpeg" ContentType="image/jpeg"/>
  <Override PartName="/ppt/media/image23.png" ContentType="image/png"/>
  <Override PartName="/ppt/media/image29.wmf" ContentType="image/x-wmf"/>
  <Override PartName="/ppt/media/image1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4.png" ContentType="image/png"/>
  <Override PartName="/ppt/media/image25.png" ContentType="image/png"/>
  <Override PartName="/ppt/media/image28.png" ContentType="image/png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D95-AFC3-421B-95B4-BFFE6A7D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07E-29FA-4AC7-AA9D-CF8DD2DE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A1D-D9AE-437D-B778-F564538E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9F0-ECBD-47C7-B836-2EE6D5C6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0D2E-9CE4-49D4-A8F3-15CC36E3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6401-D46B-4072-981C-ABA08F7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C278-AF8E-4CDF-93CA-2B168170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935B-5BB8-42E2-B61D-3DF4B7F8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2BD5-C92B-45A6-8FCF-C92B9F4A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EC7D-7974-41D2-A4E6-EB97CFF9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1A5D-6C95-4061-9C15-0852BEC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093-5E13-48FE-A64C-4016F9C5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AB76-E037-4149-A9DC-9A9A3DFD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1D92-52EE-4138-8ED7-2291CFCA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B2F7-026F-46BF-9A04-EB4A4539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6A84-6A24-4993-B4EE-9C980B61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BF5B-3479-4DD6-B79A-B32E47E5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C24-8B3F-489C-85B4-B29C7CF9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252-55DF-4101-A349-5E0363DF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7E0-E2D5-450F-BCE6-2F0F11D2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137-5064-400C-A77E-2E2AA310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5B5-2871-46AF-813D-F359D3A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C3B-8E01-4F20-A744-854EF355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916-BDE6-44F9-A074-AA4A346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4183-691C-4B39-B73A-324D4BAF17C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780-1C52-4EE5-9497-A72F87897D0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Localización e Instalacio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9 de octubre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es de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édi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F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1971720" cy="76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1366920" cy="88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076720" y="3789360"/>
            <a:ext cx="209556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859280" y="472428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Kmart versus Wal-M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 entre Falabella, Almacenes París y Ripley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40323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mbiente: temperatura, aire, ruido, olor, iluminación música (pulso, épo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ayout: Menú, comida, bas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quipamiento: Probadores, disponibilidad de la rop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: Pasillos, góndo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ímbol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Vestime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coración (mármol – made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997360"/>
            <a:ext cx="1440000" cy="8254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Tip-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Victor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4360" y="2782800"/>
            <a:ext cx="18860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5940360" y="2852640"/>
          <a:ext cx="114300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2852640"/>
                    <a:ext cx="1143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661080" y="5300640"/>
          <a:ext cx="215280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61080" y="5300640"/>
                    <a:ext cx="2152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580000" y="5157720"/>
            <a:ext cx="933480" cy="1085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309840" y="5227560"/>
            <a:ext cx="15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bjetivos de un 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splazamiento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alas de cirugía, almuerzos de pacientes, baños de muje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gur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Fiestas de año nuevo, espacio en bomberos, bóve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ivac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Baño, cocina en restaurantes, boxes en clín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obustez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Drive-in, estacionamiento, restaurants de más pisos, congestión en mesani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mun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Químicos de lavandería, fum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esupue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ezar chico pero pensar en gra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rreras de ent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ones prem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raf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20163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ervice Deliv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y to deal with compet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ujo de Clientes y de Trabajo: Localización, equipamiento, lay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sonal: Procedimientos, ro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: calidad, satisfacción,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nca termina, es cre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Nuev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: Tecnología, Gente, Sist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tomat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gramas (Blueprinting) Einstein Weintra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ont – back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 estraté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Automá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ed Sequence (F): (un paso) entrada al estacionamiento, control de asistencia, contestadora, papel higiénico, reg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 Sequence (V): (varios pasos) IVR, Ascensor, transferencia electrónica, carw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lligent (I): (sensores) Piloto automático, Coca-Cola, SD20A, semáfo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ert System (E): (datos) clasificar errores, diagnóstico de pacientes, pronóst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otally automated system (T): (sensores y datos) ruteo en tiempo real, sorter, C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modelos de nego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rgan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ltura: creencias de los miembros de una organización (3M innovación, Metro, Endesa exactitud, Bci diferencia, Capel pisquito, Procter Emprendimien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oderamiento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rámide (Mc Donalds) Up or Go (DM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 invertida (Información – Instrucción) (ECM) relación cliente proveedor (MOP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ación (Unimarc – Taco B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finición del Probl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foques de Sol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s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l de Contac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lut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icultades en el pasad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ísticas negativas del medi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é hiciste?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te esta situación difícil,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ién es José Mosquer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ren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Repres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rica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tributo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4248360" cy="201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2166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Ubic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os (cul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sibilidades de expan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leg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servic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Integraméd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22760" y="4869000"/>
            <a:ext cx="2505240" cy="11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54720" y="2133720"/>
            <a:ext cx="1278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ormación: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ASEN, Origen – destino,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del mercado (j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dad, sexo, actividad, et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 de las ubicaciones (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culabi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rror de estim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por ubic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J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asti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10480" y="692280"/>
          <a:ext cx="85716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0480" y="692280"/>
                    <a:ext cx="8571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7920" y="1052640"/>
            <a:ext cx="247644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16440" y="2779560"/>
            <a:ext cx="173520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141880" y="4146480"/>
            <a:ext cx="3390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tiempos de 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cos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ximizar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cios públ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étrica de atribu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medio, máximo, mín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or persona, por via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295280" cy="544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2448000" cy="34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84720" y="3933720"/>
            <a:ext cx="1200240" cy="1111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724360" y="4632480"/>
            <a:ext cx="33483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foques de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: min – max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euríst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reedy (penalizad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3265560"/>
            <a:ext cx="3743640" cy="261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0920" y="3373560"/>
            <a:ext cx="12258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compet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ustering competi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ibilidad – Vi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592360" cy="19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6588000" y="2852640"/>
          <a:ext cx="116064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2852640"/>
                    <a:ext cx="11606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87280" y="4365720"/>
          <a:ext cx="2951280" cy="13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365720"/>
                    <a:ext cx="29512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Loca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nib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s impulsivas – publicidad cru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 superpone con el efecto “alta densidad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454040" cy="206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09368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124000" y="5100480"/>
          <a:ext cx="2519280" cy="15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100480"/>
                    <a:ext cx="251928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10-29T20:55:17Z</dcterms:modified>
  <cp:revision>134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