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13.jpeg" ContentType="image/jpeg"/>
  <Override PartName="/ppt/media/image23.png" ContentType="image/png"/>
  <Override PartName="/ppt/media/image29.wmf" ContentType="image/x-wmf"/>
  <Override PartName="/ppt/media/image11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14.png" ContentType="image/png"/>
  <Override PartName="/ppt/media/image9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5.wmf" ContentType="image/x-wmf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4.png" ContentType="image/png"/>
  <Override PartName="/ppt/media/image25.png" ContentType="image/png"/>
  <Override PartName="/ppt/media/image28.png" ContentType="image/png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978-3405-4E72-9D92-A1BCE646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315-1C44-4786-9874-ADB73171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E96-1186-4B85-9DBD-92F79C64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BEA-A873-48AD-9F92-A766EC37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D33D-2885-4DB3-9795-53C0B983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050E-24B2-44C0-9649-6FE591A8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EDDA-7815-4C24-9AAA-B2F61A4E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CCA2-7AB1-4FF5-B156-7B920B7F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454A-4EFF-4E12-80BD-6EB0EA81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175A-4C57-44AD-B192-737C0711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BBF6-84ED-4813-890C-161086CF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1EE-9E58-49ED-BE0C-BBC0AFAE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6C59-CAFA-4617-AEDA-8544B8A8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C9DC-9646-4898-8CFA-8633CF4E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6112-B645-478C-9CBD-E619CA94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9D75-05B2-4E92-B66C-B5AF1099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9546-139A-4DEB-BDED-F80C64A0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F03-3E35-468F-9270-A962C4DA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816E-5AB3-47A0-989D-23745B06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91B-9DF6-4D6A-BA59-43010E77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6D0-960F-4F8D-981B-A1163F4D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63A-4C02-4C43-B0A5-F34AF992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B66-6641-41F3-9013-472E8B60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286-8550-48BA-AD4E-9DBC24B4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3D16-522F-4F43-9984-B1CACCA9BB20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80B1-62B6-4E96-B6DB-2ED3512ABC4F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Localización e Instalacion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29 de octubre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sos Espec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ales de distrib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rédi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Multi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F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1971720" cy="760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1366920" cy="887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132000" y="3716280"/>
            <a:ext cx="1257480" cy="943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076720" y="3789360"/>
            <a:ext cx="2095560" cy="51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859280" y="4724280"/>
            <a:ext cx="12765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Insta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Kmart versus Wal-M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 entre Falabella, Almacenes París y Ripley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24000" y="2997360"/>
            <a:ext cx="40323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Insta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mbiente: temperatura, aire, ruido, olor, iluminación música (pulso, époc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aci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ayout: Menú, comida, bas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quipamiento: Probadores, disponibilidad de la rop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tail: Pasillos, góndol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ímbolo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ñalé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Vestime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ecoración (mármol – mader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2997360"/>
            <a:ext cx="1440000" cy="82548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Tip-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Victori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164360" y="2782800"/>
            <a:ext cx="18860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5940360" y="2852640"/>
          <a:ext cx="114300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2852640"/>
                    <a:ext cx="114300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661080" y="5300640"/>
          <a:ext cx="215280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61080" y="5300640"/>
                    <a:ext cx="2152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5580000" y="5157720"/>
            <a:ext cx="933480" cy="1085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3309840" y="5227560"/>
            <a:ext cx="15494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Insta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bjetivos de un 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esplazamiento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Salas de cirugía, almuerzos de pacientes, baños de muje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guridad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Fiestas de año nuevo, espacio en bomberos, bóve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rivacidad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Baño, cocina en restaurantes, boxes en clín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Robustez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Drive-in, estacionamiento, restaurants de más pisos, congestión en mesani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munidad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Químicos de lavandería, fuma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Presupue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ezar chico pero pensar en gran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rreras de entr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ón mú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ones prem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raf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580000" y="4724280"/>
            <a:ext cx="20163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ervice Delive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e Conce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ategy to deal with compet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lujo de Clientes y de Trabajo: Localización, equipamiento, lay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sonal: Procedimientos, ro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das: calidad, satisfacción,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unca termina, es cre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Nuevos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xonomía: Tecnología, Gente, Siste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tomat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agramas (Blueprinting) Einstein Weintrau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ront – back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bjetivos estratég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xonomía de 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plicaciones Automát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ixed Sequence (F): (un paso) entrada al estacionamiento, control de asistencia, contestadora, papel higiénico, rega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able Sequence (V): (varios pasos) IVR, Ascensor, transferencia electrónica, carwa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lligent (I): (sensores) Piloto automático, Coca-Cola, SD20A, semáfo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ert System (E): (datos) clasificar errores, diagnóstico de pacientes, pronóst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otally automated system (T): (sensores y datos) ruteo en tiempo real, sorter, C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seño de modelos de nego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rgan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rganiz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ltura: creencias de los miembros de una organización (3M innovación, Metro, Endesa exactitud, Bci diferencia, Capel pisquito, Procter Emprendimient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oderamiento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irámide (Mc Donalds) Up or Go (DM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 invertida (Información – Instrucción) (ECM) relación cliente proveedor (MOP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ación (Unimarc – Taco B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finición del Probl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foques de Sol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sos Espe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ersonal de Contac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lutami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icultades en el pasad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racterísticas negativas del medi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Qué hiciste? Qué harí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nte esta situación difícil, qué harí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Quién es José Mosquer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renami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arámetros: Repres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étrica de dist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inu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tributo de dist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4365720"/>
            <a:ext cx="4248360" cy="201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96000" y="3429000"/>
            <a:ext cx="2166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arámetros: Ubic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cesos (cultur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sibilidades de expan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 leg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servici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(Integramédic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22760" y="4869000"/>
            <a:ext cx="2505240" cy="1185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254720" y="2133720"/>
            <a:ext cx="1278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arámetros: Dema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formación: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ASEN, Origen – destino,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t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 del mercado (j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dad, sexo, actividad, et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amaño de las ubicaciones (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lculabilid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rror de estim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por ubicació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=f(merc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,j=1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... , merc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,j=J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asti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=f(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=1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... , dem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</a:rPr>
              <a:t>i=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10480" y="692280"/>
          <a:ext cx="85716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0480" y="692280"/>
                    <a:ext cx="85716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927920" y="1052640"/>
            <a:ext cx="2476440" cy="428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716440" y="2779560"/>
            <a:ext cx="1735200" cy="93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141880" y="4146480"/>
            <a:ext cx="33908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inimizar tiempos de respues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inimizar cost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ximizar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ta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rvicios públic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étrica de atribut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medio, máximo, mínim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or persona, por via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295280" cy="544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708360" y="3213000"/>
            <a:ext cx="2448000" cy="347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284720" y="3933720"/>
            <a:ext cx="1200240" cy="1111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724360" y="4632480"/>
            <a:ext cx="334836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nfoques de Solu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: min – max de dist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tim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euríst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Greedy (penalizad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3280" y="3265560"/>
            <a:ext cx="3743640" cy="2611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050920" y="3373560"/>
            <a:ext cx="12258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sos Espec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tancia entre competid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lustering competi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cesibilidad – Vis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96000" y="4653000"/>
            <a:ext cx="2592360" cy="19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6588000" y="2852640"/>
          <a:ext cx="116064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2852640"/>
                    <a:ext cx="116064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187280" y="4365720"/>
          <a:ext cx="2951280" cy="134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4365720"/>
                    <a:ext cx="29512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sos Espec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tancia entre Local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nib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mpras impulsivas – publicidad cru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 superpone con el efecto “alta densidad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1454040" cy="2060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93080" y="4653000"/>
            <a:ext cx="1093680" cy="20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2124000" y="5100480"/>
          <a:ext cx="2519280" cy="15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100480"/>
                    <a:ext cx="2519280" cy="15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10-29T20:55:17Z</dcterms:modified>
  <cp:revision>134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