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13.jpeg" ContentType="image/jpeg"/>
  <Override PartName="/ppt/media/image23.png" ContentType="image/png"/>
  <Override PartName="/ppt/media/image29.wmf" ContentType="image/x-wmf"/>
  <Override PartName="/ppt/media/image11.png" ContentType="image/png"/>
  <Override PartName="/ppt/media/image8.png" ContentType="image/png"/>
  <Override PartName="/ppt/media/image7.png" ContentType="image/png"/>
  <Override PartName="/ppt/media/image12.png" ContentType="image/png"/>
  <Override PartName="/ppt/media/image14.png" ContentType="image/png"/>
  <Override PartName="/ppt/media/image9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5.wmf" ContentType="image/x-wmf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.wmf" ContentType="image/x-wmf"/>
  <Override PartName="/ppt/media/image21.jpeg" ContentType="image/jpeg"/>
  <Override PartName="/ppt/media/image22.png" ContentType="image/png"/>
  <Override PartName="/ppt/media/image24.png" ContentType="image/png"/>
  <Override PartName="/ppt/media/image25.png" ContentType="image/png"/>
  <Override PartName="/ppt/media/image28.png" ContentType="image/png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E240-ECA2-4BE0-98D1-3E2873BD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F92-1562-4246-B0A0-4BCCBF0C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EF27-B09A-4919-845F-79DE2948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8FBB-B7C8-4902-B44B-201EDE24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07EA-49CE-4C7A-8BBF-1879450A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0380-CCB2-4D77-B9A6-10D33C2E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B477-243A-4CB1-9123-011A0CD9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95EB-8367-4C11-896A-278E90E4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4CED-B21E-4129-A880-081D8178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BC91-2F01-4A29-B9B6-D1D5770A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01E0-BFB1-4400-84FB-824EAA63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9770-DCA3-4FA6-B017-06ACD074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F649-DC55-4449-89BB-873FB6F4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BB96-12E5-4F2E-B98C-C04BFC84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ABD4-A0D1-47D3-B9C0-661DAF42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AF8C-83CE-4494-B8CA-CAF6C655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98A9-65F7-44C0-9C2E-4A84B66F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52F-8753-4827-8D68-BA6ADFC5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3AB7-38F5-4AB1-B1F0-5CA0A673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AC7-A90C-441D-AFFC-5242E3BC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935B-0532-431E-B9C0-3BB58027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F5EF-B543-473E-833B-F282C79C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5BE-1577-466C-B51E-8B1A05F2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4EE3-7A50-440C-9544-0E1E5EE3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F07D-389A-4B0A-8F74-36A4B900512D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D554-798B-4797-88E5-D940AA531806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Localización e Instalacion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29 de octubre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sos Especi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nales de distrib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rédi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Multi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F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1971720" cy="760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1366920" cy="887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132000" y="3716280"/>
            <a:ext cx="1257480" cy="943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5076720" y="3789360"/>
            <a:ext cx="2095560" cy="514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4859280" y="4724280"/>
            <a:ext cx="12765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seño de Instal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Kmart versus Wal-Ma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cia entre Falabella, Almacenes París y Ripley?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24000" y="2997360"/>
            <a:ext cx="403236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seño de Instal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mbiente: temperatura, aire, ruido, olor, iluminación música (pulso, époc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aci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Layout: Menú, comida, basu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quipamiento: Probadores, disponibilidad de la rop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Retail: Pasillos, góndol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ímbolos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eñalét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Vestimen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ecoración (mármol – mader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2997360"/>
            <a:ext cx="1440000" cy="82548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Tip-T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Victori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164360" y="2782800"/>
            <a:ext cx="188604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5940360" y="2852640"/>
          <a:ext cx="1143000" cy="11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2852640"/>
                    <a:ext cx="114300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661080" y="5300640"/>
          <a:ext cx="215280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61080" y="5300640"/>
                    <a:ext cx="21528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5580000" y="5157720"/>
            <a:ext cx="933480" cy="1085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3309840" y="5227560"/>
            <a:ext cx="15494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seño de Instal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bjetivos de un 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esplazamiento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Salas de cirugía, almuerzos de pacientes, baños de muje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Seguridad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Fiestas de año nuevo, espacio en bomberos, bóve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Privacidad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Baño, cocina en restaurantes, boxes en clínic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Robustez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Drive-in, estacionamiento, restaurants de más pisos, congestión en mesanin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omunidad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Químicos de lavandería, fumad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Presupues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ezar chico pero pensar en gran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arreras de entr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calización múlti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calizaciones prem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raf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580000" y="4724280"/>
            <a:ext cx="20163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ervice Delive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rvice Concep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trategy to deal with compet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lujo de Clientes y de Trabajo: Localización, equipamiento, layo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sonal: Procedimientos, ro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didas: calidad, satisfacción, capac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unca termina, es crea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seño de Nuevos Servic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xonomía: Tecnología, Gente, Siste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utomat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agramas (Blueprinting) Einstein Weintrau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ront – back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bjetivos estratég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xonomía de diseñ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plicaciones Automátic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ixed Sequence (F): (un paso) entrada al estacionamiento, control de asistencia, contestadora, papel higiénico, regad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ariable Sequence (V): (varios pasos) IVR, Ascensor, transferencia electrónica, carwas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lligent (I): (sensores) Piloto automático, Coca-Cola, SD20A, semáfo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pert System (E): (datos) clasificar errores, diagnóstico de pacientes, pronóstic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otally automated system (T): (sensores y datos) ruteo en tiempo real, sorter, C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seño de modelos de nego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rgan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rganiz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ultura: creencias de los miembros de una organización (3M innovación, Metro, Endesa exactitud, Bci diferencia, Capel pisquito, Procter Emprendimient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oderamiento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irámide (Mc Donalds) Up or Go (DM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 invertida (Información – Instrucción) (ECM) relación cliente proveedor (MOP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tación (Unimarc – Taco Bel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finición del Probl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foques de Solu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sos Especi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eño de Instal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ersonal de Contac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clutami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icultades en el pasado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racterísticas negativas del medio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Qué hiciste? Qué haría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nte esta situación difícil, qué haría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Quién es José Mosquer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renami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arámetros: Represen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étrica de dista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tinu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tributo de dista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4365720"/>
            <a:ext cx="4248360" cy="2011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796000" y="3429000"/>
            <a:ext cx="21668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arámetros: Ubic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pac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ccesos (cultur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sibilidades de expan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tricciones leg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s de servici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(Integramédic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522760" y="4869000"/>
            <a:ext cx="2505240" cy="1185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254720" y="2133720"/>
            <a:ext cx="1278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arámetros: Dema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formación: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ASEN, Origen – destino,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ta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gmentación del mercado (j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dad, sexo, actividad, et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amaño de las ubicaciones (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alculabilida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rror de estim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por ubicació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em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=f(merc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,j=1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, ... , merc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,j=J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lastic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em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=f(dem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=1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, ... , dem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=I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10480" y="692280"/>
          <a:ext cx="857160" cy="113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0480" y="692280"/>
                    <a:ext cx="85716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927920" y="1052640"/>
            <a:ext cx="2476440" cy="428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716440" y="2779560"/>
            <a:ext cx="1735200" cy="936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5141880" y="4146480"/>
            <a:ext cx="33908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inimizar tiempos de respues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inimizar cost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ranspor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aximizar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Reta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ervicios públic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étrica de atribut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romedio, máximo, mínim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or persona, por via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1295280" cy="544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708360" y="3213000"/>
            <a:ext cx="2448000" cy="347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284720" y="3933720"/>
            <a:ext cx="1200240" cy="1111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724360" y="4632480"/>
            <a:ext cx="334836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nfoques de Solu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emplo: min – max de dista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ptim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Heurístic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Greedy (penalizad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3280" y="3265560"/>
            <a:ext cx="3743640" cy="2611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050920" y="3373560"/>
            <a:ext cx="12258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sos Especi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tancia entre competid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lustering competiti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ccesibilidad – Visi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796000" y="4653000"/>
            <a:ext cx="2592360" cy="198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6588000" y="2852640"/>
          <a:ext cx="116064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8000" y="2852640"/>
                    <a:ext cx="116064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187280" y="4365720"/>
          <a:ext cx="2951280" cy="134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7280" y="4365720"/>
                    <a:ext cx="29512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sos Especi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tancia entre Local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nibal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mpras impulsivas – publicidad cruz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 superpone con el efecto “alta densidad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651640" y="4653000"/>
            <a:ext cx="1454040" cy="2060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093080" y="4653000"/>
            <a:ext cx="1093680" cy="20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2124000" y="5100480"/>
          <a:ext cx="2519280" cy="151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5100480"/>
                    <a:ext cx="2519280" cy="15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0:25:18Z</dcterms:created>
  <dc:creator>Joselyn Bravo</dc:creator>
  <dc:description/>
  <dc:language>en-US</dc:language>
  <cp:lastModifiedBy>Joselyn Bravo</cp:lastModifiedBy>
  <dcterms:modified xsi:type="dcterms:W3CDTF">2007-10-29T20:55:17Z</dcterms:modified>
  <cp:revision>134</cp:revision>
  <dc:subject/>
  <dc:title>Gestión de la Ofer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