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3.jpeg" ContentType="image/jpeg"/>
  <Override PartName="/ppt/media/image23.png" ContentType="image/png"/>
  <Override PartName="/ppt/media/image29.wmf" ContentType="image/x-wmf"/>
  <Override PartName="/ppt/media/image1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09C-4204-4562-8DDB-56F17F3C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B29-303B-46EA-B0FD-74935F0A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309-C0E2-44E7-B17B-E1098D71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79E-3F8D-4B36-AC8E-E5ED66B6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E440-0B32-4554-9078-24D0A229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0A14-29A8-4DD9-B971-880C0154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A9D6-4E79-458B-865B-B29610E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73B-77C6-4D11-A86C-013C65E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08B-D7E8-46CA-ABBA-5CE6EB42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7BEC-82D7-473B-B96C-A89ACF0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895F-E473-425B-8FDB-3DC50EA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EA4-153F-4FF3-BF67-D0AF4D1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A61-C05E-4919-8524-B2EB003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4D6A-3A6F-4833-9408-ECA611D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523-627C-448D-8DC6-7AC30E54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A3BE-F78F-4824-9212-E2C1D41A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8C5-3CD8-4408-8986-1C645D80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66E-EDD6-4452-8C33-BB1E6D1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951-3C23-4B8F-9304-AB212C60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8A3-EB15-45D8-8DAF-3C6FE8AD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EA1-8443-4641-8A76-15229B91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29C-C6CA-4EDD-BDF4-6063DE2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041-6BE3-425D-926E-BF1D851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E1B-8781-42CE-BC0F-D7D5CC7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1D0A-5EA8-4CA5-BDA6-D413DB9A0560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3E6D-247E-49C0-8879-50FBCA76D420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Localización e Instalacio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9 de octubre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es de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édi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971720" cy="76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1366920" cy="88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209556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Kmart versus Wal-M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 entre Falabella, Almacenes París y Ripley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032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mbiente: temperatura, aire, ruido, olor, iluminación música (pulso, épo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yout: Menú, comida, bas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quipamiento: Probadores, disponibilidad de la rop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: Pasillos, góndo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ímbol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esti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coración (mármol – made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997360"/>
            <a:ext cx="1440000" cy="8254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Tip-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Victor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4360" y="2782800"/>
            <a:ext cx="18860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5940360" y="2852640"/>
          <a:ext cx="114300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2852640"/>
                    <a:ext cx="1143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661080" y="5300640"/>
          <a:ext cx="215280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1080" y="5300640"/>
                    <a:ext cx="2152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580000" y="5157720"/>
            <a:ext cx="93348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309840" y="5227560"/>
            <a:ext cx="15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bjetivos de un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splazamient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alas de cirugía, almuerzos de pacientes, baños de muje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gur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Fiestas de año nuevo, espacio en bomberos, bóve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ivac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año, cocina en restaurantes, boxes en clín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obustez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Drive-in, estacionamiento, restaurants de más pisos, congestión en mesani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Químicos de lavandería, fum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esupu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ezar chico pero pensar en gra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rreras de ent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ones prem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raf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2016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ervice Deliv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y to deal with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ujo de Clientes y de Trabajo: Localización, equipamiento, lay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sonal: Procedimientos, ro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: calidad, satisfacción,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nca termina, es cre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Nuev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: Tecnología, Gente, Sist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tomat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gramas (Blueprinting) Einstein Weintra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ont – back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Autom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ed Sequence (F): (un paso) entrada al estacionamiento, control de asistencia, contestadora, papel higiénico, reg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 Sequence (V): (varios pasos) IVR, Ascensor, transferencia electrónica, carw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lligent (I): (sensores) Piloto automático, Coca-Cola, SD20A, semáf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ert System (E): (datos) clasificar errores, diagnóstico de pacientes, pronó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otally automated system (T): (sensores y datos) ruteo en tiempo real, sorter, C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modelos de nego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rgan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ltura: creencias de los miembros de una organización (3M innovación, Metro, Endesa exactitud, Bci diferencia, Capel pisquito, Procter Emprendimien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oderamien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rámide (Mc Donalds) Up or Go (DM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 invertida (Información – Instrucción) (ECM) relación cliente proveedor (MOP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 (Unimarc – Taco B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finición del 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foques de Sol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s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l de Conta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lut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icultades en el pas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ísticas negativas del medi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é hiciste?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te esta situación difícil,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ién es José Mosque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r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Repres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rica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424836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16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Ubic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os (cul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sibilidades de expan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leg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servic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Integraméd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22760" y="4869000"/>
            <a:ext cx="2505240" cy="11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54720" y="2133720"/>
            <a:ext cx="1278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ormación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ASEN, Origen – destino,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del mercado (j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dad, sexo, actividad,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 de las ubicaciones 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culabi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rror de estim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por ubic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asti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0480" y="692280"/>
          <a:ext cx="85716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0480" y="692280"/>
                    <a:ext cx="857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7920" y="1052640"/>
            <a:ext cx="247644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16440" y="2779560"/>
            <a:ext cx="173520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141880" y="4146480"/>
            <a:ext cx="3390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tiempos de 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cos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ximizar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étrica de atribu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medio, máximo, mín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or persona, por via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295280" cy="54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2448000" cy="3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84720" y="3933720"/>
            <a:ext cx="1200240" cy="111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724360" y="4632480"/>
            <a:ext cx="3348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s de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: min – max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eurís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reedy (penaliza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265560"/>
            <a:ext cx="37436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0920" y="3373560"/>
            <a:ext cx="12258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compet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ustering competi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ibilidad – Vi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592360" cy="19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6588000" y="2852640"/>
          <a:ext cx="116064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852640"/>
                    <a:ext cx="1160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87280" y="4365720"/>
          <a:ext cx="295128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365720"/>
                    <a:ext cx="29512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Loc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ib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s impulsivas – publicidad cru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superpone con el efecto “alta densida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4540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09368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124000" y="5100480"/>
          <a:ext cx="2519280" cy="15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100480"/>
                    <a:ext cx="25192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0-29T20:55:17Z</dcterms:modified>
  <cp:revision>134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