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333E-725C-42E1-AAF2-C8E11FA9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FDEB-CFD9-4CB4-8193-D0983304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2623-8EFC-4CF6-AFF0-CB3C7992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51A4-4610-4DA1-96E0-D1F0DD9F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59FC-B5E7-49D8-BE80-87715527E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BD99-2D2B-426B-B86D-1670E64E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AA63-17B6-4F52-A6F2-FAC8DA51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7822-816F-4794-975B-C3614D47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BD60-9B2A-4D51-A461-02C2A24C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430E-5AB3-4D46-B06E-06B0E258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6B1F-C400-40B1-8407-040BE4F4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27EB-3B7A-4921-88C8-01652770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845C-FFE4-4E02-81E5-A131FA15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ADF8-50DF-4F9B-A88A-FEAAD637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ED64-4256-4652-B544-49B0E8BB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9B31-34E6-4C54-85AB-6FAAA0D75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16AA-5AEB-40FC-9A86-A7437E75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30E9-06B6-4DE0-AB3A-9E4AFBCA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DB41-D336-41B0-8235-32F8941F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7914-5DEC-45F9-AD3E-05C47B53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E191-81E1-403A-A34C-98FDF95E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67A9-B575-4E20-A589-E11FA253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9C7F-28ED-4373-8681-AA8C1BF3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8760-58A4-4610-B0AC-D6B90F75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3B57-DAE1-4A2C-860A-48FA2D7992A8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C62B-1710-4161-8A95-842A45F77750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10 de septiembre de 2007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ponsive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su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mpath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ang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Fuente: Zeithalm, Parasuraman y Ber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ponsive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Disponibi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Respues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su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Competenc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Confianz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mpath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ang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iability </a:t>
            </a: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(Confiabilida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isponi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pacidad de proveer de un servicio oportu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chedu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ty plan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Islas y Bomberos (o Caja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Respues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acción ante proble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lexibilidad en el hor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volu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Surtidor de 9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mpete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ocimiento técn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rtesía, ama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dicación exclusi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Bienvenida, Limpieza de vidrios, ubicación de la tap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fianz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ransmisión de credibilidad a través de los emple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Surtidor en cero, dar bole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Empat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nsibilidad para comprender las necesidades e intereses del cl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cces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Hor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sonal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Hablar del auto, limpiador de inyect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Tang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ariencia, limpieza, atractivo, tecnología, amb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stala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quipami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tros Clien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Mangueras y Limpiaparabrisas, rui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ñalé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uevos produc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mo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Vasos, pelotas, Majoret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fia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minución de la variabilidad, cumplimiento de compromi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andar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ront Office: Tiempo (Rapidez y Percepció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ack Office: Órdenes de compra, factu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Agua y a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odelo de Brech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mensiones de la 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dición de la 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4000" y="20602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Arial"/>
              </a:rPr>
              <a:t>¿Cómo medir la calidad de un servicio médico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inco enfoq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Es adecuada la secuencia de actividad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Clasificación de pacientes, asignación de boxes, doctores y enfermeras, toma de exámenes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Hay recursos disponibl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Discusión entre doctores, utilización (enfermos en pasillo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Se están siguiendo los procedimiento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Colegio médico, pitutos, fonas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Imp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Cuál es el efecto en el largo plaz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Mortalidad infantil, distancia promedio a un centro médico, rechazos por prev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Está satisfecho el Client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Infecciones por cirugía, muertes por enfermedad, quejas,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encuestas de calidad de servi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ncuestas de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s mediciones son invasiv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úmero de Respuestas versus Ses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fecto Hal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cepción </a:t>
            </a:r>
            <a:r>
              <a:rPr b="0" lang="es-E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Atributos </a:t>
            </a:r>
            <a:r>
              <a:rPr b="0" lang="es-E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Esca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ner números no logra objetiv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oyo de la firma a los emple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ortancia entre dimens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atividad: Percepciones y Expectativ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criminar entre clie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cluir medidas Objeti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olucrarse en la medi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0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2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06" idx="3"/>
            <a:endCxn id="108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08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3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5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29" idx="3"/>
            <a:endCxn id="131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0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31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22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Investigación de Mercad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Comunicación a través de la Jerarquí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0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2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56" idx="3"/>
            <a:endCxn id="158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57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13240" y="6093000"/>
            <a:ext cx="0" cy="2822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76520" y="604512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58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436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Definición de Met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Definición de Polític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1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85" idx="3"/>
            <a:endCxn id="187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86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513240" y="6093000"/>
            <a:ext cx="0" cy="2822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76520" y="604512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5240" y="539748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87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513240" y="5451120"/>
            <a:ext cx="0" cy="28260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22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Incentivos conflictivos o pervers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Infraestructu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Contro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0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2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216" idx="3"/>
            <a:endCxn id="218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7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513240" y="6093000"/>
            <a:ext cx="0" cy="2822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76520" y="604512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5240" y="539748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59320" y="5253120"/>
            <a:ext cx="83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56000" y="5300640"/>
            <a:ext cx="91620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18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513240" y="5451120"/>
            <a:ext cx="0" cy="28260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22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Comunicación Marketing – Operac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Comunicación geográf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Sobreofrecer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55" name=""/>
          <p:cNvCxnSpPr>
            <a:stCxn id="243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5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49" idx="3"/>
            <a:endCxn id="251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61" name=""/>
          <p:cNvCxnSpPr/>
          <p:nvPr/>
        </p:nvCxnSpPr>
        <p:spPr>
          <a:xfrm>
            <a:off x="3512880" y="4149360"/>
            <a:ext cx="1080" cy="289440"/>
          </a:xfrm>
          <a:prstGeom prst="straightConnector1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2668680" y="4149720"/>
            <a:ext cx="113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63" name=""/>
          <p:cNvCxnSpPr>
            <a:stCxn id="250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513240" y="6093000"/>
            <a:ext cx="0" cy="2822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76520" y="604512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05240" y="539748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59320" y="5253120"/>
            <a:ext cx="83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356000" y="5300640"/>
            <a:ext cx="91620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1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513240" y="5451120"/>
            <a:ext cx="0" cy="28260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22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Insatisfac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Satisfac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Deligh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4000" y="20602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Arial"/>
              </a:rPr>
              <a:t>¿Por qué el servicio de una bencinera es de buena o mala calida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00:25:18Z</dcterms:created>
  <dc:creator>Joselyn Bravo</dc:creator>
  <dc:description/>
  <dc:language>en-US</dc:language>
  <cp:lastModifiedBy>Joselyn Bravo</cp:lastModifiedBy>
  <dcterms:modified xsi:type="dcterms:W3CDTF">2007-09-10T11:31:39Z</dcterms:modified>
  <cp:revision>69</cp:revision>
  <dc:subject/>
  <dc:title>Gestión de la Ofer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