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498-58F4-4876-9ACB-DE6B1A1E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47B-046F-4749-9B6B-937CCAB7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D6F-C31A-40B9-A69D-9C898AE6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B27-4C53-4F0A-B394-3A5D83FF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07B4-1461-4E9B-A1DB-22E49105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6814-406D-4556-ACD0-934B8A8B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7DE5-36AD-4857-AE13-61153BFA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BE40-8778-4648-A9F9-F564E28A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02F4-488A-48B3-83BA-819BAA9A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A2FE-E922-4D11-AE5E-81E32544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0368-11A3-43E4-A7F2-AA0C39FB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9DC-082E-4095-8745-79FD9E2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0019-C3B1-4767-873D-B3A8A46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4013-8D55-4333-BC69-56AFCEFE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3DA0-1647-4052-A841-0E11352A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433-99F5-4C09-AF12-04864522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3D77-7218-4F6D-913E-BC3BD117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054-0FD3-4E89-B689-4FEFECFB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09F-FC1D-442D-BEF6-C1025FFE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7E4-0D15-4BB7-B475-AB6F4CE1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0C6-5508-4661-9CC3-D7FDFFEB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0A3-2267-4EFA-920B-EC391956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606-E151-4DE7-986E-AAC2D4A3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F03-877C-4B31-9C42-2DED61B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EF6A-59C2-4995-A9E9-79C70A28EC3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45C1-D9D3-4C21-B895-1CE4E8112B49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10 de septiembre de 2007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uente: Zeithalm, Parasuraman y Ber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ponsive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Disponibi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Respues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99"/>
                </a:solidFill>
                <a:latin typeface="Arial"/>
              </a:rPr>
              <a:t>Confi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mpat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iability </a:t>
            </a:r>
            <a:r>
              <a:rPr b="0" lang="es-ES" sz="2800" spc="-1" strike="noStrike">
                <a:solidFill>
                  <a:srgbClr val="666699"/>
                </a:solidFill>
                <a:latin typeface="Arial"/>
              </a:rPr>
              <a:t>(Confiabilida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sponi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de proveer de un servicio oport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ty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slas y Bomberos (o Caj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spue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acción ante proble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lexibilidad en el 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volu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de 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ocimiento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tesía, am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dicación exclus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Bienvenida, Limpieza de vidrios, ubicación de la tap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misión de credibilidad a través de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Surtidor en cero, dar bole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mpat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para comprender las necesidades e intereses del cl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cces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iz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Hablar del auto, limpiador de inyecto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ang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ariencia, limpieza, atractivo, tecnología, ambi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stal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quipa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os Cli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angueras y Limpiaparabrisas, ru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ñalé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uevos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mo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Vasos, pelotas, Majoret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fi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minución de la variabilidad, cumplimiento de compromi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ront Office: Tiempo (Rapidez y Percep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Back Office: Órdenes de compra, fact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Agua y a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delo de Brech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mensiones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 de la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Cómo medir la calidad de un servicio médic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inco enfo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 adecuada la secuencia de actividad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lasificación de pacientes, asignación de boxes, doctores y enfermeras, toma de exámenes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Hay recursos disponibl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Discusión entre doctores, utilización (enfermos en pasillo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t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Se están siguiendo los procedimiento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Colegio médico, pitutos, fonas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es el efecto en el largo plaz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Mortalidad infantil, distancia promedio a un centro médico, rechazos por prev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edición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Está satisfecho el Clien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: Infecciones por cirugía, muertes por enfermedad, queja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cuestas de calidad de servic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cuestas de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s mediciones son invas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úmero de Respuestas versus Ses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fecto Ha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cepción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Atributos </a:t>
            </a:r>
            <a:r>
              <a:rPr b="0" lang="es-E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Esca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ner números no logra objetiv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de la firma a los emple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ortancia entre dimens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tividad: Percepciones y Expectativ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scriminar entre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cluir medidas Obje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olucrarse en la medi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06" idx="3"/>
            <a:endCxn id="10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0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3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vestigación de Merc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a través de la Jerarqu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6" idx="3"/>
            <a:endCxn id="15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5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436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Me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finición de Polític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1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5" idx="3"/>
            <a:endCxn id="187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7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centivos conflictivos o pervers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fraestruc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nt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0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16" idx="3"/>
            <a:endCxn id="218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7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18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Marketing – Oper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Comunic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obreofrece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rechas en la Calidad del Servi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76360" y="3141720"/>
            <a:ext cx="148896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ó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Boca Orej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68520" y="3068640"/>
            <a:ext cx="1428840" cy="366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Necesidad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sonal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03640" y="313524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xperiencia Pasad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08400" y="3855960"/>
            <a:ext cx="1428840" cy="2937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Esper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906640" y="4462560"/>
            <a:ext cx="226224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sobre el 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Recibido </a:t>
            </a: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(Servicio Percibido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13240" y="5067360"/>
            <a:ext cx="833400" cy="377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Servicio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ntregad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24160" y="5715000"/>
            <a:ext cx="1905120" cy="378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Especificacion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de la Calidad de Servic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71920" y="6407280"/>
            <a:ext cx="2857320" cy="334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Percepción de la Gerencia d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las Expectativas de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40160" y="5157720"/>
            <a:ext cx="1492560" cy="358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Comunicacione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3366"/>
                </a:solidFill>
                <a:latin typeface="Arial"/>
              </a:rPr>
              <a:t>a los Client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4941720"/>
            <a:ext cx="5977080" cy="0"/>
          </a:xfrm>
          <a:prstGeom prst="line">
            <a:avLst/>
          </a:prstGeom>
          <a:ln w="57240">
            <a:solidFill>
              <a:srgbClr val="3333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3440" y="4141800"/>
            <a:ext cx="13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4880" y="5367240"/>
            <a:ext cx="16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43" idx="2"/>
          </p:cNvCxnSpPr>
          <p:nvPr/>
        </p:nvCxnSpPr>
        <p:spPr>
          <a:xfrm flipH="1" rot="16200000">
            <a:off x="2556360" y="3165120"/>
            <a:ext cx="432360" cy="110556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5" idx="2"/>
          </p:cNvCxnSpPr>
          <p:nvPr/>
        </p:nvCxnSpPr>
        <p:spPr>
          <a:xfrm rot="5400000">
            <a:off x="4978440" y="3186720"/>
            <a:ext cx="497520" cy="981720"/>
          </a:xfrm>
          <a:prstGeom prst="bentConnector2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4089240" y="3429000"/>
            <a:ext cx="1800" cy="43164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089240" y="6093000"/>
            <a:ext cx="0" cy="288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089240" y="4790880"/>
            <a:ext cx="1800" cy="293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9" idx="3"/>
            <a:endCxn id="251" idx="2"/>
          </p:cNvCxnSpPr>
          <p:nvPr/>
        </p:nvCxnSpPr>
        <p:spPr>
          <a:xfrm flipV="1">
            <a:off x="5128920" y="5516280"/>
            <a:ext cx="857880" cy="38808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>
            <a:off x="3512880" y="4149360"/>
            <a:ext cx="1080" cy="289440"/>
          </a:xfrm>
          <a:prstGeom prst="straightConnector1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668680" y="414972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50" idx="1"/>
          </p:cNvCxnSpPr>
          <p:nvPr/>
        </p:nvCxnSpPr>
        <p:spPr>
          <a:xfrm rot="10800000">
            <a:off x="2431440" y="4075920"/>
            <a:ext cx="240480" cy="2499480"/>
          </a:xfrm>
          <a:prstGeom prst="bentConnector2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2438280" y="2133720"/>
            <a:ext cx="952560" cy="14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96880" y="446076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1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513240" y="6093000"/>
            <a:ext cx="0" cy="28224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76520" y="604512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5240" y="539748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3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59320" y="5253120"/>
            <a:ext cx="83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GAP 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300640"/>
            <a:ext cx="91620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165640" y="4653000"/>
            <a:ext cx="774720" cy="14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1" idx="0"/>
          </p:cNvCxnSpPr>
          <p:nvPr/>
        </p:nvCxnSpPr>
        <p:spPr>
          <a:xfrm flipV="1" rot="16200000">
            <a:off x="4810320" y="3981240"/>
            <a:ext cx="1081800" cy="1270800"/>
          </a:xfrm>
          <a:prstGeom prst="bentConnector2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 flipV="1">
            <a:off x="4089240" y="5444640"/>
            <a:ext cx="0" cy="289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513240" y="5451120"/>
            <a:ext cx="0" cy="28260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32160" y="4076640"/>
            <a:ext cx="865080" cy="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527520" y="2420640"/>
            <a:ext cx="2220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In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Satisfac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Del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mensiones de la 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4000" y="20602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Arial"/>
              </a:rPr>
              <a:t>¿Por qué el servicio de una bencinera es de buena o mala calida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09-10T11:31:39Z</dcterms:modified>
  <cp:revision>69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