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815-0057-4470-927A-25D92DD5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9A2-1CB9-47C5-9F6A-3C179D4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4F8-1308-4989-B736-5D8C5C4D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7CB-AC06-44FB-85F3-227D1EA4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EB56-00BD-42E1-A58C-66FC0B57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72E2-9026-4168-8729-831A027A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3BF1-9B6D-4063-8BDB-2F445BCB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8460-C9BD-432C-9B2B-770566BB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419A-1828-4ADE-8C0B-E0184389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FBBA-96D5-4FB4-AEC2-803D411C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621F-2480-4962-B775-BF1A505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1A4-A1A2-4476-BE23-686755A4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9976-BD0F-4CB6-83C4-D87BAB4E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C8AC-8310-44F4-A7AF-DFC82CD9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9A09-A2F9-467B-A319-3FD922F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947B-4607-473B-872E-1C26729F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406B-209B-4E20-97B4-132102B2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E7C-39F2-41FF-AA6C-791F42F0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61C-D97B-4D10-9B2F-B0BA8B38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37F-3F6B-443A-AFB3-8F101538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D63-D625-4F8D-A62F-5E707470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FC4-926B-4DDE-82B3-2F99E05B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793-84A6-4156-9D3B-9E38220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065-3DC4-4600-82FD-2400AEAE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6E15-A8CF-429E-AA90-28504C782ABF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7B23-50F1-43C1-BD5A-CAF5283CADD5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10 de septiembre de 2007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uente: Zeithalm, Parasuraman y Ber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nfi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 </a:t>
            </a: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(Confiabili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de proveer de un servicio oport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slas y Bomberos (o Caj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acción ante probl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dad en el 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volu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de 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ocimiento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tesía, am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dicación exclus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Bienvenida, Limpieza de vidrios, ubicación de la ta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misión de credibilidad a través de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en cero, dar bole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mpat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para comprender las necesidades e intereses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Hablar del auto, limpiador de inye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ariencia, limpieza, atractivo, tecnología, 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 Cl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angueras y Limpiaparabrisas, ru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evos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mo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Vasos, pelotas, Majoret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minución de la variabilidad, cumplimiento de compromi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Tiempo (Rapidez y Perce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Órdenes de compra, fact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Agua y 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delo de Brech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mensiones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Cómo medir la calidad de un servicio médic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inco enfo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 adecuada la secuencia de actividad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lasificación de pacientes, asignación de boxes, doctores y enfermeras, toma de exámen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Hay recursos disponi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Discusión entre doctores, utilización (enfermos en pasill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Se están siguiendo los procedimien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olegio médico, pitutos, fona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es el efecto en el largo plaz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ortalidad infantil, distancia promedio a un centro médico, rechazos por prev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tá satisfecho el Clien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nfecciones por cirugía, muertes por enfermedad, queja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ncuestas de calidad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cuestas de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mediciones son invas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Respuestas versus Ses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fecto Ha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Atributos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sca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ner números no logra objetiv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de la firma a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tre dimens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tividad: Percepciones y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criminar entre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luir medidas Obje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olucrarse en la medi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3"/>
            <a:endCxn id="10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0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3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vestigación de Merc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a través de la Jerarqu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56" idx="3"/>
            <a:endCxn id="15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5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436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Me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Polí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1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5" idx="3"/>
            <a:endCxn id="187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7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centivos conflictivos o perve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nt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6" idx="3"/>
            <a:endCxn id="21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1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Marketing – Oper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obreofrece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4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9" idx="3"/>
            <a:endCxn id="25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1" name=""/>
          <p:cNvCxnSpPr/>
          <p:nvPr/>
        </p:nvCxnSpPr>
        <p:spPr>
          <a:xfrm>
            <a:off x="3512880" y="4149360"/>
            <a:ext cx="1080" cy="289440"/>
          </a:xfrm>
          <a:prstGeom prst="straightConnector1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668680" y="414972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l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Por qué el servicio de una bencinera es de buena o mala calida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9-10T11:31:39Z</dcterms:modified>
  <cp:revision>6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