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F365-E9C5-4380-A11C-3B915F7F3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B726-2CFF-4661-9E01-B53A8DBF6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9A58-065C-48A8-BF61-8374ADAD6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E560-9946-4D9B-968E-4EE2CD937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C91EC-6BBC-4129-B02A-ED2A60602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827F1-351C-489B-A90F-A915A9451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26466-7CFC-4C45-9B02-F0EAF7269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6BCCD-D869-4F8A-BF1B-8907CDD96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D144A-6C1F-48E4-B308-635053F84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C5C0A-9DAA-46AE-86B5-2723651F3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E1422-BA54-45F1-B5CB-95F10913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140E-6272-4E48-924C-9101A8E3E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FEA80-07A7-4153-9A1F-F6AE235A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C4B33-4853-4B6D-85F4-3FA11646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D2EA5-96A0-4D56-8B7F-A392A7151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7F194-4A3E-42EC-8979-E7C9D60A2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19246-173F-45EA-BF72-F6A09308E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88EA-FF1C-40B6-891C-ACF321774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E054-EA37-41A9-AAE1-59C3F8604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6D5B-551D-4D01-A2F8-9230805A4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CE2A-8035-4F7F-9FDA-D679A0719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D268-FCB7-48D9-8DDF-B7192D4D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F147-CE94-4647-8ACD-AD63D642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FB9C-2F17-4181-90AE-2A897C7B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23C81-D2CB-469F-8C04-F509C81784E6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D62AB-9EC4-419C-8A5F-4A2A53570CB3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Arial"/>
              </a:rPr>
              <a:t>Calidad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66"/>
                </a:solidFill>
                <a:latin typeface="Arial"/>
              </a:rPr>
              <a:t>IN71K: Gestión de Operaciones en la Industria de Servicios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66"/>
                </a:solidFill>
                <a:latin typeface="Arial"/>
              </a:rPr>
              <a:t>10 de septiembre de 2007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mensiones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sponsiven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ssur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mpath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angib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liabil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Fuente: Zeithalm, Parasuraman y Ber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mensiones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sponsiven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6699"/>
                </a:solidFill>
                <a:latin typeface="Arial"/>
              </a:rPr>
              <a:t>Disponibilid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6699"/>
                </a:solidFill>
                <a:latin typeface="Arial"/>
              </a:rPr>
              <a:t>Respues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ssur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6699"/>
                </a:solidFill>
                <a:latin typeface="Arial"/>
              </a:rPr>
              <a:t>Competenci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6699"/>
                </a:solidFill>
                <a:latin typeface="Arial"/>
              </a:rPr>
              <a:t>Confianz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mpath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angib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6699"/>
                </a:solidFill>
                <a:latin typeface="Arial"/>
              </a:rPr>
              <a:t>Inform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liability </a:t>
            </a:r>
            <a:r>
              <a:rPr b="0" lang="es-ES" sz="2800" spc="-1" strike="noStrike">
                <a:solidFill>
                  <a:srgbClr val="666699"/>
                </a:solidFill>
                <a:latin typeface="Arial"/>
              </a:rPr>
              <a:t>(Confiabilidad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mensiones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Disponibil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apacidad de proveer de un servicio oportun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chedul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pacity plann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: Islas y Bomberos (o Caja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mensiones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Respues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acción ante proble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Flexibilidad en el horar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evolucion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: Surtidor de 9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mensiones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Competenc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nocimiento técnic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rtesía, amabil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edicación exclusiv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: Bienvenida, Limpieza de vidrios, ubicación de la tap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mensiones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Confianz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ransmisión de credibilidad a través de los emplead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: Surtidor en cero, dar bole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mensiones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Empatí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nsibilidad para comprender las necesidades e intereses del clien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cces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Horar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ersonaliz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: Hablar del auto, limpiador de inyecto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mensiones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Tangib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pariencia, limpieza, atractivo, tecnología, ambien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stalacion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quipamien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erson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Otros Client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: Mangueras y Limpiaparabrisas, ruid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mensiones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Inform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ñalétic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Nuevos produc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omocio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: Vasos, pelotas, Majoret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mensiones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Confiabil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isminución de la variabilidad, cumplimiento de compromis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standariz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Front Office: Tiempo (Rapidez y Percepción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Back Office: Órdenes de compra, factur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: Agua y ai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odelo de Brech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imensiones de la Cal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edición de la Cal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edición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684000" y="20602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Arial"/>
              </a:rPr>
              <a:t>¿Cómo medir la calidad de un servicio médico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edición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inco enfoqu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oc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tructu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nt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mpa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edición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Proc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¿Es adecuada la secuencia de actividade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: Clasificación de pacientes, asignación de boxes, doctores y enfermeras, toma de exámenes, etc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edición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Structu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¿Hay recursos disponible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: Discusión entre doctores, utilización (enfermos en pasillo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edición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Cont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¿Se están siguiendo los procedimiento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: Colegio médico, pitutos, fonas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edición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Impa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¿Cuál es el efecto en el largo plazo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: Mortalidad infantil, distancia promedio a un centro médico, rechazos por previs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edición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¿Está satisfecho el Client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: Infecciones por cirugía, muertes por enfermedad, quejas, 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encuestas de calidad de servic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Encuestas de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as mediciones son invasiv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Número de Respuestas versus Sesg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fecto Hal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ercepción </a:t>
            </a:r>
            <a:r>
              <a:rPr b="0" lang="es-ES" sz="28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Atributos </a:t>
            </a:r>
            <a:r>
              <a:rPr b="0" lang="es-ES" sz="28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Escal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oner números no logra objetiv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omentarios Fina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poyo de la firma a los emplead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mportancia entre dimensio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latividad: Percepciones y Expectativ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iscriminar entre clien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edi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cluir medidas Objetiv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volucrarse en la medi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Brechas en la Calidad del Servic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76360" y="3141720"/>
            <a:ext cx="148896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Comunicació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Boca Orej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68520" y="3068640"/>
            <a:ext cx="1428840" cy="3668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Necesidade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sonal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03640" y="3135240"/>
            <a:ext cx="1428840" cy="2937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xperiencia Pasad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08400" y="3855960"/>
            <a:ext cx="1428840" cy="2937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Servicio Esperad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06640" y="4462560"/>
            <a:ext cx="2262240" cy="334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cepción sobre el Servicio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Recibido </a:t>
            </a:r>
            <a:r>
              <a:rPr b="0" lang="es-ES_tradnl" sz="1200" spc="-1" strike="noStrike">
                <a:solidFill>
                  <a:srgbClr val="ff0000"/>
                </a:solidFill>
                <a:latin typeface="Arial"/>
              </a:rPr>
              <a:t>(Servicio Percibido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13240" y="5067360"/>
            <a:ext cx="833400" cy="377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Servicio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ntregad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24160" y="5715000"/>
            <a:ext cx="1905120" cy="378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specificacion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de la Calidad de Servici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671920" y="6407280"/>
            <a:ext cx="2857320" cy="334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cepción de la Gerencia d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las Expectativas de los Client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40160" y="5157720"/>
            <a:ext cx="1492560" cy="358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Comunicacione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a los Client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4941720"/>
            <a:ext cx="5977080" cy="0"/>
          </a:xfrm>
          <a:prstGeom prst="line">
            <a:avLst/>
          </a:prstGeom>
          <a:ln w="57240">
            <a:solidFill>
              <a:srgbClr val="3333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03440" y="4141800"/>
            <a:ext cx="13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4880" y="5367240"/>
            <a:ext cx="16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EMPRES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12" name=""/>
          <p:cNvCxnSpPr>
            <a:stCxn id="100" idx="2"/>
          </p:cNvCxnSpPr>
          <p:nvPr/>
        </p:nvCxnSpPr>
        <p:spPr>
          <a:xfrm flipH="1" rot="16200000">
            <a:off x="2556360" y="3165120"/>
            <a:ext cx="432360" cy="1105560"/>
          </a:xfrm>
          <a:prstGeom prst="bentConnector2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13" name=""/>
          <p:cNvCxnSpPr>
            <a:stCxn id="102" idx="2"/>
          </p:cNvCxnSpPr>
          <p:nvPr/>
        </p:nvCxnSpPr>
        <p:spPr>
          <a:xfrm rot="5400000">
            <a:off x="4978440" y="3186720"/>
            <a:ext cx="497520" cy="981720"/>
          </a:xfrm>
          <a:prstGeom prst="bentConnector2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4089240" y="3429000"/>
            <a:ext cx="1800" cy="43164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089240" y="6093000"/>
            <a:ext cx="0" cy="2887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089240" y="4790880"/>
            <a:ext cx="1800" cy="2934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17" name=""/>
          <p:cNvCxnSpPr>
            <a:stCxn id="106" idx="3"/>
            <a:endCxn id="108" idx="2"/>
          </p:cNvCxnSpPr>
          <p:nvPr/>
        </p:nvCxnSpPr>
        <p:spPr>
          <a:xfrm flipV="1">
            <a:off x="5128920" y="5516280"/>
            <a:ext cx="857880" cy="388080"/>
          </a:xfrm>
          <a:prstGeom prst="bentConnector2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2438280" y="2133720"/>
            <a:ext cx="952560" cy="144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165640" y="4653000"/>
            <a:ext cx="774720" cy="14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20" name=""/>
          <p:cNvCxnSpPr>
            <a:stCxn id="108" idx="0"/>
          </p:cNvCxnSpPr>
          <p:nvPr/>
        </p:nvCxnSpPr>
        <p:spPr>
          <a:xfrm flipV="1" rot="16200000">
            <a:off x="4810320" y="3981240"/>
            <a:ext cx="1081800" cy="1270800"/>
          </a:xfrm>
          <a:prstGeom prst="bentConnector2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 flipV="1">
            <a:off x="4089240" y="5444640"/>
            <a:ext cx="0" cy="2890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Brechas en la Calidad del Servic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76360" y="3141720"/>
            <a:ext cx="148896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Comunicació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Boca Orej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368520" y="3068640"/>
            <a:ext cx="1428840" cy="3668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Necesidade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sonal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003640" y="3135240"/>
            <a:ext cx="1428840" cy="2937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xperiencia Pasad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08400" y="3855960"/>
            <a:ext cx="1428840" cy="2937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Servicio Esperad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906640" y="4462560"/>
            <a:ext cx="2262240" cy="334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cepción sobre el Servicio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Recibido </a:t>
            </a:r>
            <a:r>
              <a:rPr b="0" lang="es-ES_tradnl" sz="1200" spc="-1" strike="noStrike">
                <a:solidFill>
                  <a:srgbClr val="ff0000"/>
                </a:solidFill>
                <a:latin typeface="Arial"/>
              </a:rPr>
              <a:t>(Servicio Percibido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13240" y="5067360"/>
            <a:ext cx="833400" cy="377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Servicio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ntregad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24160" y="5715000"/>
            <a:ext cx="1905120" cy="378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specificacion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de la Calidad de Servici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671920" y="6407280"/>
            <a:ext cx="2857320" cy="334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cepción de la Gerencia d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las Expectativas de los Client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240160" y="5157720"/>
            <a:ext cx="1492560" cy="358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Comunicacione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a los Client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55640" y="4941720"/>
            <a:ext cx="5977080" cy="0"/>
          </a:xfrm>
          <a:prstGeom prst="line">
            <a:avLst/>
          </a:prstGeom>
          <a:ln w="57240">
            <a:solidFill>
              <a:srgbClr val="3333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03440" y="4141800"/>
            <a:ext cx="13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4880" y="5367240"/>
            <a:ext cx="16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EMPRES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3" idx="2"/>
          </p:cNvCxnSpPr>
          <p:nvPr/>
        </p:nvCxnSpPr>
        <p:spPr>
          <a:xfrm flipH="1" rot="16200000">
            <a:off x="2556360" y="3165120"/>
            <a:ext cx="432360" cy="1105560"/>
          </a:xfrm>
          <a:prstGeom prst="bentConnector2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36" name=""/>
          <p:cNvCxnSpPr>
            <a:stCxn id="125" idx="2"/>
          </p:cNvCxnSpPr>
          <p:nvPr/>
        </p:nvCxnSpPr>
        <p:spPr>
          <a:xfrm rot="5400000">
            <a:off x="4978440" y="3186720"/>
            <a:ext cx="497520" cy="981720"/>
          </a:xfrm>
          <a:prstGeom prst="bentConnector2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089240" y="3429000"/>
            <a:ext cx="1800" cy="43164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089240" y="6093000"/>
            <a:ext cx="0" cy="2887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4089240" y="4790880"/>
            <a:ext cx="1800" cy="2934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40" name=""/>
          <p:cNvCxnSpPr>
            <a:stCxn id="129" idx="3"/>
            <a:endCxn id="131" idx="2"/>
          </p:cNvCxnSpPr>
          <p:nvPr/>
        </p:nvCxnSpPr>
        <p:spPr>
          <a:xfrm flipV="1">
            <a:off x="5128920" y="5516280"/>
            <a:ext cx="857880" cy="388080"/>
          </a:xfrm>
          <a:prstGeom prst="bentConnector2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30" idx="1"/>
          </p:cNvCxnSpPr>
          <p:nvPr/>
        </p:nvCxnSpPr>
        <p:spPr>
          <a:xfrm rot="10800000">
            <a:off x="2431440" y="4075920"/>
            <a:ext cx="240480" cy="2499480"/>
          </a:xfrm>
          <a:prstGeom prst="bentConnector2">
            <a:avLst/>
          </a:prstGeom>
          <a:ln w="28440">
            <a:solidFill>
              <a:srgbClr val="003366"/>
            </a:solidFill>
            <a:prstDash val="sysDot"/>
            <a:miter/>
            <a:head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2438280" y="2133720"/>
            <a:ext cx="952560" cy="144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96880" y="4460760"/>
            <a:ext cx="107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GAP 1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165640" y="4653000"/>
            <a:ext cx="774720" cy="14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31" idx="0"/>
          </p:cNvCxnSpPr>
          <p:nvPr/>
        </p:nvCxnSpPr>
        <p:spPr>
          <a:xfrm flipV="1" rot="16200000">
            <a:off x="4810320" y="3981240"/>
            <a:ext cx="1081800" cy="1270800"/>
          </a:xfrm>
          <a:prstGeom prst="bentConnector2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146" name=""/>
          <p:cNvSpPr/>
          <p:nvPr/>
        </p:nvSpPr>
        <p:spPr>
          <a:xfrm flipV="1">
            <a:off x="4089240" y="5444640"/>
            <a:ext cx="0" cy="2890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32160" y="4076640"/>
            <a:ext cx="865080" cy="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527520" y="2420640"/>
            <a:ext cx="2220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Investigación de Mercad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Comunicación a través de la Jerarquí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Brechas en la Calidad del Servic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141720"/>
            <a:ext cx="148896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Comunicació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Boca Orej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68520" y="3068640"/>
            <a:ext cx="1428840" cy="3668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Necesidade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sonal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03640" y="3135240"/>
            <a:ext cx="1428840" cy="2937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xperiencia Pasad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08400" y="3855960"/>
            <a:ext cx="1428840" cy="2937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Servicio Esperad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906640" y="4462560"/>
            <a:ext cx="2262240" cy="334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cepción sobre el Servicio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Recibido </a:t>
            </a:r>
            <a:r>
              <a:rPr b="0" lang="es-ES_tradnl" sz="1200" spc="-1" strike="noStrike">
                <a:solidFill>
                  <a:srgbClr val="ff0000"/>
                </a:solidFill>
                <a:latin typeface="Arial"/>
              </a:rPr>
              <a:t>(Servicio Percibido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13240" y="5067360"/>
            <a:ext cx="833400" cy="377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Servicio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ntregad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24160" y="5715000"/>
            <a:ext cx="1905120" cy="378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specificacion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de la Calidad de Servici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671920" y="6407280"/>
            <a:ext cx="2857320" cy="334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cepción de la Gerencia d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las Expectativas de los Client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240160" y="5157720"/>
            <a:ext cx="1492560" cy="358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Comunicacione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a los Client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4941720"/>
            <a:ext cx="5977080" cy="0"/>
          </a:xfrm>
          <a:prstGeom prst="line">
            <a:avLst/>
          </a:prstGeom>
          <a:ln w="57240">
            <a:solidFill>
              <a:srgbClr val="3333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03440" y="4141800"/>
            <a:ext cx="13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4880" y="5367240"/>
            <a:ext cx="16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EMPRES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0" idx="2"/>
          </p:cNvCxnSpPr>
          <p:nvPr/>
        </p:nvCxnSpPr>
        <p:spPr>
          <a:xfrm flipH="1" rot="16200000">
            <a:off x="2556360" y="3165120"/>
            <a:ext cx="432360" cy="1105560"/>
          </a:xfrm>
          <a:prstGeom prst="bentConnector2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63" name=""/>
          <p:cNvCxnSpPr>
            <a:stCxn id="152" idx="2"/>
          </p:cNvCxnSpPr>
          <p:nvPr/>
        </p:nvCxnSpPr>
        <p:spPr>
          <a:xfrm rot="5400000">
            <a:off x="4978440" y="3186720"/>
            <a:ext cx="497520" cy="981720"/>
          </a:xfrm>
          <a:prstGeom prst="bentConnector2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164" name=""/>
          <p:cNvSpPr/>
          <p:nvPr/>
        </p:nvSpPr>
        <p:spPr>
          <a:xfrm>
            <a:off x="4089240" y="3429000"/>
            <a:ext cx="1800" cy="43164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4089240" y="6093000"/>
            <a:ext cx="0" cy="2887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4089240" y="4790880"/>
            <a:ext cx="1800" cy="2934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56" idx="3"/>
            <a:endCxn id="158" idx="2"/>
          </p:cNvCxnSpPr>
          <p:nvPr/>
        </p:nvCxnSpPr>
        <p:spPr>
          <a:xfrm flipV="1">
            <a:off x="5128920" y="5516280"/>
            <a:ext cx="857880" cy="388080"/>
          </a:xfrm>
          <a:prstGeom prst="bentConnector2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57" idx="1"/>
          </p:cNvCxnSpPr>
          <p:nvPr/>
        </p:nvCxnSpPr>
        <p:spPr>
          <a:xfrm rot="10800000">
            <a:off x="2431440" y="4075920"/>
            <a:ext cx="240480" cy="2499480"/>
          </a:xfrm>
          <a:prstGeom prst="bentConnector2">
            <a:avLst/>
          </a:prstGeom>
          <a:ln w="28440">
            <a:solidFill>
              <a:srgbClr val="003366"/>
            </a:solidFill>
            <a:prstDash val="sysDot"/>
            <a:miter/>
            <a:headEnd len="med" type="triangle" w="med"/>
          </a:ln>
        </p:spPr>
      </p:cxnSp>
      <p:sp>
        <p:nvSpPr>
          <p:cNvPr id="169" name=""/>
          <p:cNvSpPr/>
          <p:nvPr/>
        </p:nvSpPr>
        <p:spPr>
          <a:xfrm>
            <a:off x="2438280" y="2133720"/>
            <a:ext cx="952560" cy="144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496880" y="4460760"/>
            <a:ext cx="107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GAP 1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3513240" y="6093000"/>
            <a:ext cx="0" cy="28224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76520" y="6045120"/>
            <a:ext cx="107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GAP 2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5165640" y="4653000"/>
            <a:ext cx="774720" cy="14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58" idx="0"/>
          </p:cNvCxnSpPr>
          <p:nvPr/>
        </p:nvCxnSpPr>
        <p:spPr>
          <a:xfrm flipV="1" rot="16200000">
            <a:off x="4810320" y="3981240"/>
            <a:ext cx="1081800" cy="1270800"/>
          </a:xfrm>
          <a:prstGeom prst="bentConnector2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175" name=""/>
          <p:cNvSpPr/>
          <p:nvPr/>
        </p:nvSpPr>
        <p:spPr>
          <a:xfrm flipV="1">
            <a:off x="4089240" y="5444640"/>
            <a:ext cx="0" cy="2890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432160" y="4076640"/>
            <a:ext cx="865080" cy="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527520" y="2420640"/>
            <a:ext cx="2436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Definición de Met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Definición de Polític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Brechas en la Calidad del Servic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476360" y="3141720"/>
            <a:ext cx="148896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Comunicació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Boca Orej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368520" y="3068640"/>
            <a:ext cx="1428840" cy="3668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Necesidade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sonal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003640" y="3135240"/>
            <a:ext cx="1428840" cy="2937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xperiencia Pasad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308400" y="3855960"/>
            <a:ext cx="1428840" cy="2937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Servicio Esperad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06640" y="4462560"/>
            <a:ext cx="2262240" cy="334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cepción sobre el Servicio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Recibido </a:t>
            </a:r>
            <a:r>
              <a:rPr b="0" lang="es-ES_tradnl" sz="1200" spc="-1" strike="noStrike">
                <a:solidFill>
                  <a:srgbClr val="ff0000"/>
                </a:solidFill>
                <a:latin typeface="Arial"/>
              </a:rPr>
              <a:t>(Servicio Percibido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13240" y="5067360"/>
            <a:ext cx="833400" cy="377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Servicio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ntregad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24160" y="5715000"/>
            <a:ext cx="1905120" cy="378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specificacion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de la Calidad de Servici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671920" y="6407280"/>
            <a:ext cx="2857320" cy="334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cepción de la Gerencia d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las Expectativas de los Client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40160" y="5157720"/>
            <a:ext cx="1492560" cy="358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Comunicacione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a los Client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55640" y="4941720"/>
            <a:ext cx="5977080" cy="0"/>
          </a:xfrm>
          <a:prstGeom prst="line">
            <a:avLst/>
          </a:prstGeom>
          <a:ln w="57240">
            <a:solidFill>
              <a:srgbClr val="3333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03440" y="4141800"/>
            <a:ext cx="13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04880" y="5367240"/>
            <a:ext cx="16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EMPRES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</p:cNvCxnSpPr>
          <p:nvPr/>
        </p:nvCxnSpPr>
        <p:spPr>
          <a:xfrm flipH="1" rot="16200000">
            <a:off x="2556360" y="3165120"/>
            <a:ext cx="432360" cy="1105560"/>
          </a:xfrm>
          <a:prstGeom prst="bentConnector2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92" name=""/>
          <p:cNvCxnSpPr>
            <a:stCxn id="181" idx="2"/>
          </p:cNvCxnSpPr>
          <p:nvPr/>
        </p:nvCxnSpPr>
        <p:spPr>
          <a:xfrm rot="5400000">
            <a:off x="4978440" y="3186720"/>
            <a:ext cx="497520" cy="981720"/>
          </a:xfrm>
          <a:prstGeom prst="bentConnector2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193" name=""/>
          <p:cNvSpPr/>
          <p:nvPr/>
        </p:nvSpPr>
        <p:spPr>
          <a:xfrm>
            <a:off x="4089240" y="3429000"/>
            <a:ext cx="1800" cy="43164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089240" y="6093000"/>
            <a:ext cx="0" cy="2887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89240" y="4790880"/>
            <a:ext cx="1800" cy="2934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96" name=""/>
          <p:cNvCxnSpPr>
            <a:stCxn id="185" idx="3"/>
            <a:endCxn id="187" idx="2"/>
          </p:cNvCxnSpPr>
          <p:nvPr/>
        </p:nvCxnSpPr>
        <p:spPr>
          <a:xfrm flipV="1">
            <a:off x="5128920" y="5516280"/>
            <a:ext cx="857880" cy="388080"/>
          </a:xfrm>
          <a:prstGeom prst="bentConnector2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86" idx="1"/>
          </p:cNvCxnSpPr>
          <p:nvPr/>
        </p:nvCxnSpPr>
        <p:spPr>
          <a:xfrm rot="10800000">
            <a:off x="2431440" y="4075920"/>
            <a:ext cx="240480" cy="2499480"/>
          </a:xfrm>
          <a:prstGeom prst="bentConnector2">
            <a:avLst/>
          </a:prstGeom>
          <a:ln w="28440">
            <a:solidFill>
              <a:srgbClr val="003366"/>
            </a:solidFill>
            <a:prstDash val="sysDot"/>
            <a:miter/>
            <a:headEnd len="med" type="triangle" w="med"/>
          </a:ln>
        </p:spPr>
      </p:cxnSp>
      <p:sp>
        <p:nvSpPr>
          <p:cNvPr id="198" name=""/>
          <p:cNvSpPr/>
          <p:nvPr/>
        </p:nvSpPr>
        <p:spPr>
          <a:xfrm>
            <a:off x="2438280" y="2133720"/>
            <a:ext cx="952560" cy="144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96880" y="4460760"/>
            <a:ext cx="107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GAP 1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513240" y="6093000"/>
            <a:ext cx="0" cy="28224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76520" y="6045120"/>
            <a:ext cx="107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GAP 2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05240" y="5397480"/>
            <a:ext cx="10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GAP 3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5165640" y="4653000"/>
            <a:ext cx="774720" cy="14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87" idx="0"/>
          </p:cNvCxnSpPr>
          <p:nvPr/>
        </p:nvCxnSpPr>
        <p:spPr>
          <a:xfrm flipV="1" rot="16200000">
            <a:off x="4810320" y="3981240"/>
            <a:ext cx="1081800" cy="1270800"/>
          </a:xfrm>
          <a:prstGeom prst="bentConnector2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205" name=""/>
          <p:cNvSpPr/>
          <p:nvPr/>
        </p:nvSpPr>
        <p:spPr>
          <a:xfrm flipV="1">
            <a:off x="4089240" y="5444640"/>
            <a:ext cx="0" cy="2890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3513240" y="5451120"/>
            <a:ext cx="0" cy="28260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2160" y="4076640"/>
            <a:ext cx="865080" cy="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527520" y="2420640"/>
            <a:ext cx="2220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Incentivos conflictivos o pervers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Infraestructur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Control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Brechas en la Calidad del Servic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76360" y="3141720"/>
            <a:ext cx="148896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Comunicació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Boca Orej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368520" y="3068640"/>
            <a:ext cx="1428840" cy="3668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Necesidade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sonal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003640" y="3135240"/>
            <a:ext cx="1428840" cy="2937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xperiencia Pasad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308400" y="3855960"/>
            <a:ext cx="1428840" cy="2937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Servicio Esperad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906640" y="4462560"/>
            <a:ext cx="2262240" cy="334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cepción sobre el Servicio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Recibido </a:t>
            </a:r>
            <a:r>
              <a:rPr b="0" lang="es-ES_tradnl" sz="1200" spc="-1" strike="noStrike">
                <a:solidFill>
                  <a:srgbClr val="ff0000"/>
                </a:solidFill>
                <a:latin typeface="Arial"/>
              </a:rPr>
              <a:t>(Servicio Percibido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513240" y="5067360"/>
            <a:ext cx="833400" cy="377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Servicio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ntregad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24160" y="5715000"/>
            <a:ext cx="1905120" cy="378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specificacion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de la Calidad de Servici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671920" y="6407280"/>
            <a:ext cx="2857320" cy="334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cepción de la Gerencia d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las Expectativas de los Client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240160" y="5157720"/>
            <a:ext cx="1492560" cy="358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Comunicacione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a los Client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55640" y="4941720"/>
            <a:ext cx="5977080" cy="0"/>
          </a:xfrm>
          <a:prstGeom prst="line">
            <a:avLst/>
          </a:prstGeom>
          <a:ln w="57240">
            <a:solidFill>
              <a:srgbClr val="3333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03440" y="4141800"/>
            <a:ext cx="13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4880" y="5367240"/>
            <a:ext cx="16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EMPRES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222" name=""/>
          <p:cNvCxnSpPr>
            <a:stCxn id="210" idx="2"/>
          </p:cNvCxnSpPr>
          <p:nvPr/>
        </p:nvCxnSpPr>
        <p:spPr>
          <a:xfrm flipH="1" rot="16200000">
            <a:off x="2556360" y="3165120"/>
            <a:ext cx="432360" cy="1105560"/>
          </a:xfrm>
          <a:prstGeom prst="bentConnector2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223" name=""/>
          <p:cNvCxnSpPr>
            <a:stCxn id="212" idx="2"/>
          </p:cNvCxnSpPr>
          <p:nvPr/>
        </p:nvCxnSpPr>
        <p:spPr>
          <a:xfrm rot="5400000">
            <a:off x="4978440" y="3186720"/>
            <a:ext cx="497520" cy="981720"/>
          </a:xfrm>
          <a:prstGeom prst="bentConnector2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>
            <a:off x="4089240" y="3429000"/>
            <a:ext cx="1800" cy="43164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4089240" y="6093000"/>
            <a:ext cx="0" cy="2887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4089240" y="4790880"/>
            <a:ext cx="1800" cy="2934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227" name=""/>
          <p:cNvCxnSpPr>
            <a:stCxn id="216" idx="3"/>
            <a:endCxn id="218" idx="2"/>
          </p:cNvCxnSpPr>
          <p:nvPr/>
        </p:nvCxnSpPr>
        <p:spPr>
          <a:xfrm flipV="1">
            <a:off x="5128920" y="5516280"/>
            <a:ext cx="857880" cy="388080"/>
          </a:xfrm>
          <a:prstGeom prst="bentConnector2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17" idx="1"/>
          </p:cNvCxnSpPr>
          <p:nvPr/>
        </p:nvCxnSpPr>
        <p:spPr>
          <a:xfrm rot="10800000">
            <a:off x="2431440" y="4075920"/>
            <a:ext cx="240480" cy="2499480"/>
          </a:xfrm>
          <a:prstGeom prst="bentConnector2">
            <a:avLst/>
          </a:prstGeom>
          <a:ln w="28440">
            <a:solidFill>
              <a:srgbClr val="003366"/>
            </a:solidFill>
            <a:prstDash val="sysDot"/>
            <a:miter/>
            <a:head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438280" y="2133720"/>
            <a:ext cx="952560" cy="144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496880" y="4460760"/>
            <a:ext cx="107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GAP 1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3513240" y="6093000"/>
            <a:ext cx="0" cy="28224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576520" y="6045120"/>
            <a:ext cx="107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GAP 2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505240" y="5397480"/>
            <a:ext cx="10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GAP 3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459320" y="5253120"/>
            <a:ext cx="83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GAP 4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356000" y="5300640"/>
            <a:ext cx="916200" cy="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5165640" y="4653000"/>
            <a:ext cx="774720" cy="14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237" name=""/>
          <p:cNvCxnSpPr>
            <a:stCxn id="218" idx="0"/>
          </p:cNvCxnSpPr>
          <p:nvPr/>
        </p:nvCxnSpPr>
        <p:spPr>
          <a:xfrm flipV="1" rot="16200000">
            <a:off x="4810320" y="3981240"/>
            <a:ext cx="1081800" cy="1270800"/>
          </a:xfrm>
          <a:prstGeom prst="bentConnector2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238" name=""/>
          <p:cNvSpPr/>
          <p:nvPr/>
        </p:nvSpPr>
        <p:spPr>
          <a:xfrm flipV="1">
            <a:off x="4089240" y="5444640"/>
            <a:ext cx="0" cy="2890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3513240" y="5451120"/>
            <a:ext cx="0" cy="28260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32160" y="4076640"/>
            <a:ext cx="865080" cy="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6527520" y="2420640"/>
            <a:ext cx="2220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Comunicación Marketing – Operacion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Comunicación geográfic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Sobreofrecer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Brechas en la Calidad del Servic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476360" y="3141720"/>
            <a:ext cx="148896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Comunicació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Boca Orej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368520" y="3068640"/>
            <a:ext cx="1428840" cy="3668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Necesidade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sonal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003640" y="3135240"/>
            <a:ext cx="1428840" cy="2937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xperiencia Pasad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308400" y="3855960"/>
            <a:ext cx="1428840" cy="2937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Servicio Esperad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906640" y="4462560"/>
            <a:ext cx="2262240" cy="334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cepción sobre el Servicio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Recibido </a:t>
            </a:r>
            <a:r>
              <a:rPr b="0" lang="es-ES_tradnl" sz="1200" spc="-1" strike="noStrike">
                <a:solidFill>
                  <a:srgbClr val="ff0000"/>
                </a:solidFill>
                <a:latin typeface="Arial"/>
              </a:rPr>
              <a:t>(Servicio Percibido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513240" y="5067360"/>
            <a:ext cx="833400" cy="377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Servicio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ntregad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224160" y="5715000"/>
            <a:ext cx="1905120" cy="378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specificacion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de la Calidad de Servici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671920" y="6407280"/>
            <a:ext cx="2857320" cy="334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cepción de la Gerencia d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las Expectativas de los Client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240160" y="5157720"/>
            <a:ext cx="1492560" cy="358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Comunicacione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a los Client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55640" y="4941720"/>
            <a:ext cx="5977080" cy="0"/>
          </a:xfrm>
          <a:prstGeom prst="line">
            <a:avLst/>
          </a:prstGeom>
          <a:ln w="57240">
            <a:solidFill>
              <a:srgbClr val="3333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03440" y="4141800"/>
            <a:ext cx="13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04880" y="5367240"/>
            <a:ext cx="16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EMPRES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255" name=""/>
          <p:cNvCxnSpPr>
            <a:stCxn id="243" idx="2"/>
          </p:cNvCxnSpPr>
          <p:nvPr/>
        </p:nvCxnSpPr>
        <p:spPr>
          <a:xfrm flipH="1" rot="16200000">
            <a:off x="2556360" y="3165120"/>
            <a:ext cx="432360" cy="1105560"/>
          </a:xfrm>
          <a:prstGeom prst="bentConnector2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256" name=""/>
          <p:cNvCxnSpPr>
            <a:stCxn id="245" idx="2"/>
          </p:cNvCxnSpPr>
          <p:nvPr/>
        </p:nvCxnSpPr>
        <p:spPr>
          <a:xfrm rot="5400000">
            <a:off x="4978440" y="3186720"/>
            <a:ext cx="497520" cy="981720"/>
          </a:xfrm>
          <a:prstGeom prst="bentConnector2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257" name=""/>
          <p:cNvSpPr/>
          <p:nvPr/>
        </p:nvSpPr>
        <p:spPr>
          <a:xfrm>
            <a:off x="4089240" y="3429000"/>
            <a:ext cx="1800" cy="43164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4089240" y="6093000"/>
            <a:ext cx="0" cy="2887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4089240" y="4790880"/>
            <a:ext cx="1800" cy="2934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49" idx="3"/>
            <a:endCxn id="251" idx="2"/>
          </p:cNvCxnSpPr>
          <p:nvPr/>
        </p:nvCxnSpPr>
        <p:spPr>
          <a:xfrm flipV="1">
            <a:off x="5128920" y="5516280"/>
            <a:ext cx="857880" cy="388080"/>
          </a:xfrm>
          <a:prstGeom prst="bentConnector2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61" name=""/>
          <p:cNvCxnSpPr/>
          <p:nvPr/>
        </p:nvCxnSpPr>
        <p:spPr>
          <a:xfrm>
            <a:off x="3512880" y="4149360"/>
            <a:ext cx="1080" cy="289440"/>
          </a:xfrm>
          <a:prstGeom prst="straightConnector1">
            <a:avLst/>
          </a:prstGeom>
          <a:ln w="28440">
            <a:solidFill>
              <a:srgbClr val="003366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2668680" y="4149720"/>
            <a:ext cx="113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GAP 5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263" name=""/>
          <p:cNvCxnSpPr>
            <a:stCxn id="250" idx="1"/>
          </p:cNvCxnSpPr>
          <p:nvPr/>
        </p:nvCxnSpPr>
        <p:spPr>
          <a:xfrm rot="10800000">
            <a:off x="2431440" y="4075920"/>
            <a:ext cx="240480" cy="2499480"/>
          </a:xfrm>
          <a:prstGeom prst="bentConnector2">
            <a:avLst/>
          </a:prstGeom>
          <a:ln w="28440">
            <a:solidFill>
              <a:srgbClr val="003366"/>
            </a:solidFill>
            <a:prstDash val="sysDot"/>
            <a:miter/>
            <a:head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2438280" y="2133720"/>
            <a:ext cx="952560" cy="144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496880" y="4460760"/>
            <a:ext cx="107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GAP 1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3513240" y="6093000"/>
            <a:ext cx="0" cy="28224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76520" y="6045120"/>
            <a:ext cx="107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GAP 2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505240" y="5397480"/>
            <a:ext cx="10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GAP 3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459320" y="5253120"/>
            <a:ext cx="83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GAP 4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356000" y="5300640"/>
            <a:ext cx="916200" cy="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165640" y="4653000"/>
            <a:ext cx="774720" cy="14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272" name=""/>
          <p:cNvCxnSpPr>
            <a:stCxn id="251" idx="0"/>
          </p:cNvCxnSpPr>
          <p:nvPr/>
        </p:nvCxnSpPr>
        <p:spPr>
          <a:xfrm flipV="1" rot="16200000">
            <a:off x="4810320" y="3981240"/>
            <a:ext cx="1081800" cy="1270800"/>
          </a:xfrm>
          <a:prstGeom prst="bentConnector2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273" name=""/>
          <p:cNvSpPr/>
          <p:nvPr/>
        </p:nvSpPr>
        <p:spPr>
          <a:xfrm flipV="1">
            <a:off x="4089240" y="5444640"/>
            <a:ext cx="0" cy="2890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3513240" y="5451120"/>
            <a:ext cx="0" cy="28260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432160" y="4076640"/>
            <a:ext cx="865080" cy="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6527520" y="2420640"/>
            <a:ext cx="2220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Insatisfacció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Satisfacció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Deligh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mensiones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684000" y="20602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Arial"/>
              </a:rPr>
              <a:t>¿Por qué el servicio de una bencinera es de buena o mala calidad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4T00:25:18Z</dcterms:created>
  <dc:creator>Joselyn Bravo</dc:creator>
  <dc:description/>
  <dc:language>en-US</dc:language>
  <cp:lastModifiedBy>Joselyn Bravo</cp:lastModifiedBy>
  <dcterms:modified xsi:type="dcterms:W3CDTF">2007-09-10T11:31:39Z</dcterms:modified>
  <cp:revision>69</cp:revision>
  <dc:subject/>
  <dc:title>Gestión de la Ofert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