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25B-74C1-4C72-9629-B140C31A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A4F-C6A3-46EB-AD2E-4B0DCF55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BA2-0ABB-4F0E-9387-D46F5299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051-9428-4E2F-88E6-CF8FA062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A4BF-78F5-49B4-B500-4A440F56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97BC-4C70-4D35-9647-39FBC23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621E-3BB0-435E-A5C6-7310556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5D97-8410-420B-A558-38B3E2AE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4D4B-DBE4-4FD7-9AE5-78A24FD2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8FBB-121C-4B5A-B687-C794012F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583C-3575-4E7E-8DB7-67DF1AA3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1C5-5160-4F0C-88D0-DF6F8E2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9048-A343-4C40-8084-19AA877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D4B2-C2B0-4125-9AE5-4EF0F14B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97EA-4BA6-44BC-8ACF-C50DD1C1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CB65-F88D-47E9-A27D-02680859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A1A2-E323-4D01-B7D8-9D5F3192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DA3-CBF1-409B-9BD7-F50539D1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136-CEAD-44D4-ACF4-24EE1761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42A-E5E7-45B6-B1F9-0A0E978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C78-FEF9-4EB3-92E8-0DE30E67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043-3C77-45E0-84B0-6ECFC31D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3C7-F3E7-404A-844F-1253F75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ADF-B5AA-4D9D-9850-4D775A4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3F87-ED68-410B-AA92-396A8FD7DCD4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570-F40A-43EB-8ACF-0078CA5B624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10 de septiembre de 2007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uente: Zeithalm, Parasuraman y Ber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nfi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 </a:t>
            </a: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(Confiabili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de proveer de un servicio oport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slas y Bomberos (o Caj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acción ante probl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dad en el 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volu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de 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ocimiento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tesía, am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dicación exclus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Bienvenida, Limpieza de vidrios, ubicación de la ta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misión de credibilidad a través de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en cero, dar bole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mpat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para comprender las necesidades e intereses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Hablar del auto, limpiador de inye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ariencia, limpieza, atractivo, tecnología, 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 Cl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angueras y Limpiaparabrisas, ru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evos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mo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Vasos, pelotas, Majoret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minución de la variabilidad, cumplimiento de compromi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Tiempo (Rapidez y Perce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Órdenes de compra, fact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Agua y 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delo de Brech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mensiones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Cómo medir la calidad de un servicio médic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inco enfo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 adecuada la secuencia de actividad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lasificación de pacientes, asignación de boxes, doctores y enfermeras, toma de exámen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Hay recursos disponi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Discusión entre doctores, utilización (enfermos en pasill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Se están siguiendo los procedimien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olegio médico, pitutos, fona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es el efecto en el largo plaz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ortalidad infantil, distancia promedio a un centro médico, rechazos por prev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tá satisfecho el Clien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nfecciones por cirugía, muertes por enfermedad, queja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ncuestas de calidad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cuestas de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mediciones son invas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Respuestas versus Ses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fecto Ha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Atributos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sca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ner números no logra objetiv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de la firma a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tre dimens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tividad: Percepciones y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criminar entre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luir medidas Obje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olucrarse en la medi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3"/>
            <a:endCxn id="10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0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3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vestigación de Merc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a través de la Jerarqu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56" idx="3"/>
            <a:endCxn id="15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5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436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Me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Polí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1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5" idx="3"/>
            <a:endCxn id="187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7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centivos conflictivos o perve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nt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6" idx="3"/>
            <a:endCxn id="21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1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Marketing – Oper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obreofrece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4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9" idx="3"/>
            <a:endCxn id="25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1" name=""/>
          <p:cNvCxnSpPr/>
          <p:nvPr/>
        </p:nvCxnSpPr>
        <p:spPr>
          <a:xfrm>
            <a:off x="3512880" y="4149360"/>
            <a:ext cx="1080" cy="289440"/>
          </a:xfrm>
          <a:prstGeom prst="straightConnector1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668680" y="414972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l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Por qué el servicio de una bencinera es de buena o mala calida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9-10T11:31:39Z</dcterms:modified>
  <cp:revision>6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