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0D0-D5D7-489F-BDB8-1B48AA3B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CE7-7C0E-44C5-91E5-F6214BF0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847-D14D-47CF-B9EE-DE743FD9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7BF-8D61-4FC7-867B-9304ACEA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96EA-7B7E-4338-95FC-594B05DD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D8B-1700-4F95-98A4-A1FA1902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8BB-4C9F-4611-B9F4-8BB8DE75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F4A4-C9A0-487D-BB8A-839D3DAA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891F-84F6-4FE2-97C8-4EB39C19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C1DD-606A-4D0B-9640-92EE3E7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006-3699-4577-B8D4-3B7641D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301-A73E-4B81-A4C7-1A926DAF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95CD-DB0B-4977-A568-F3C3B00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D378-3BC6-42D2-A9EE-F62E19B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95E9-EAC2-4008-B919-FB320B7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268A-E1B6-499E-B3B0-E1908E78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668A-BAF9-4817-840B-9C9F936C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ADE-3346-4A25-9F3C-43B8A52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1C5-ED42-4C1C-AC57-D231314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D03-A355-4FE9-90B0-68CD673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81F-3336-4B98-9749-FCA86B3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BC2-60BB-4392-BED1-F37664A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774-0307-41E6-91FD-1D93BA1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96F-B14B-4262-B49B-8E30FED7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CA2-03BC-4F7E-8A8A-CA25EA8A8EB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2070-A5C5-4D17-B6DC-C9E47427909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Gestión de la Ofert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7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en Me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gración con asignación de tax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ce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pósitos par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estivos lib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Jefes de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du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de la seman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(Domingo a Sábad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ria por emple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leado recibe      fines de semana libres cada       sema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trabajan exactamente 5 días por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se pueden trabajar más de 6 días consecu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84720" y="2421000"/>
                <a:ext cx="1439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3284640"/>
                <a:ext cx="493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378936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4292640"/>
                <a:ext cx="372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cotas inferiores para el número mínimo de trabajadore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emá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58920" y="3141720"/>
                <a:ext cx="2089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87280" y="4005360"/>
                <a:ext cx="14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87280" y="501336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6021360"/>
                <a:ext cx="2087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64000" y="5734080"/>
                <a:ext cx="3095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,7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cíclicamente fines de semana libres cad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-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truir una lista de n pares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Si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 eleg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siderar el par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). Disminuir en 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19640" y="3213000"/>
                <a:ext cx="1582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76720" y="3860640"/>
                <a:ext cx="1209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76720" y="3860640"/>
                <a:ext cx="1623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24720" y="3860640"/>
                <a:ext cx="647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04000" y="4292640"/>
                <a:ext cx="647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ra la sema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lasificar los empleados en cuatro tip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3311280" cy="104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r pares con empleados T2 y T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un par (no repetido) a los T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otro par, un día a los T3 y otro a T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petir pasos para la siguiente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izonte de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eríodos (cicl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e pres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turn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l tipo de tur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cada tu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ón: Cantidad de turnos j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43280" y="2975040"/>
                <a:ext cx="1441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76720" y="3429000"/>
                <a:ext cx="297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08360" y="4005360"/>
                <a:ext cx="1368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4437000"/>
                <a:ext cx="129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5013360"/>
                <a:ext cx="1512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227640" y="5516640"/>
                <a:ext cx="151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blema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3366"/>
                </a:solidFill>
                <a:latin typeface="Arial"/>
              </a:rPr>
              <a:t>Basta listar todos los turnos posibl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59280" y="2924280"/>
                <a:ext cx="2184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/>
                            </m:mr>
                          </m:m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utas y personal en 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íneas aér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uce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Curi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quinaria y personal en Sal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osición en 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tures Depor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-cur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omb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aso cíc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 “Cuatro por tr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 ex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olver 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gregar dos desigualdades vál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as ext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nal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508720" y="2349360"/>
                <a:ext cx="21589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s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ses de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tiv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lución Genérica o Específ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den variar en el tiempo e incluso formar parte de la función 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cronizar recursos para cumplir actividades de acuerdo a reglas o prioridades para alcanzar los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as 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uración (processing ti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nor tiempo de inicio (releas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yor tiempo de término (du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oridad (weigh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os recu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, habil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nas de tiem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s de se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querimient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kespan (Through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ámenes o Reuniones en un período definido de tie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 de recu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nalidades (por tiempos “marketero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iveles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et scheduling/Rou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orkforc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w/Machin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axonomía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ufa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ob 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sambl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t s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met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Pers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en Met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Turn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8-27T02:29:56Z</dcterms:modified>
  <cp:revision>1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