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03A-AF92-4DD8-8412-5422B585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5EC-083B-4F0E-8B03-161F95C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9AA-FCE5-46C6-B6B4-9BFBBF9B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2D8-84F0-454D-A921-04627665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F1AD-AB63-4169-9B2D-740E640F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2F2D-4425-4093-8462-02F24C8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02F-C37B-4E1B-9D0F-5A17C2EA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D9A5-F241-4D8C-8095-7B723BC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97E-1315-43BB-9188-20557A1F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BDB-8BE1-465C-9CEE-DE5F3B9D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CB0-0B48-4120-9D49-D41A862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281-E1DE-4EE3-BA4A-407A0101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E3F-B0C8-46F4-B790-C79B8B1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915-5BCB-4219-A009-C2A33FB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B52C-0039-4FD1-924D-F7F6F79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CFCB-4856-439F-B61E-B575A51F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97E9-8C8F-4113-B783-82BA1913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FE8-312D-44B7-8579-04146D1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FBF-A767-444D-8699-917B971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ED2-C4CF-4051-A182-076AF28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FFC-47EE-4B81-A2A5-60E764AE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A32-737F-44A0-BA7E-FECD2A5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FB0-9D52-4CDC-B5BC-652359C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C4A-D4E2-49EA-82C6-192563C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840-DB9F-4171-A928-6FD6648EBDF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C89-0DFD-40B0-A3F5-E5F5607B6A5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Gestión de la Ofert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7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en Me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gración con asignación de tax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ce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pósitos pa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estivos lib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Jefes de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du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de la seman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(Domingo a Sáb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ria por emple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leado recibe      fines de semana libres cada       sema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trabajan exactamente 5 días por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pueden trabajar más de 6 días consecu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84720" y="2421000"/>
                <a:ext cx="1439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3284640"/>
                <a:ext cx="493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378936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4292640"/>
                <a:ext cx="372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cotas inferiores para el número mínimo de trabajadore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emá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58920" y="3141720"/>
                <a:ext cx="2089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4005360"/>
                <a:ext cx="14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7280" y="501336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6021360"/>
                <a:ext cx="2087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64000" y="5734080"/>
                <a:ext cx="3095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7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cíclicamente fines de semana libres cad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-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truir una lista de n pares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Si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 eleg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siderar el par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). Disminuir en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19640" y="3213000"/>
                <a:ext cx="1582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386064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76720" y="3860640"/>
                <a:ext cx="1623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24720" y="3860640"/>
                <a:ext cx="647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04000" y="4292640"/>
                <a:ext cx="647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la sema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lasificar los empleados en cuatro tip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3311280" cy="104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r pares con empleados T2 y T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un par (no repetido) a los T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otro par, un día a los T3 y otro a T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petir pasos para la siguiente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izonte de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eríodos (cicl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e pres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turn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l tipo de tu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cada tu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ón: Cantidad de turnos j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43280" y="2975040"/>
                <a:ext cx="1441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76720" y="3429000"/>
                <a:ext cx="297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08360" y="4005360"/>
                <a:ext cx="136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4437000"/>
                <a:ext cx="129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5013360"/>
                <a:ext cx="1512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227640" y="5516640"/>
                <a:ext cx="151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blema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3366"/>
                </a:solidFill>
                <a:latin typeface="Arial"/>
              </a:rPr>
              <a:t>Basta listar todos los turnos posibl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59280" y="2924280"/>
                <a:ext cx="2184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utas y personal en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íneas aé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uce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Curi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quinaria y personal en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osición en 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tures Depor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-cur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mb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aso cíc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 “Cuatro por t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 ex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olver 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gregar dos desigualdades vál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as ex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nal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508720" y="2349360"/>
                <a:ext cx="2158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ses de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tiv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lución Genérica o Específ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den variar en el tiempo e incluso formar parte de la función 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cronizar recursos para cumplir actividades de acuerdo a reglas o prioridades para alcanzar los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as 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uración (processing ti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nor tiempo de inicio (releas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yor tiempo de término (du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oridad (weigh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os recu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, ha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nas de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s de se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querimient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kespan (Through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ámenes o Reuniones en un período definido de ti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 de recu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nalidades (por tiempos “marketero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iveles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et scheduling/Rou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orkforc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w/Machin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axonomía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ufa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ob 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sambl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t s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met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Pers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en Me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Tur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8-27T02:29:56Z</dcterms:modified>
  <cp:revision>1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