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482-80E4-4062-9587-CDC7E3D7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D9D-8086-4EE4-97A9-AC2218D5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181-EFA9-4E9E-9ABA-F74B5261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02D-F17B-48DA-8580-FE607BA7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7EE1-21BA-4D1B-9906-98934265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D391-EA59-4131-BED9-4CE9B8B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F5BE-6796-46FF-A913-56F784C2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C3FD-4F1F-4FE1-9739-407196E2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F27-A293-4FF2-A9E8-1BE3FD02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55E5-522B-441D-B5CB-092BDB0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3C01-FC6A-496F-97A5-31CA875B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3BE-68D7-4715-80E7-3BF07D59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85E6-65D4-4C45-A5C8-C8651D3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A0D-CF31-4747-996E-4F4EDC31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63B0-898B-4017-AE1B-6B84ED82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6895-1061-4D17-895A-7BC33B4D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D389-1E6C-48E7-A17C-4866409C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429-9C10-4912-960F-A5B39D02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FEB-8BEA-48F8-87BB-819D89EF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50C-C71A-4DC6-A25F-F8B835CE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B75-29DD-4C4E-BEF4-C248560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255-AE5F-4D0A-A654-E47657DE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85E-5E73-4D12-99C6-82AA9EF3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C8A-5777-4EE5-9060-5FFD84FA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25AE-BE51-47B3-A3DB-FF8C1BA73F3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85D8-B02D-4547-B611-F45CC1178B1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Gestión de la Ofert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27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en Met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gración con asignación de tax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cenci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ñ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pósitos par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estivos lib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Jefes de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du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de la semana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(Domingo a Sábad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aria por emple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leado recibe      fines de semana libres cada       sema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trabajan exactamente 5 días por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se pueden trabajar más de 6 días consecu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284720" y="2421000"/>
                <a:ext cx="1439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3284640"/>
                <a:ext cx="493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67280" y="378936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5640" y="4292640"/>
                <a:ext cx="372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cotas inferiores para el número mínimo de trabajadore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emás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58920" y="3141720"/>
                <a:ext cx="2089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187280" y="4005360"/>
                <a:ext cx="1440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d>
                      <m:dPr>
                        <m:begChr m:val="⌈"/>
                        <m:endChr m:val="⌉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87280" y="5013360"/>
                <a:ext cx="1584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≥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71640" y="6021360"/>
                <a:ext cx="2087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64000" y="5734080"/>
                <a:ext cx="3095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,7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cíclicamente fines de semana libres cad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W-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truir una lista de n pares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gir día 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 Si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 elegi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nsiderar el par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). Disminuir en 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419640" y="3213000"/>
                <a:ext cx="15825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7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76720" y="3860640"/>
                <a:ext cx="12096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076720" y="3860640"/>
                <a:ext cx="16239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l</m:t>
                    </m:r>
                    <m:r>
                      <m:t xml:space="preserve">≠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24720" y="3860640"/>
                <a:ext cx="647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804000" y="4292640"/>
                <a:ext cx="647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ra la sema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lasificar los empleados en cuatro tip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80000" y="3500280"/>
            <a:ext cx="3311280" cy="1046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r pares con empleados T2 y T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Días Lib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un par (no repetido) a los T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gnar otro par, un día a los T3 y otro a T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petir pasos para la siguiente sem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669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izonte de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eríodos (cicl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e pres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s de turno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finición del tipo de turn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cada tur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ón: Cantidad de turnos j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843280" y="2975040"/>
                <a:ext cx="1441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76720" y="3429000"/>
                <a:ext cx="297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708360" y="4005360"/>
                <a:ext cx="13683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51640" y="4437000"/>
                <a:ext cx="129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72000" y="5013360"/>
                <a:ext cx="1512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227640" y="5516640"/>
                <a:ext cx="1513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blema de optim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3400" spc="-1" strike="noStrike">
                <a:solidFill>
                  <a:srgbClr val="003366"/>
                </a:solidFill>
                <a:latin typeface="Arial"/>
              </a:rPr>
              <a:t>Basta listar todos los turnos posibles</a:t>
            </a:r>
            <a:endParaRPr b="0" lang="en-US" sz="3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59280" y="2924280"/>
                <a:ext cx="21841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/>
                            </m:mr>
                          </m:m>
                          <m:m>
                            <m:mr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∈</m:t>
                                </m:r>
                                <m:sSup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plicaciones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utas y personal en 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Líneas aér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ucer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Curi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quinaria y personal en Salu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posición en Supermerc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ine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ixtures Depor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-cur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omb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Turn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aso cícl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 “Cuatro por tr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goritmo ex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olver L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gregar dos desigualdades válid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oras ext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nal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508720" y="2349360"/>
                <a:ext cx="21589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0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0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m>
                          <m:mr>
                            <m:e>
                              <m:m>
                                <m:mr>
                                  <m:e>
                                    <m:m>
                                      <m:mr>
                                        <m:e>
                                          <m:m>
                                            <m:mr>
                                              <m:e>
                                                <m:m>
                                                  <m:mr>
                                                    <m:e>
                                                      <m:m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  <m:mr>
                                                          <m:e>
                                                            <m:r>
                                                              <m:t xml:space="preserve">1</m:t>
                                                            </m:r>
                                                          </m:e>
                                                        </m:mr>
                                                      </m:m>
                                                    </m:e>
                                                  </m:mr>
                                                  <m:mr>
                                                    <m:e>
                                                      <m:r>
                                                        <m:t xml:space="preserve">1</m:t>
                                                      </m:r>
                                                    </m:e>
                                                  </m:mr>
                                                </m:m>
                                              </m:e>
                                            </m:mr>
                                            <m:mr>
                                              <m:e>
                                                <m:r>
                                                  <m:t xml:space="preserve">0</m:t>
                                                </m:r>
                                              </m:e>
                                            </m:mr>
                                          </m:m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0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s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ses de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activ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lución Genérica o Específ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den variar en el tiempo e incluso formar parte de la función obje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cronizar recursos para cumplir actividades de acuerdo a reglas o prioridades para alcanzar los 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as activ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uración (processing ti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nor tiempo de inicio (releas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yor tiempo de término (due d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oridad (weigh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de los recu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ponibilidad, habil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nas de tiemp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s de set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querimientos especi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perad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erramien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tre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ón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kespan (Through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xámenes o Reuniones en un período definido de tie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 de recu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nalidades (por tiempos “marketeros”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Niveles de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leet scheduling/Rou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Workforc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w/Machine schedu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axonomía del Schedu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ufa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ob sh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nsambl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t siz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metab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cheduling de Pers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en Met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Días Lib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cheduling de Turn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8-27T02:29:56Z</dcterms:modified>
  <cp:revision>1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