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B3B-CD70-4DC1-971E-8AF57897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C4D-827B-4E3D-9BB8-B2DC498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4BD-4A9B-4CC4-A22E-2A73BB3D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091-E81D-4794-911B-1FD0DDF6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FCF1-503F-4ADB-B417-AA1DCEA9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4439-B3D1-421C-99E7-CF0B9B30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8B4B-A1D5-4F1B-89C8-F0EDE72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E7B0-81F8-44A3-ACA1-93187A26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B0CB-D2EA-4B80-99B9-73B48F35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D7BD-0B30-4F36-8A73-4E4BC4D8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8F4C-8DE8-4D6D-9111-8470868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73B-9FD8-4ACC-A619-4F4B579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1EC3-3863-4B8B-973F-7AE9E2C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C4E-8E8F-40C6-AC77-43C73D9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1CE5-FF5E-4692-A8C4-51332A4B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5322-8828-43C7-86DB-453EEFD0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1EB2-59C7-4116-9F63-59C840E1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315-E13E-471A-82CB-28803807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AB8-68F7-45BF-A8F6-936D3E6A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423-DBB8-4533-8ABE-29AC5ED7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1DB-BCC6-43DA-8379-15EC0E0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CA1-C693-48E8-9B68-C3E0F03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8A3-9E68-42CF-8DF8-EA77736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6B0-FBE4-4EF0-AC9A-275B3F76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E47-9599-496A-AD2F-BE34ADFF525B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60AB-D82F-474D-9803-393C24F292B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Gestión de la Ofert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7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en Met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gración con asignación de tax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cen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ñ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pósitos par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estivos lib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Jefes de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du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de la seman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(Domingo a Sábad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ria por emple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leado recibe      fines de semana libres cada       sema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trabajan exactamente 5 días por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se pueden trabajar más de 6 días consecu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84720" y="2421000"/>
                <a:ext cx="1439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3284640"/>
                <a:ext cx="493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67280" y="378936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4292640"/>
                <a:ext cx="372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cotas inferiores para el número mínimo de trabajadore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emá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58920" y="3141720"/>
                <a:ext cx="2089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87280" y="4005360"/>
                <a:ext cx="1440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87280" y="5013360"/>
                <a:ext cx="1584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71640" y="6021360"/>
                <a:ext cx="2087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64000" y="5734080"/>
                <a:ext cx="3095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,7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cíclicamente fines de semana libres cad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-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truir una lista de n pares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Si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 eleg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siderar el par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). Disminuir en 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19640" y="3213000"/>
                <a:ext cx="1582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76720" y="3860640"/>
                <a:ext cx="12096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76720" y="3860640"/>
                <a:ext cx="16239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24720" y="3860640"/>
                <a:ext cx="647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04000" y="4292640"/>
                <a:ext cx="647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ra la sema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lasificar los empleados en cuatro tip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80000" y="3500280"/>
            <a:ext cx="3311280" cy="104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r pares con empleados T2 y T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un par (no repetido) a los T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otro par, un día a los T3 y otro a T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petir pasos para la siguiente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izonte de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eríodos (cicl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e pres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turn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l tipo de turn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cada tu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ón: Cantidad de turnos j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43280" y="2975040"/>
                <a:ext cx="1441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76720" y="3429000"/>
                <a:ext cx="297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08360" y="4005360"/>
                <a:ext cx="1368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51640" y="4437000"/>
                <a:ext cx="129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5013360"/>
                <a:ext cx="1512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227640" y="5516640"/>
                <a:ext cx="151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blema de opti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3366"/>
                </a:solidFill>
                <a:latin typeface="Arial"/>
              </a:rPr>
              <a:t>Basta listar todos los turnos posibles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59280" y="2924280"/>
                <a:ext cx="2184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/>
                            </m:mr>
                          </m:m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utas y personal en 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íneas aér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uce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Curi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quinaria y personal en Sal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posición en 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tures Depor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-cur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omb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aso cíc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 “Cuatro por tr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 ex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olver 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gregar dos desigualdades váli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as ext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nal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508720" y="2349360"/>
                <a:ext cx="21589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s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ses de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tiv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lución Genérica o Específ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den variar en el tiempo e incluso formar parte de la función obje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cronizar recursos para cumplir actividades de acuerdo a reglas o prioridades para alcanzar los 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as 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uración (processing ti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nor tiempo de inicio (releas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yor tiempo de término (du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oridad (weigh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os recu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, habil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nas de tiem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s de set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querimient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pera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kespan (Through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ámenes o Reuniones en un período definido de tie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 de recu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nalidades (por tiempos “marketero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iveles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et scheduling/Rou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Workforc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w/Machin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axonomía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ufa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ob sh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sambl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t siz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met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Pers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en Met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Turn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8-27T02:29:56Z</dcterms:modified>
  <cp:revision>1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