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4BE79-1BB8-45B4-925A-11008626C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B5D62-3E6E-48C8-AA8A-5CEC7DB9D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AE666-730E-4EB8-AF75-6EB27EB3A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6CCA6-1E8A-4B18-955D-B78E1EEE9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6A66C-299E-4E99-B782-83CE789C8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49153-2F20-4D96-9F9E-15818225F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D56A7-8675-4F16-8DBC-1673CDED3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607DF-0DD4-4666-89A0-34D6F8FB6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ED00E-4234-49D9-AD23-D438DF808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0DED1-B974-40DB-868D-F60991162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FB71D-94C5-4F44-86D9-FD663BDE7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807B7-FB23-4C64-AE2C-B7DEF102A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04F3B-AA03-49EB-9F3E-EFCB5C6E5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F605F-878E-450C-ACF1-0FFEFC9D1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32B96-1249-4607-833D-BE373F4A4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C6EA5-870A-4CE9-9686-EFA049D84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36B40-60A9-4BF3-8AD7-78B52988F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77998-86A4-41C1-894A-02F9D9162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9A650-D3FB-48AA-8517-CB13E7A0C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B0DE3-3CF8-416E-B7BE-899927EE1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7AF75-7A93-4E7A-9325-11371E8D9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FA87C-D5FF-4B61-B365-497CEA6BF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A2E19-1913-47DD-98C6-5BA55383F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CFCA2-7F91-4F0B-8D16-F8F46F5A9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F8D6C-8C99-423A-8A5C-48F2108DFD3D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2B436-7C22-4EAD-AA4C-52F20865494F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Bienes y Precio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IN71K: Gestión de Operaciones en la Industria de Servicios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20 de agosto de 2007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Bienes No Perecibl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3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3366"/>
                </a:solidFill>
                <a:latin typeface="Arial"/>
              </a:rPr>
              <a:t>Teorí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Infinitos período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Demanda independiente (períodos, productos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Ejemplos: Retail, Gastronomía, Mantenimient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23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2336760" y="3860640"/>
                <a:ext cx="1835280" cy="191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Q</m:t>
                              </m:r>
                              <m:r>
                                <m:t xml:space="preserve">=</m:t>
                              </m:r>
                              <m:rad>
                                <m:radPr>
                                  <m:degHide m:val="1"/>
                                </m:radPr>
                                <m:deg/>
                                <m:e>
                                  <m:f>
                                    <m:num>
                                      <m:r>
                                        <m:t xml:space="preserve">2</m:t>
                                      </m:r>
                                      <m:r>
                                        <m:t xml:space="preserve">μS</m:t>
                                      </m:r>
                                    </m:num>
                                    <m:den>
                                      <m:r>
                                        <m:t xml:space="preserve">H</m:t>
                                      </m:r>
                                    </m:den>
                                  </m:f>
                                </m:e>
                              </m:rad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SS</m:t>
                              </m:r>
                              <m:r>
                                <m:t xml:space="preserve">=</m:t>
                              </m:r>
                              <m:r>
                                <m:t xml:space="preserve">Zσ</m:t>
                              </m:r>
                              <m:rad>
                                <m:radPr>
                                  <m:degHide m:val="1"/>
                                </m:radPr>
                                <m:deg/>
                                <m:e>
                                  <m:r>
                                    <m:t xml:space="preserve">L</m:t>
                                  </m:r>
                                </m:e>
                              </m:rad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ROP</m:t>
                              </m:r>
                              <m:r>
                                <m:t xml:space="preserve">=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S</m:t>
                              </m:r>
                              <m:r>
                                <m:t xml:space="preserve">+</m:t>
                              </m:r>
                              <m:r>
                                <m:t xml:space="preserve">μL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7" name=""/>
          <p:cNvSpPr/>
          <p:nvPr/>
        </p:nvSpPr>
        <p:spPr>
          <a:xfrm>
            <a:off x="0" y="3438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5867280" y="3860640"/>
                <a:ext cx="2303640" cy="189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Q</m:t>
                              </m:r>
                              <m:r>
                                <m:t xml:space="preserve">=</m:t>
                              </m:r>
                              <m:rad>
                                <m:radPr>
                                  <m:degHide m:val="1"/>
                                </m:radPr>
                                <m:deg/>
                                <m:e>
                                  <m:f>
                                    <m:num>
                                      <m:r>
                                        <m:t xml:space="preserve">2</m:t>
                                      </m:r>
                                      <m:r>
                                        <m:t xml:space="preserve">μS</m:t>
                                      </m:r>
                                    </m:num>
                                    <m:den>
                                      <m:r>
                                        <m:t xml:space="preserve">H</m:t>
                                      </m:r>
                                    </m:den>
                                  </m:f>
                                </m:e>
                              </m:rad>
                            </m:e>
                          </m:mr>
                          <m:mr>
                            <m:e>
                              <m:r>
                                <m:t xml:space="preserve">P</m:t>
                              </m:r>
                              <m:r>
                                <m:t xml:space="preserve">=</m:t>
                              </m:r>
                              <m:f>
                                <m:fPr>
                                  <m:type m:val="lin"/>
                                </m:fPr>
                                <m:num>
                                  <m:r>
                                    <m:t xml:space="preserve">Q</m:t>
                                  </m:r>
                                </m:num>
                                <m:den>
                                  <m:r>
                                    <m:t xml:space="preserve">μ</m:t>
                                  </m:r>
                                </m:den>
                              </m:f>
                            </m:e>
                          </m:mr>
                          <m:mr>
                            <m:e>
                              <m:m>
                                <m:m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SS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Zσ</m:t>
                                    </m:r>
                                    <m:rad>
                                      <m:radPr>
                                        <m:degHide m:val="1"/>
                                      </m:radPr>
                                      <m:deg/>
                                      <m:e>
                                        <m:r>
                                          <m:t xml:space="preserve">L</m:t>
                                        </m:r>
                                        <m:r>
                                          <m:t xml:space="preserve">+</m:t>
                                        </m:r>
                                        <m:r>
                                          <m:t xml:space="preserve">P</m:t>
                                        </m:r>
                                      </m:e>
                                    </m:rad>
                                  </m:e>
                                </m:mr>
                                <m:m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TIL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SS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μ</m:t>
                                    </m:r>
                                    <m:r>
                                      <m:t xml:space="preserve">(</m:t>
                                    </m:r>
                                    <m:r>
                                      <m:t xml:space="preserve">L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P</m:t>
                                    </m:r>
                                    <m:r>
                                      <m:t xml:space="preserve">)</m:t>
                                    </m:r>
                                  </m:e>
                                </m:mr>
                              </m:m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9" name=""/>
          <p:cNvSpPr/>
          <p:nvPr/>
        </p:nvSpPr>
        <p:spPr>
          <a:xfrm>
            <a:off x="971640" y="450864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evisión Continu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3280" y="450864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evisión Periódic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Bienes Perecibles: Single-Perio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Vendedor de Diario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Demanda: 7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± 3.16 unidades 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(empírica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Precio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Venta: $10</a:t>
            </a: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Compra: $4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Reventa (Salvage value): $2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Bienes Perecibles: Single-Perio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3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3366"/>
                </a:solidFill>
                <a:latin typeface="Arial"/>
              </a:rPr>
              <a:t>Teorí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Sólo un período - decisió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Ejemplos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Arriendo de autos o equipos, publicidad en TV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Overbooking (Hoteles, Viajes, Eventos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3366"/>
                </a:solidFill>
                <a:latin typeface="Arial"/>
              </a:rPr>
              <a:t>Critical fractile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2527200" y="5099040"/>
                <a:ext cx="2936880" cy="100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&lt;</m:t>
                    </m:r>
                    <m:r>
                      <m:t xml:space="preserve">Q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Bienes Perecibles: Multi-Perio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2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Decidir abastecimiento y precios en la venta de Shorts en veran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Demanda = Demanda(mes,precio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Costo de venta perdida: $10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Cuatro posibles valores para el precio en tiempo: $20, $15, $10 ó $6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Restricciones de precio (blandas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Cambios finito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Políticas monótona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Generalizacion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3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Recolección y utilización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Markov: Futuro = Futuro (Capacidad actual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Path-dependent: Demanda desconocida, aprendizaj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Otros factores: clima, competencia, moda, …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Asimetrías de información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Calidad, inventari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Presupuesto, valoració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Auction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Generalizacion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Varios recursos se transforman en varios productos: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Bundl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Espacio de Solucione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3366"/>
                </a:solidFill>
                <a:latin typeface="Arial"/>
              </a:rPr>
              <a:t>Dedicated – flexibl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Detalle de Productos: ventana – colo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Precio = Precio (producto, tiempo, información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Otras restricciones de precio: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Bundl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Discriminación geográfic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Costo (política, imagen, leyes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sfuerzo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nseguir una necesida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nseguir un problem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nseguir los dato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nseguir una solució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mentarios Final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2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Sensibilidad de las decisiones respecto del costo de Stockou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Capacidad es fija o flexible según la escala de tiemp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Complejidad: matemática, comunicación, dato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Introducción: Bien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1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ienes en Servicio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estaurante, Hospital, Consultorí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erecibles – no perecibl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Variables de decisió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antidad, Tiempo, Preci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Introducción: Preci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26560" y="2362320"/>
            <a:ext cx="7704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Muy efectivo para cambiar demanda en el corto plaz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Altos costos de start-up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Capacidad perecibl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Horizontes de tiempo corto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Demanda estocástica y sensibl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Impacto Financiero: 50% del Profi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Impacto Operacional: Congestión, Bien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ol de la Informació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3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Tecnologí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Códigos de barr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Interne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Impact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Demanda (</a:t>
            </a:r>
            <a:r>
              <a:rPr b="0" i="1" lang="es-ES" sz="2400" spc="-1" strike="noStrike">
                <a:solidFill>
                  <a:srgbClr val="003366"/>
                </a:solidFill>
                <a:latin typeface="Arial"/>
              </a:rPr>
              <a:t>Shoppers – buyers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Inventario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Logística (Relabeling, EDI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Consecuenci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Inventory Managemen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Revenue Management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tributos de un Inventari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2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antidad de producto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orizonte: uno, varios o infinitos período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emanda: Dependencia, aleatorieda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ipo de bi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iempo de reposició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uració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leatorieda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sto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Costos de la disponibilidad de Biene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3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Poco stock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Compensación al cliente: Automotor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Pérdida de la venta: Supermercado (Wasil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Pérdida del cliente: Supermercado (Coca-Cola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Pérdida de varios clientes: Restaurant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Almacenaj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Obsolecenci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Costo del capital (bienes e instalaciones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Seguros, merm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HH (digitación, cuadraturas, supervisión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Ambientación (temperatura, humedad, limpieza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Costos de la disponibilidad de Biene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3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ovimiento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specificación de las órden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olicitud, evaluación y negociación de cotizacion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omunicación con proveedor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ransporte, embarque, desempaqu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onitoreo y control de calida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raslado de bien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jemplo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Abastecimiento en Multire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Bienes Perecibl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Bienes No Perecibl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Un Períod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Múltiples Período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Bienes No Perecibl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3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Abastecer los baños de un hotel de barras de jabó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Demanda diaria: 16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± 3 barras (normal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Costo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Barra: $0,25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Reposición: $10,00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Tas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Capital: 5% (mensual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Servicio: 94%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15T23:13:48Z</dcterms:created>
  <dc:creator>Joselyn Bravo</dc:creator>
  <dc:description/>
  <dc:language>en-US</dc:language>
  <cp:lastModifiedBy>Joselyn Bravo</cp:lastModifiedBy>
  <dcterms:modified xsi:type="dcterms:W3CDTF">2007-08-19T21:31:19Z</dcterms:modified>
  <cp:revision>58</cp:revision>
  <dc:subject/>
  <dc:title>Bienes</dc:title>
</cp:coreProperties>
</file>