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B10-F5A1-4A1E-9697-0B0F86EF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B73-8A7C-43A4-ACDC-BCA5261F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BD5D-5CFD-4B70-8CCB-7D86FF5B4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C27-D136-45DC-95CB-4B48059B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BD31-7EA6-4BDC-9662-8FF899A8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A674-8634-4EC8-8C67-16E62E8C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68AF-1244-48BE-B6F5-E2D0E7FE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A12C-34EA-460D-A232-2E36C790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4F46-834F-4E35-8A63-A0028C4C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5AD3-AD36-479A-99BA-DD956790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39AF-D538-4578-A4C1-9C3BEF02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47E-B357-42C4-8365-AA0473CE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3C08-4702-483C-8437-DE4559DF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3F60-8710-4F59-8159-5ACF70DC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8F4D-8989-4D1E-A24C-2203C45C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0957-4EC8-459F-B187-98A7C856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48E9-5608-4DA6-BB0D-CCF74AF2B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5BC-ED9C-49D3-9481-C40EA17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5A5-5F77-4409-88BC-1E6F0F3B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A34-1630-473E-A99D-9C41F31C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764C-3CB3-47B3-BB5A-63635F35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E9C-B2DF-43F8-A40F-D229274E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FDC-B56E-4A1E-8064-51C49FC4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BED9-4F88-4F81-B175-BF37B57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3A3E-0F14-4D86-BDAC-5752A88E8C1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56CE-3787-4D84-A9B3-B7BFC7C77A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ienes y Preci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20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finito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independiente (períodos, produc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jemplos: Retail, Gastronomía, Mantenimien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336760" y="3860640"/>
                <a:ext cx="1835280" cy="19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=</m:t>
                              </m:r>
                              <m:r>
                                <m:t xml:space="preserve">Zσ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L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OP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S</m:t>
                              </m:r>
                              <m:r>
                                <m:t xml:space="preserve">+</m:t>
                              </m:r>
                              <m:r>
                                <m:t xml:space="preserve">μL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0" y="34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867280" y="3860640"/>
                <a:ext cx="2303640" cy="189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Q</m:t>
                              </m:r>
                              <m:r>
                                <m:t xml:space="preserve">=</m:t>
                              </m:r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  <m:r>
                                        <m:t xml:space="preserve">μS</m:t>
                                      </m:r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</m:e>
                              </m:rad>
                            </m:e>
                          </m:mr>
                          <m:mr>
                            <m:e>
                              <m:r>
                                <m:t xml:space="preserve">P</m:t>
                              </m:r>
                              <m:r>
                                <m:t xml:space="preserve">=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Q</m:t>
                                  </m:r>
                                </m:num>
                                <m:den>
                                  <m:r>
                                    <m:t xml:space="preserve">μ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m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Zσ</m:t>
                                    </m:r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L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P</m:t>
                                        </m:r>
                                      </m:e>
                                    </m:rad>
                                  </m:e>
                                </m:mr>
                                <m:m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IL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S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μ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L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mr>
                              </m:m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7164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Continu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4508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visión Periód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Vendedor de Dia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: 7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.16 unidades 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(empírica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: $10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ompra: $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ta (Salvage value): $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Single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Teorí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un período -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jemplo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rriendo de autos o equipos, publicidad en T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verbooking (Hoteles, Viajes, Event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Critical fractile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527200" y="5099040"/>
                <a:ext cx="293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Bienes Perecibles: Multi-Perio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cidir abastecimiento y precios en la venta de Shorts en veran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= Demanda(mes,precio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sto de venta perdida: $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uatro posibles valores para el precio en tiempo: $20, $15, $10 ó $6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tricciones de precio (blanda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mbios fini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líticas monóton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colección y utiliz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arkov: Futuro = Futuro (Capacidad actu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h-dependent: Demanda desconocida, aprendizaj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Otros factores: clima, competencia, moda, 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simetrías de inform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lidad, invent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, valo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uc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eneraliza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arios recursos se transforman en varios productos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spacio de Solu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3366"/>
                </a:solidFill>
                <a:latin typeface="Arial"/>
              </a:rPr>
              <a:t>Dedicated – flex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talle de Productos: ventana –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cio = Precio (producto, tiempo, información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tras restricciones de precio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iscriminación geográf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(política, imagen, ley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fuerz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neces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 probl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los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eguir una sol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nsibilidad de las decisiones respecto del costo de Stock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pacidad es fija o flexible según la escala de tiemp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mplejidad: matemática, comunicación, da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Bie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enes en Servic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taurante, Hospital, Consultorí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ecibles –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antidad, Tiempo, Prec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troducción: Prec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560" y="2362320"/>
            <a:ext cx="7704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uy efectivo para cambiar demanda en el cort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tos costos de start-u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pacidad perec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orizontes de tiempo cor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estocástica y sensi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Financiero: 50% del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 Operacional: Congestión, Bie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ol de la Inform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ecnologí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ódigos de barr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manda (</a:t>
            </a:r>
            <a:r>
              <a:rPr b="0" i="1" lang="es-ES" sz="2400" spc="-1" strike="noStrike">
                <a:solidFill>
                  <a:srgbClr val="003366"/>
                </a:solidFill>
                <a:latin typeface="Arial"/>
              </a:rPr>
              <a:t>Shoppers – buy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Logística (Relabeling, ED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secue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ntory Manage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venue Manage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tributos de un Inventar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tidad de produc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rizonte: uno, varios o infinitos perí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manda: Dependencia, aleatorie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po de bi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empo de reposi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r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eatorie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oco sto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mpensación al cliente: Automoto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la venta: Supermercado (Wasi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l cliente: Supermercado (Coca-Col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érdida de varios clientes: Restaurant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lmacenaj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Obsolecenci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 del capital (bienes e instalacion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Seguros, merm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HH (digitación, cuadraturas, supervisió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mbientación (temperatura, humedad, limpiez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stos de la disponibilidad de Bien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vimien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specificación de las órd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licitud, evaluación y negociación de cotizac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unicación con proveed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e, embarque, desempaqu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nitoreo y control de calida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slado de bie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imiento en Multir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Bienes No Perecib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Un Perío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Múltiples Períod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ienes No Pereci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bastecer los baños de un hotel de barras de jab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manda diaria: 16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± 3 barras (normal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Barra: $0,25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Reposición: $10,0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Tas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Capital: 5% (mensua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  <a:ea typeface="Arial"/>
              </a:rPr>
              <a:t>Servicio: 9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5T23:13:48Z</dcterms:created>
  <dc:creator>Joselyn Bravo</dc:creator>
  <dc:description/>
  <dc:language>en-US</dc:language>
  <cp:lastModifiedBy>Joselyn Bravo</cp:lastModifiedBy>
  <dcterms:modified xsi:type="dcterms:W3CDTF">2007-08-19T21:31:19Z</dcterms:modified>
  <cp:revision>58</cp:revision>
  <dc:subject/>
  <dc:title>Bienes</dc:title>
</cp:coreProperties>
</file>