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2D7C-BAB4-4ECC-B25C-94B7C91D6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3361-C07D-49AC-9492-AFDF0E06B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F0CD-DD51-4D42-9275-2413758C2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4B6F-4146-4C4F-8EC1-BD05A3657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1A2B0-9139-4287-A3EE-8312DACA1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A4F50-F163-467E-BF6F-5DB757E15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4DF9C-86AF-4261-8AAD-A054A5ED4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45E91-6DEC-44F8-8C70-84E1C676C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677C2-23C9-4C64-A98D-6D53FB369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7988F-52CE-43D8-AB01-5545D0A86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4F59F-FB89-433F-A8B4-87F66D58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0B77-3343-4B70-A1EA-B42A58667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86454-C1F7-4F6E-8C2E-96BB7C9E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C5F35-3C3A-4FEB-B1DB-D6F65A5B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96E49-1293-4986-8582-F69C1774D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4DECA-97B0-4A76-925F-3F6BD44F2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E07D3-044C-427E-B7BE-68A678D7C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0D63-D212-440D-9030-086F11ABD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9E97-6874-4021-86D7-80249DDF2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60DB-93EC-4F60-ADFA-117FDC8AF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5298-9D8E-4DA1-A4A4-3CA513B79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73BC-B9BC-45E0-88F8-A6D9EF8C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457A-54AB-4D99-84F0-B5B8E510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25BF-8BBE-45E7-97F4-FBD08DFA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3CC2A-A891-47DE-8C78-BD2DBA9E226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178CE-A4E1-454F-B2EC-57AA57B1FD5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Bienes y Precio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IN71K: Gestión de Operaciones en la Industria de Servicio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20 de agosto de 2007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ienes No Pereci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Teorí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finitos períod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emanda independiente (períodos, producto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jemplos: Retail, Gastronomía, Mantenimien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336760" y="3860640"/>
                <a:ext cx="1835280" cy="19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Q</m:t>
                              </m:r>
                              <m:r>
                                <m:t xml:space="preserve">=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f>
                                    <m:num>
                                      <m:r>
                                        <m:t xml:space="preserve">2</m:t>
                                      </m:r>
                                      <m:r>
                                        <m:t xml:space="preserve">μS</m:t>
                                      </m:r>
                                    </m:num>
                                    <m:den>
                                      <m:r>
                                        <m:t xml:space="preserve">H</m:t>
                                      </m:r>
                                    </m:den>
                                  </m:f>
                                </m:e>
                              </m:rad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S</m:t>
                              </m:r>
                              <m:r>
                                <m:t xml:space="preserve">=</m:t>
                              </m:r>
                              <m:r>
                                <m:t xml:space="preserve">Zσ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L</m:t>
                                  </m:r>
                                </m:e>
                              </m:rad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ROP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S</m:t>
                              </m:r>
                              <m:r>
                                <m:t xml:space="preserve">+</m:t>
                              </m:r>
                              <m:r>
                                <m:t xml:space="preserve">μL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0" y="34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867280" y="3860640"/>
                <a:ext cx="2303640" cy="189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Q</m:t>
                              </m:r>
                              <m:r>
                                <m:t xml:space="preserve">=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f>
                                    <m:num>
                                      <m:r>
                                        <m:t xml:space="preserve">2</m:t>
                                      </m:r>
                                      <m:r>
                                        <m:t xml:space="preserve">μS</m:t>
                                      </m:r>
                                    </m:num>
                                    <m:den>
                                      <m:r>
                                        <m:t xml:space="preserve">H</m:t>
                                      </m:r>
                                    </m:den>
                                  </m:f>
                                </m:e>
                              </m:rad>
                            </m:e>
                          </m:mr>
                          <m:mr>
                            <m:e>
                              <m:r>
                                <m:t xml:space="preserve">P</m:t>
                              </m:r>
                              <m:r>
                                <m:t xml:space="preserve">=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Q</m:t>
                                  </m:r>
                                </m:num>
                                <m:den>
                                  <m:r>
                                    <m:t xml:space="preserve">μ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S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Zσ</m:t>
                                    </m:r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L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P</m:t>
                                        </m:r>
                                      </m:e>
                                    </m:rad>
                                  </m:e>
                                </m:mr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IL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S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μ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L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971640" y="4508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visión Continu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3280" y="4508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visión Periódic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Bienes Perecibles: Single-Perio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Vendedor de Diari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emanda: 7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± 3.16 unidades 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(empíric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eci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Venta: $10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ompra: $4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Reventa (Salvage value): $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Bienes Perecibles: Single-Perio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Teorí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ólo un período - decis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emplo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rriendo de autos o equipos, publicidad en TV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Overbooking (Hoteles, Viajes, Evento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3366"/>
                </a:solidFill>
                <a:latin typeface="Arial"/>
              </a:rPr>
              <a:t>Critical fractile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527200" y="5099040"/>
                <a:ext cx="293688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&lt;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Bienes Perecibles: Multi-Perio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ecidir abastecimiento y precios en la venta de Shorts en veran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emanda = Demanda(mes,precio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sto de venta perdida: $1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uatro posibles valores para el precio en tiempo: $20, $15, $10 ó $6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stricciones de precio (blanda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mbios finit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olíticas monóton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eneralizacion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colección y utilizació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arkov: Futuro = Futuro (Capacidad actual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ath-dependent: Demanda desconocida, aprendizaj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Otros factores: clima, competencia, moda, 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simetrías de informació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lidad, inventar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esupuesto, valor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uc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eneralizacion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Varios recursos se transforman en varios productos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Bundl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Espacio de Solucion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3366"/>
                </a:solidFill>
                <a:latin typeface="Arial"/>
              </a:rPr>
              <a:t>Dedicated – flexib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etalle de Productos: ventana – col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ecio = Precio (producto, tiempo, informació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Otras restricciones de precio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Bundl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Discriminación geográfic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Costo (política, imagen, leye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sfuerz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eguir una neces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eguir un proble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eguir los da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eguir una solu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entarios Fina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nsibilidad de las decisiones respecto del costo de Stockou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apacidad es fija o flexible según la escala de tiemp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mplejidad: matemática, comunicación, da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troducción: Bien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ienes en Servici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staurante, Hospital, Consultorí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erecibles – no perecib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ariables de decis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ntidad, Tiempo, Prec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troducción: Prec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26560" y="2362320"/>
            <a:ext cx="7704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uy efectivo para cambiar demanda en el corto plaz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ltos costos de start-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pacidad perecib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Horizontes de tiempo cort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emanda estocástica y sensib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mpacto Financiero: 50% del Prof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mpacto Operacional: Congestión, Bie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ol de la Inform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ecnologí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ódigos de bar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mpac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emanda (</a:t>
            </a:r>
            <a:r>
              <a:rPr b="0" i="1" lang="es-ES" sz="2400" spc="-1" strike="noStrike">
                <a:solidFill>
                  <a:srgbClr val="003366"/>
                </a:solidFill>
                <a:latin typeface="Arial"/>
              </a:rPr>
              <a:t>Shoppers – buyer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ventari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Logística (Relabeling, EDI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nsecuenci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ventory Manage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Revenue Managemen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tributos de un Inventar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tidad de produc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rizonte: uno, varios o infinitos períod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manda: Dependencia, aleatorie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ipo de bi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iempo de reposi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ur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eatoried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s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stos de la disponibilidad de Bien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oco stoc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Compensación al cliente: Automotor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Pérdida de la venta: Supermercado (Wasil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Pérdida del cliente: Supermercado (Coca-Col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Pérdida de varios clientes: Restauran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lmacena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Obsolecenci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Costo del capital (bienes e instalacione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Seguros, merm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HH (digitación, cuadraturas, supervisión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Ambientación (temperatura, humedad, limpiez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stos de la disponibilidad de Bien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vimien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specificación de las órde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olicitud, evaluación y negociación de cotizacio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unicación con proveedo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ansporte, embarque, desempaqu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nitoreo y control de calid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aslado de bie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jempl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bastecimiento en Multir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Bienes Perecib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Bienes No Perecib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Un Períod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Múltiples Períod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ienes No Pereci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bastecer los baños de un hotel de barras de jab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emanda diaria: 16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± 3 barras (normal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Cos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Barra: $0,25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Reposición: $10,0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Tas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Capital: 5% (mensual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Servicio: 94%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5T23:13:48Z</dcterms:created>
  <dc:creator>Joselyn Bravo</dc:creator>
  <dc:description/>
  <dc:language>en-US</dc:language>
  <cp:lastModifiedBy>Joselyn Bravo</cp:lastModifiedBy>
  <dcterms:modified xsi:type="dcterms:W3CDTF">2007-08-19T21:31:19Z</dcterms:modified>
  <cp:revision>58</cp:revision>
  <dc:subject/>
  <dc:title>Bienes</dc:title>
</cp:coreProperties>
</file>