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499-B7C1-46A3-BDBB-D38282A7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9A7-C700-4B3A-8894-43158930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191-BC3B-4DD1-87AA-0D763BA9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338E-A028-48D8-ABDE-D1956CEC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2821-2DBD-482B-88DA-FD6BBC1C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4E52-0BA9-4A46-97EA-5674A0B7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CF61-61D2-4E93-9F04-1380CB4A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4007-6973-4A7F-B25C-3128962F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01A8-8836-42FB-AF69-8A1D3E01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8A43-53DA-43DC-BCC9-71A49210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EB70-7E76-443E-B5EF-2C946715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FDD-919B-45D3-A855-220386ED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6964-4F7D-4A33-935E-764B80BA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C6BE-9AB0-488E-A9C4-B46DCA2A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B3E5-EE1C-40BD-A42F-124DB200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8E3C-4BB2-4DD4-BD98-A547A141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7D38-79D5-4888-B88B-52351DC7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9E3-6DA5-4BC6-9028-F19769AD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16B-01C0-41DF-AE01-43D39CDE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049-7542-4F9D-B7EB-E6F43905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656-EA8B-410F-832D-618FA35F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4A0-4E7C-4480-9821-5D613C80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534-F764-498F-9FCE-2C63707C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2BC-A287-4644-82E5-FC436FCE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A7B4-8D94-48ED-9A86-5A59E4E72F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E17F-9179-4779-821A-EB17BFA09B4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ienes y Preci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0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enes No Perec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finitos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independiente (períodos, produc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jemplos: Retail, Gastronomía, Manteni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36760" y="3860640"/>
                <a:ext cx="183528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μS</m:t>
                                      </m:r>
                                    </m:num>
                                    <m:den>
                                      <m:r>
                                        <m:t xml:space="preserve">H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S</m:t>
                              </m:r>
                              <m:r>
                                <m:t xml:space="preserve">=</m:t>
                              </m:r>
                              <m:r>
                                <m:t xml:space="preserve">Zσ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L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OP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S</m:t>
                              </m:r>
                              <m:r>
                                <m:t xml:space="preserve">+</m:t>
                              </m:r>
                              <m:r>
                                <m:t xml:space="preserve">μL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4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867280" y="3860640"/>
                <a:ext cx="23036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μS</m:t>
                                      </m:r>
                                    </m:num>
                                    <m:den>
                                      <m:r>
                                        <m:t xml:space="preserve">H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Q</m:t>
                                  </m:r>
                                </m:num>
                                <m:den>
                                  <m:r>
                                    <m:t xml:space="preserve">μ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S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Zσ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P</m:t>
                                        </m:r>
                                      </m:e>
                                    </m:rad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IL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μ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L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7164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isión Continu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isión Periód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Single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Vendedor de Diar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: 7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± 3.16 unidades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(empíric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nta: $10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mpra: $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venta (Salvage value): $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Single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eo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un período - d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emplo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rriendo de autos o equipos, publicidad en T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verbooking (Hoteles, Viajes, Even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Critical fractile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527200" y="5099040"/>
                <a:ext cx="2936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Multi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dir abastecimiento y precios en la venta de Shorts en vera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= Demanda(mes,preci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 de venta perdida: $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atro posibles valores para el precio en tiempo: $20, $15, $10 ó $6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tricciones de precio (bland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mbios fini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olíticas monóto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iz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olección y utiliz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rkov: Futuro = Futuro (Capacidad actu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th-dependent: Demanda desconocida, aprendiza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os factores: clima, competencia, moda,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metrías de inform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idad, invent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upuesto, valo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u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iz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os recursos se transforman en varios producto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spacio de Solu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Dedicated – flex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alle de Productos: ventana – co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cio = Precio (producto, tiempo, informa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tras restricciones de precio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iscriminación geográ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 (política, imagen, ley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fuerz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a neces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los da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a sol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nsibilidad de las decisiones respecto del costo de Stock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 es fija o flexible según la escala de tiem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plejidad: matemática, comunicación, da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: Bie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enes en 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taurante, Hospital, Consult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ecibles – no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riables de d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tidad, Tiempo, Pre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: Pre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2362320"/>
            <a:ext cx="770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uy efectivo para cambiar demanda en el corto pla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ltos costos de start-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 perec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orizontes de tiempo cor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estocástica y sens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 Financiero: 50% del Prof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 Operacional: Congestión, Bie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 de la Inform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ecnologí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ódigos de bar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(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Shoppers – buy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ntar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gística (Relabeling, ED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secuenc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ntory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venue Managem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ributos de un Inventar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tidad de produc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rizonte: uno, varios o infinitos perí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manda: Dependencia, aleatorie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po de bi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empo de repos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eatorie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stos de la disponibilidad de Bi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oco sto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mpensación al cliente: Automoto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 la venta: Supermercado (Wasi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l cliente: Supermercado (Coca-Col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 varios clientes: Restaura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lmacena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Obsolecenc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 del capital (bienes e instalacion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guros, mer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HH (digitación, cuadraturas, supervisió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mbientación (temperatura, humedad, limpiez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stos de la disponibilidad de Bi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imien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pecificación de las órde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licitud, evaluación y negociación de cotiz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unicación con provee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porte, embarque, desempa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itoreo y control de c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slado de bie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jempl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bastecimiento en Multi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 No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Un Perío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últiples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enes No Perec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bastecer los baños de un hotel de barras de jab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diaria: 16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± 3 barras (norm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Barra: $0,25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Reposición: $10,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a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Capital: 5% (mensu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ervicio: 94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23:13:48Z</dcterms:created>
  <dc:creator>Joselyn Bravo</dc:creator>
  <dc:description/>
  <dc:language>en-US</dc:language>
  <cp:lastModifiedBy>Joselyn Bravo</cp:lastModifiedBy>
  <dcterms:modified xsi:type="dcterms:W3CDTF">2007-08-19T21:31:19Z</dcterms:modified>
  <cp:revision>58</cp:revision>
  <dc:subject/>
  <dc:title>Bienes</dc:title>
</cp:coreProperties>
</file>