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BD0F-5F9A-45E8-AE9A-EFE3F5BF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6F38-A967-4DD5-A628-35704706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E1DB-DF63-471F-A32D-C4D77CAA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E259-6D48-4AE5-A3E1-3095F20E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3897-3FF8-4830-975F-49162BD7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4C37-DE6D-4C4F-B7D6-235DD759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4A89-87AC-4005-A871-7B0E1418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054D-1BEA-4F85-A467-707A9DB7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4067-3F57-422A-B741-E7C9E244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AD2B-C07C-4A66-B693-E0A9F500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0FE2-86EB-4273-AC84-0C38C9A2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A069-E9B5-49F7-BB37-F825557C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F46C-4166-47BC-BEBF-EAA0A528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C7F4-5031-4FF0-8850-681AB74B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D3EA-A62B-4C81-A57E-45112F26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9B19-2147-4224-94FF-AF30A96F2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15ED-5E37-42B7-B26B-5C5EDFFC3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F794-6D72-4B20-845E-FBA3B363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2ED2-A014-4DE1-82A1-2BCF8C36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9DF3-D378-4E81-B34C-8F31232D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89E0-44E7-4F56-B0F7-E30808C4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72E8-31E4-4C73-8B8D-51945123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B96D-D597-4CC1-8442-F0608215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E577-0946-4B59-938A-8B9DB41C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7526-D58C-49C0-9EB7-A47EA4C007A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61A8-D606-4E60-A698-A0EC471E3DD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Bienes y Precio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20 de agosto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enes No Pereci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Teorí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finitos perío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manda independiente (períodos, producto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jemplos: Retail, Gastronomía, Mantenimi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336760" y="3860640"/>
                <a:ext cx="183528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Q</m:t>
                              </m:r>
                              <m:r>
                                <m:t xml:space="preserve">=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f>
                                    <m:num>
                                      <m:r>
                                        <m:t xml:space="preserve">2</m:t>
                                      </m:r>
                                      <m:r>
                                        <m:t xml:space="preserve">μS</m:t>
                                      </m:r>
                                    </m:num>
                                    <m:den>
                                      <m:r>
                                        <m:t xml:space="preserve">H</m:t>
                                      </m:r>
                                    </m:den>
                                  </m:f>
                                </m:e>
                              </m:ra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S</m:t>
                              </m:r>
                              <m:r>
                                <m:t xml:space="preserve">=</m:t>
                              </m:r>
                              <m:r>
                                <m:t xml:space="preserve">Zσ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L</m:t>
                                  </m:r>
                                </m:e>
                              </m:ra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OP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S</m:t>
                              </m:r>
                              <m:r>
                                <m:t xml:space="preserve">+</m:t>
                              </m:r>
                              <m:r>
                                <m:t xml:space="preserve">μL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34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867280" y="3860640"/>
                <a:ext cx="230364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Q</m:t>
                              </m:r>
                              <m:r>
                                <m:t xml:space="preserve">=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f>
                                    <m:num>
                                      <m:r>
                                        <m:t xml:space="preserve">2</m:t>
                                      </m:r>
                                      <m:r>
                                        <m:t xml:space="preserve">μS</m:t>
                                      </m:r>
                                    </m:num>
                                    <m:den>
                                      <m:r>
                                        <m:t xml:space="preserve">H</m:t>
                                      </m:r>
                                    </m:den>
                                  </m:f>
                                </m:e>
                              </m:rad>
                            </m:e>
                          </m:mr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=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Q</m:t>
                                  </m:r>
                                </m:num>
                                <m:den>
                                  <m:r>
                                    <m:t xml:space="preserve">μ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S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Zσ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P</m:t>
                                        </m:r>
                                      </m:e>
                                    </m:rad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IL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S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μ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L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971640" y="4508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visión Continu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4508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visión Periód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ienes Perecibles: Single-Peri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Vendedor de Diar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manda: 7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± 3.16 unidades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(empíric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ec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enta: $10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mpra: $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venta (Salvage value): $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ienes Perecibles: Single-Peri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Teorí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ólo un período - decis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emplo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rriendo de autos o equipos, publicidad en T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verbooking (Hoteles, Viajes, Evento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Critical fractile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527200" y="5099040"/>
                <a:ext cx="29368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&lt;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ienes Perecibles: Multi-Peri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cidir abastecimiento y precios en la venta de Shorts en vera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manda = Demanda(mes,preci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sto de venta perdida: $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uatro posibles valores para el precio en tiempo: $20, $15, $10 ó $6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tricciones de precio (blanda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mbios fini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olíticas monóton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eraliz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colección y utilizació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rkov: Futuro = Futuro (Capacidad actua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ath-dependent: Demanda desconocida, aprendiza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tros factores: clima, competencia, moda,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simetrías de informació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lidad, inventa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esupuesto, valor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uc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eraliz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arios recursos se transforman en varios productos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Bund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spacio de Solucio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Dedicated – flexi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talle de Productos: ventana – col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ecio = Precio (producto, tiempo, informació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tras restricciones de precio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Bund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iscriminación geográf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osto (política, imagen, ley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sfuerz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eguir una neces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eguir un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eguir los da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eguir una solu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nsibilidad de las decisiones respecto del costo de Stocko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pacidad es fija o flexible según la escala de tiemp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mplejidad: matemática, comunicación, da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oducción: Bie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enes en Servic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taurante, Hospital, Consultorí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ecibles – no perec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ariables de decis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tidad, Tiempo, Prec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oducción: Pre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26560" y="2362320"/>
            <a:ext cx="7704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uy efectivo para cambiar demanda en el corto plaz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ltos costos de start-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dad pereci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Horizontes de tiempo cor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manda estocástica y sensi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acto Financiero: 50% del Prof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acto Operacional: Congestión, Bie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l de la Inform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ecnologí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ódigos de bar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ac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manda (</a:t>
            </a:r>
            <a:r>
              <a:rPr b="0" i="1" lang="es-ES" sz="2400" spc="-1" strike="noStrike">
                <a:solidFill>
                  <a:srgbClr val="003366"/>
                </a:solidFill>
                <a:latin typeface="Arial"/>
              </a:rPr>
              <a:t>Shoppers – buyer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ventar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ogística (Relabeling, ED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secuenci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ventory Manag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venue Managemen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tributos de un Inventar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tidad de produc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rizonte: uno, varios o infinitos perío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manda: Dependencia, aleatorie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po de bi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empo de reposi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ur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eatorie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stos de la disponibilidad de Bien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oco sto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ompensación al cliente: Automoto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érdida de la venta: Supermercado (Wasi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érdida del cliente: Supermercado (Coca-Col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érdida de varios clientes: Restauran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lmacena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Obsolecenc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osto del capital (bienes e instalacion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Seguros, mer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HH (digitación, cuadraturas, supervisió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mbientación (temperatura, humedad, limpiez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stos de la disponibilidad de Bien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vimien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pecificación de las órde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licitud, evaluación y negociación de cotiza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unicación con proveed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nsporte, embarque, desempaq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nitoreo y control de ca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slado de bie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jempl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bastecimiento en Multi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ienes Perec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ienes No Perec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Un Perío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últiples Perío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enes No Pereci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bastecer los baños de un hotel de barras de jab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manda diaria: 16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± 3 barras (norma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Barra: $0,25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Reposición: $10,0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Tas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Capital: 5% (mensua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Servicio: 94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5T23:13:48Z</dcterms:created>
  <dc:creator>Joselyn Bravo</dc:creator>
  <dc:description/>
  <dc:language>en-US</dc:language>
  <cp:lastModifiedBy>Joselyn Bravo</cp:lastModifiedBy>
  <dcterms:modified xsi:type="dcterms:W3CDTF">2007-08-19T21:31:19Z</dcterms:modified>
  <cp:revision>58</cp:revision>
  <dc:subject/>
  <dc:title>Bienes</dc:title>
</cp:coreProperties>
</file>