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8D22-F196-403A-9DC1-3F63B5C4A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AC1B-7E41-4C9D-983C-25D3CAF4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9779-8817-4261-9D19-98D65DBFA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DC44-BD68-4955-98DB-D7F5223A3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088B-D2EB-4E55-8C76-30A499512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DCE1-BA42-4E46-A400-78DA78A1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58D0-D910-4E8C-B533-32AEB5FF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0035-9974-4956-9012-3AAF65F3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65F8-8FBE-48A8-93BC-E7815385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E351-E5B2-45D6-9DBE-1B8F780F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0959-551A-46EA-A80C-5D94CF21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9E95-05EA-4F82-8FEA-B2FA0793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11E2-AA11-4613-8CF1-BA96D35B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66F3-097F-47B2-A56A-4B63AF01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9D2F-4DC8-4416-90D8-9DC4B814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79F9-6312-431A-BA76-4EC0925F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B387-56D3-4DF8-BFB2-E3CC60F2B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79BE-CBD2-49EF-A044-87F6E5E0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439C-0A77-4873-A823-32074F30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A78C-B914-41AE-9E15-77029EF3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56B2-F817-4922-9A6B-A72FDB98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C0DB-B684-4F65-8544-836B2824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3CD1-D33A-4C73-80F6-B4183E9E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8AEC-6442-409D-B687-FDA4566D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2969-87DE-4437-A16A-6F309AB5BCF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2A86-3A99-4FB8-9ADD-501DC8300B8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Bienes y Precio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20 de agosto de 200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enes No Pereci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Teorí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finitos períod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manda independiente (períodos, producto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jemplos: Retail, Gastronomía, Mantenimi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336760" y="3860640"/>
                <a:ext cx="183528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Q</m:t>
                              </m:r>
                              <m:r>
                                <m:t xml:space="preserve">=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f>
                                    <m:num>
                                      <m:r>
                                        <m:t xml:space="preserve">2</m:t>
                                      </m:r>
                                      <m:r>
                                        <m:t xml:space="preserve">μS</m:t>
                                      </m:r>
                                    </m:num>
                                    <m:den>
                                      <m:r>
                                        <m:t xml:space="preserve">H</m:t>
                                      </m:r>
                                    </m:den>
                                  </m:f>
                                </m:e>
                              </m:ra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S</m:t>
                              </m:r>
                              <m:r>
                                <m:t xml:space="preserve">=</m:t>
                              </m:r>
                              <m:r>
                                <m:t xml:space="preserve">Zσ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L</m:t>
                                  </m:r>
                                </m:e>
                              </m:ra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OP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S</m:t>
                              </m:r>
                              <m:r>
                                <m:t xml:space="preserve">+</m:t>
                              </m:r>
                              <m:r>
                                <m:t xml:space="preserve">μL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0" y="34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867280" y="3860640"/>
                <a:ext cx="230364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Q</m:t>
                              </m:r>
                              <m:r>
                                <m:t xml:space="preserve">=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f>
                                    <m:num>
                                      <m:r>
                                        <m:t xml:space="preserve">2</m:t>
                                      </m:r>
                                      <m:r>
                                        <m:t xml:space="preserve">μS</m:t>
                                      </m:r>
                                    </m:num>
                                    <m:den>
                                      <m:r>
                                        <m:t xml:space="preserve">H</m:t>
                                      </m:r>
                                    </m:den>
                                  </m:f>
                                </m:e>
                              </m:rad>
                            </m:e>
                          </m:mr>
                          <m:mr>
                            <m:e>
                              <m:r>
                                <m:t xml:space="preserve">P</m:t>
                              </m:r>
                              <m:r>
                                <m:t xml:space="preserve">=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Q</m:t>
                                  </m:r>
                                </m:num>
                                <m:den>
                                  <m:r>
                                    <m:t xml:space="preserve">μ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S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Zσ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P</m:t>
                                        </m:r>
                                      </m:e>
                                    </m:rad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IL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S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μ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L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971640" y="4508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visión Continu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4508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visión Periód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ienes Perecibles: Single-Peri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Vendedor de Diar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manda: 7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± 3.16 unidades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(empíric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ec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enta: $10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mpra: $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venta (Salvage value): $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ienes Perecibles: Single-Peri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Teorí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ólo un período - decis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emplo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rriendo de autos o equipos, publicidad en T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verbooking (Hoteles, Viajes, Evento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Critical fractile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527200" y="5099040"/>
                <a:ext cx="29368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&lt;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ienes Perecibles: Multi-Peri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cidir abastecimiento y precios en la venta de Shorts en vera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manda = Demanda(mes,preci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sto de venta perdida: $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uatro posibles valores para el precio en tiempo: $20, $15, $10 ó $6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tricciones de precio (blanda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mbios fini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olíticas monóton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eraliz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colección y utilizació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arkov: Futuro = Futuro (Capacidad actua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ath-dependent: Demanda desconocida, aprendiza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tros factores: clima, competencia, moda,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simetrías de informació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lidad, inventar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esupuesto, valor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uc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eraliz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arios recursos se transforman en varios productos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Bund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spacio de Solucion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Dedicated – flexi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talle de Productos: ventana – col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ecio = Precio (producto, tiempo, informació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tras restricciones de precio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Bund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Discriminación geográf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osto (política, imagen, ley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sfuerz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eguir una neces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eguir un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eguir los da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eguir una solu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entarios Fin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nsibilidad de las decisiones respecto del costo de Stockou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pacidad es fija o flexible según la escala de tiemp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mplejidad: matemática, comunicación, da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roducción: Bie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enes en Servic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taurante, Hospital, Consultorí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ecibles – no perec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ariables de decis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tidad, Tiempo, Prec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roducción: Pre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26560" y="2362320"/>
            <a:ext cx="7704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uy efectivo para cambiar demanda en el corto plaz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ltos costos de start-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pacidad pereci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Horizontes de tiempo cor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manda estocástica y sensi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acto Financiero: 50% del Prof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acto Operacional: Congestión, Bie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l de la Inform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ecnologí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ódigos de bar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ac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manda (</a:t>
            </a:r>
            <a:r>
              <a:rPr b="0" i="1" lang="es-ES" sz="2400" spc="-1" strike="noStrike">
                <a:solidFill>
                  <a:srgbClr val="003366"/>
                </a:solidFill>
                <a:latin typeface="Arial"/>
              </a:rPr>
              <a:t>Shoppers – buyer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ventari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ogística (Relabeling, ED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secuenci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ventory Manag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venue Managemen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tributos de un Inventar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tidad de produc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rizonte: uno, varios o infinitos perío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manda: Dependencia, aleatorie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po de bi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empo de reposi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ur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eatorie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stos de la disponibilidad de Bien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oco stoc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ompensación al cliente: Automoto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érdida de la venta: Supermercado (Wasil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érdida del cliente: Supermercado (Coca-Col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érdida de varios clientes: Restauran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lmacena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Obsolecenc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osto del capital (bienes e instalacion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Seguros, mer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HH (digitación, cuadraturas, supervisió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mbientación (temperatura, humedad, limpiez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stos de la disponibilidad de Bien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vimien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pecificación de las órde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licitud, evaluación y negociación de cotizac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unicación con proveedo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ansporte, embarque, desempaq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nitoreo y control de cal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aslado de bie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jempl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bastecimiento en Multi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Bienes Perec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Bienes No Perec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Un Perío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últiples Períod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enes No Pereci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bastecer los baños de un hotel de barras de jab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manda diaria: 16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± 3 barras (norma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Co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Barra: $0,25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Reposición: $10,0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Tas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Capital: 5% (mensua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Servicio: 94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5T23:13:48Z</dcterms:created>
  <dc:creator>Joselyn Bravo</dc:creator>
  <dc:description/>
  <dc:language>en-US</dc:language>
  <cp:lastModifiedBy>Joselyn Bravo</cp:lastModifiedBy>
  <dcterms:modified xsi:type="dcterms:W3CDTF">2007-08-19T21:31:19Z</dcterms:modified>
  <cp:revision>58</cp:revision>
  <dc:subject/>
  <dc:title>Bienes</dc:title>
</cp:coreProperties>
</file>