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7.jpeg" ContentType="image/jpe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6363-9A70-415A-A6A8-2C1D299107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DDBA9-8162-4474-94B6-B4E47BD78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C48A-2E49-45F9-A00F-CD7429F8C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1DC3-47BC-4AC9-913E-D6D7B750F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EB354-993D-43ED-BE61-93BB85288C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137A-286A-43A4-B71D-CD9396EAD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081FB-DA83-4ED4-B48E-8C9DA8C9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60BD0-30E5-4C03-950C-85B1AD1DA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11A1C-6DB5-4288-871B-80AFFE757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8819D-A10D-4BBD-8C2B-A73BECBD9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CBF1-040F-47ED-B509-AA54103E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9DA-941B-49ED-9249-3DC9D477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CA442-7AA4-45A0-91DF-9EFA0859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532D3-4F2D-400C-B1AB-5062B44FF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F5F2-673A-4EE4-A7B6-A59A3FA7E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0120D-E6F8-4F22-9B9D-46AB90544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8F033-7F83-4825-86D4-5240FAFA6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77F-5E3E-40F7-A230-B6136447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F5E7-4DC2-4880-B718-F4321FEF8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7BC7-214D-4A06-BB21-F7763B8DD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1F66-7E95-44A1-B54F-ED5C8D501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7BFC2-9256-4E62-877A-4CC6C45C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481D-8C42-43F4-8E44-311AC81E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39897-3FE5-44F1-BC10-711C0AFDB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0886-E12F-4A0B-AB62-CEF877F967BD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3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7BCBC-C0D9-4068-AA85-5DB5E01F8923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Pronóstico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IN71K: Gestión de Operaciones en la Industria de Servicios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6666"/>
                </a:solidFill>
                <a:latin typeface="Arial"/>
              </a:rPr>
              <a:t>13 de agosto de 2007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79280" y="2443320"/>
            <a:ext cx="8964720" cy="4703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520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2401920" y="4419720"/>
                <a:ext cx="3120840" cy="101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rro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|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rea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T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ron</m:t>
                            </m:r>
                          </m:sub>
                        </m:sSub>
                        <m:r>
                          <m:t xml:space="preserve">|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2" name=""/>
          <p:cNvSpPr/>
          <p:nvPr/>
        </p:nvSpPr>
        <p:spPr>
          <a:xfrm>
            <a:off x="2195640" y="2349360"/>
            <a:ext cx="43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ost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258920" y="3213000"/>
            <a:ext cx="4724280" cy="147636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iferencias en Cal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116000" y="3141720"/>
            <a:ext cx="7010280" cy="1344600"/>
          </a:xfrm>
          <a:prstGeom prst="rect">
            <a:avLst/>
          </a:prstGeom>
          <a:ln w="28440">
            <a:solidFill>
              <a:srgbClr val="0033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nto se va a gastar en servicios de caja el 2008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atos Mayo 2007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mbios 2008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Venta en superficie: 2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umento en demanda: 10%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supuesto mensual 2008: $ 469.400.304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63640" y="2924280"/>
            <a:ext cx="2590920" cy="122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Presupuesto 2008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qué 10% en aumento de demand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nálisis Modelo de Asignación de Cajer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5616720" cy="20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Qué impacto produce el plan Transantiago en la venta en Metro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 Nº de personas transportad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horario: punta mañana – punta tard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or origen de acceso: Micro – caminand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uente: Estudio de Fernández &amp; De Cea en base a encuesta origen destino 199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Supuestos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e la gente que llega desde una micro, el 50% es cliente Multired y todos usan BI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oda la gente que llega caminando es cliente Multired. De ellos, el 10% utiliza bole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 carga promedio de BIP es de cuatro viaj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os usuarios de boleto compran de una unidad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116000" y="2781360"/>
            <a:ext cx="7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539640" y="2506680"/>
            <a:ext cx="1079280" cy="852480"/>
            <a:chOff x="539640" y="2506680"/>
            <a:chExt cx="1079280" cy="852480"/>
          </a:xfrm>
        </p:grpSpPr>
        <p:sp>
          <p:nvSpPr>
            <p:cNvPr id="145" name=""/>
            <p:cNvSpPr/>
            <p:nvPr/>
          </p:nvSpPr>
          <p:spPr>
            <a:xfrm>
              <a:off x="828360" y="250668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9640" y="308268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Micro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179280" y="2276640"/>
            <a:ext cx="360360" cy="575640"/>
            <a:chOff x="179280" y="2276640"/>
            <a:chExt cx="360360" cy="575640"/>
          </a:xfrm>
        </p:grpSpPr>
        <p:sp>
          <p:nvSpPr>
            <p:cNvPr id="148" name=""/>
            <p:cNvSpPr/>
            <p:nvPr/>
          </p:nvSpPr>
          <p:spPr>
            <a:xfrm>
              <a:off x="179280" y="263664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79280" y="227664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108000" y="4797360"/>
            <a:ext cx="360360" cy="576360"/>
            <a:chOff x="108000" y="4797360"/>
            <a:chExt cx="360360" cy="576360"/>
          </a:xfrm>
        </p:grpSpPr>
        <p:sp>
          <p:nvSpPr>
            <p:cNvPr id="151" name=""/>
            <p:cNvSpPr/>
            <p:nvPr/>
          </p:nvSpPr>
          <p:spPr>
            <a:xfrm>
              <a:off x="108000" y="515772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08000" y="4797360"/>
              <a:ext cx="289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395280" y="4883040"/>
            <a:ext cx="1079280" cy="852480"/>
            <a:chOff x="395280" y="4883040"/>
            <a:chExt cx="1079280" cy="852480"/>
          </a:xfrm>
        </p:grpSpPr>
        <p:sp>
          <p:nvSpPr>
            <p:cNvPr id="154" name=""/>
            <p:cNvSpPr/>
            <p:nvPr/>
          </p:nvSpPr>
          <p:spPr>
            <a:xfrm>
              <a:off x="682560" y="4883040"/>
              <a:ext cx="503280" cy="501480"/>
            </a:xfrm>
            <a:prstGeom prst="smileyFace">
              <a:avLst>
                <a:gd name="adj" fmla="val 9282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95280" y="545904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3366"/>
                  </a:solidFill>
                  <a:latin typeface="Arial"/>
                </a:rPr>
                <a:t>Origen Calle</a:t>
              </a:r>
              <a:endParaRPr b="0" lang="en-US" sz="12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179280" y="1125360"/>
            <a:ext cx="1225800" cy="503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3366"/>
                </a:solidFill>
                <a:latin typeface="Arial"/>
              </a:rPr>
              <a:t>Ingresan a Metro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92360" y="189000"/>
            <a:ext cx="7200720" cy="6553080"/>
          </a:xfrm>
          <a:prstGeom prst="cube">
            <a:avLst>
              <a:gd name="adj" fmla="val 0"/>
            </a:avLst>
          </a:prstGeom>
          <a:solidFill>
            <a:srgbClr val="ffcc00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276720" y="260280"/>
            <a:ext cx="3671640" cy="647640"/>
          </a:xfrm>
          <a:prstGeom prst="rect">
            <a:avLst/>
          </a:prstGeom>
          <a:ln w="0">
            <a:noFill/>
          </a:ln>
        </p:spPr>
      </p:pic>
      <p:grpSp>
        <p:nvGrpSpPr>
          <p:cNvPr id="159" name=""/>
          <p:cNvGrpSpPr/>
          <p:nvPr/>
        </p:nvGrpSpPr>
        <p:grpSpPr>
          <a:xfrm>
            <a:off x="1835280" y="1197000"/>
            <a:ext cx="1800000" cy="4465440"/>
            <a:chOff x="1835280" y="1197000"/>
            <a:chExt cx="1800000" cy="4465440"/>
          </a:xfrm>
        </p:grpSpPr>
        <p:grpSp>
          <p:nvGrpSpPr>
            <p:cNvPr id="160" name=""/>
            <p:cNvGrpSpPr/>
            <p:nvPr/>
          </p:nvGrpSpPr>
          <p:grpSpPr>
            <a:xfrm>
              <a:off x="2124000" y="4869000"/>
              <a:ext cx="360360" cy="575640"/>
              <a:chOff x="2124000" y="4869000"/>
              <a:chExt cx="360360" cy="575640"/>
            </a:xfrm>
          </p:grpSpPr>
          <p:sp>
            <p:nvSpPr>
              <p:cNvPr id="161" name=""/>
              <p:cNvSpPr/>
              <p:nvPr/>
            </p:nvSpPr>
            <p:spPr>
              <a:xfrm>
                <a:off x="2124000" y="5229000"/>
                <a:ext cx="360360" cy="215640"/>
              </a:xfrm>
              <a:prstGeom prst="rightArrow">
                <a:avLst>
                  <a:gd name="adj1" fmla="val 50000"/>
                  <a:gd name="adj2" fmla="val 41778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2124000" y="4869000"/>
                <a:ext cx="28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y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1835280" y="2276640"/>
              <a:ext cx="865080" cy="575640"/>
              <a:chOff x="1835280" y="2276640"/>
              <a:chExt cx="865080" cy="575640"/>
            </a:xfrm>
          </p:grpSpPr>
          <p:sp>
            <p:nvSpPr>
              <p:cNvPr id="164" name=""/>
              <p:cNvSpPr/>
              <p:nvPr/>
            </p:nvSpPr>
            <p:spPr>
              <a:xfrm>
                <a:off x="205092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83528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556000" y="2433600"/>
              <a:ext cx="1079280" cy="852480"/>
              <a:chOff x="2556000" y="2433600"/>
              <a:chExt cx="1079280" cy="852480"/>
            </a:xfrm>
          </p:grpSpPr>
          <p:sp>
            <p:nvSpPr>
              <p:cNvPr id="167" name=""/>
              <p:cNvSpPr/>
              <p:nvPr/>
            </p:nvSpPr>
            <p:spPr>
              <a:xfrm>
                <a:off x="2844720" y="243360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556000" y="300960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2556000" y="4809960"/>
              <a:ext cx="1079280" cy="852480"/>
              <a:chOff x="2556000" y="4809960"/>
              <a:chExt cx="1079280" cy="852480"/>
            </a:xfrm>
          </p:grpSpPr>
          <p:sp>
            <p:nvSpPr>
              <p:cNvPr id="170" name=""/>
              <p:cNvSpPr/>
              <p:nvPr/>
            </p:nvSpPr>
            <p:spPr>
              <a:xfrm>
                <a:off x="2843280" y="4809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556000" y="5385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72" name=""/>
            <p:cNvSpPr/>
            <p:nvPr/>
          </p:nvSpPr>
          <p:spPr>
            <a:xfrm>
              <a:off x="2340000" y="1197000"/>
              <a:ext cx="122544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lientes Multired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3780000" y="1197000"/>
            <a:ext cx="2087280" cy="5400720"/>
            <a:chOff x="3780000" y="1197000"/>
            <a:chExt cx="2087280" cy="5400720"/>
          </a:xfrm>
        </p:grpSpPr>
        <p:sp>
          <p:nvSpPr>
            <p:cNvPr id="174" name=""/>
            <p:cNvSpPr/>
            <p:nvPr/>
          </p:nvSpPr>
          <p:spPr>
            <a:xfrm>
              <a:off x="3995640" y="443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781440" y="399888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9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781440" y="5510160"/>
              <a:ext cx="93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95640" y="587700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85928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485928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788000" y="2998800"/>
              <a:ext cx="79200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0000" y="2276640"/>
              <a:ext cx="865080" cy="575640"/>
              <a:chOff x="3780000" y="2276640"/>
              <a:chExt cx="865080" cy="575640"/>
            </a:xfrm>
          </p:grpSpPr>
          <p:sp>
            <p:nvSpPr>
              <p:cNvPr id="182" name=""/>
              <p:cNvSpPr/>
              <p:nvPr/>
            </p:nvSpPr>
            <p:spPr>
              <a:xfrm>
                <a:off x="3995640" y="2636640"/>
                <a:ext cx="360000" cy="215640"/>
              </a:xfrm>
              <a:prstGeom prst="rightArrow">
                <a:avLst>
                  <a:gd name="adj1" fmla="val 50000"/>
                  <a:gd name="adj2" fmla="val 41736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780000" y="2276640"/>
                <a:ext cx="865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800" spc="-1" strike="noStrike">
                    <a:solidFill>
                      <a:srgbClr val="003366"/>
                    </a:solidFill>
                    <a:latin typeface="Arial"/>
                  </a:rPr>
                  <a:t>50%x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4645080" y="2133720"/>
              <a:ext cx="1079280" cy="852480"/>
              <a:chOff x="4645080" y="2133720"/>
              <a:chExt cx="1079280" cy="852480"/>
            </a:xfrm>
          </p:grpSpPr>
          <p:sp>
            <p:nvSpPr>
              <p:cNvPr id="185" name=""/>
              <p:cNvSpPr/>
              <p:nvPr/>
            </p:nvSpPr>
            <p:spPr>
              <a:xfrm>
                <a:off x="4933800" y="21337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645080" y="27097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4716360" y="5386320"/>
              <a:ext cx="1079280" cy="852480"/>
              <a:chOff x="4716360" y="5386320"/>
              <a:chExt cx="1079280" cy="852480"/>
            </a:xfrm>
          </p:grpSpPr>
          <p:sp>
            <p:nvSpPr>
              <p:cNvPr id="188" name=""/>
              <p:cNvSpPr/>
              <p:nvPr/>
            </p:nvSpPr>
            <p:spPr>
              <a:xfrm>
                <a:off x="5003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716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4716360" y="3801960"/>
              <a:ext cx="1079280" cy="852480"/>
              <a:chOff x="4716360" y="3801960"/>
              <a:chExt cx="1079280" cy="852480"/>
            </a:xfrm>
          </p:grpSpPr>
          <p:sp>
            <p:nvSpPr>
              <p:cNvPr id="191" name=""/>
              <p:cNvSpPr/>
              <p:nvPr/>
            </p:nvSpPr>
            <p:spPr>
              <a:xfrm>
                <a:off x="5003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716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4500720" y="1197000"/>
              <a:ext cx="13665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940360" y="1197000"/>
            <a:ext cx="2521080" cy="5400720"/>
            <a:chOff x="5940360" y="1197000"/>
            <a:chExt cx="2521080" cy="5400720"/>
          </a:xfrm>
        </p:grpSpPr>
        <p:sp>
          <p:nvSpPr>
            <p:cNvPr id="195" name=""/>
            <p:cNvSpPr/>
            <p:nvPr/>
          </p:nvSpPr>
          <p:spPr>
            <a:xfrm>
              <a:off x="5940360" y="227016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50%x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12000" y="3925800"/>
              <a:ext cx="129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(90%y)/4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084720" y="5438880"/>
              <a:ext cx="9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003366"/>
                  </a:solidFill>
                  <a:latin typeface="Arial"/>
                </a:rPr>
                <a:t>10%y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00720" y="2637000"/>
              <a:ext cx="360360" cy="215640"/>
            </a:xfrm>
            <a:prstGeom prst="rightArrow">
              <a:avLst>
                <a:gd name="adj1" fmla="val 50000"/>
                <a:gd name="adj2" fmla="val 41778"/>
              </a:avLst>
            </a:prstGeom>
            <a:solidFill>
              <a:srgbClr val="ff00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300720" y="580536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99280" y="4292640"/>
              <a:ext cx="360360" cy="216000"/>
            </a:xfrm>
            <a:prstGeom prst="rightArrow">
              <a:avLst>
                <a:gd name="adj1" fmla="val 50000"/>
                <a:gd name="adj2" fmla="val 41708"/>
              </a:avLst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164360" y="2146320"/>
              <a:ext cx="1079280" cy="852480"/>
              <a:chOff x="7164360" y="2146320"/>
              <a:chExt cx="1079280" cy="852480"/>
            </a:xfrm>
          </p:grpSpPr>
          <p:sp>
            <p:nvSpPr>
              <p:cNvPr id="202" name=""/>
              <p:cNvSpPr/>
              <p:nvPr/>
            </p:nvSpPr>
            <p:spPr>
              <a:xfrm>
                <a:off x="7453080" y="214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ff00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164360" y="272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Micro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4" name=""/>
            <p:cNvGrpSpPr/>
            <p:nvPr/>
          </p:nvGrpSpPr>
          <p:grpSpPr>
            <a:xfrm>
              <a:off x="7164360" y="5386320"/>
              <a:ext cx="1079280" cy="852480"/>
              <a:chOff x="7164360" y="5386320"/>
              <a:chExt cx="1079280" cy="852480"/>
            </a:xfrm>
          </p:grpSpPr>
          <p:sp>
            <p:nvSpPr>
              <p:cNvPr id="205" name=""/>
              <p:cNvSpPr/>
              <p:nvPr/>
            </p:nvSpPr>
            <p:spPr>
              <a:xfrm>
                <a:off x="7451640" y="538632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7164360" y="596232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7164360" y="3801960"/>
              <a:ext cx="1079280" cy="852480"/>
              <a:chOff x="7164360" y="3801960"/>
              <a:chExt cx="1079280" cy="852480"/>
            </a:xfrm>
          </p:grpSpPr>
          <p:sp>
            <p:nvSpPr>
              <p:cNvPr id="208" name=""/>
              <p:cNvSpPr/>
              <p:nvPr/>
            </p:nvSpPr>
            <p:spPr>
              <a:xfrm>
                <a:off x="7451640" y="3801960"/>
                <a:ext cx="503280" cy="501480"/>
              </a:xfrm>
              <a:prstGeom prst="smileyFace">
                <a:avLst>
                  <a:gd name="adj" fmla="val 9282"/>
                </a:avLst>
              </a:prstGeom>
              <a:solidFill>
                <a:srgbClr val="00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7164360" y="4377960"/>
                <a:ext cx="1079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003366"/>
                    </a:solidFill>
                    <a:latin typeface="Arial"/>
                  </a:rPr>
                  <a:t>Origen Calle</a:t>
                </a:r>
                <a:endParaRPr b="0" lang="en-US" sz="12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210" name=""/>
            <p:cNvSpPr/>
            <p:nvPr/>
          </p:nvSpPr>
          <p:spPr>
            <a:xfrm>
              <a:off x="7308720" y="4654440"/>
              <a:ext cx="792360" cy="35892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ffff00"/>
                  </a:solidFill>
                  <a:latin typeface="Arial"/>
                </a:rPr>
                <a:t>BIP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308720" y="6237360"/>
              <a:ext cx="792360" cy="360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3366"/>
                  </a:solidFill>
                  <a:latin typeface="Arial"/>
                </a:rPr>
                <a:t>Boleto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77080" y="1197000"/>
              <a:ext cx="1584360" cy="503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003366"/>
                  </a:solidFill>
                  <a:latin typeface="Arial"/>
                </a:rPr>
                <a:t>Composición Compra diaria</a:t>
              </a:r>
              <a:endParaRPr b="0" lang="en-US" sz="1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Introduc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Utiliza la información disponibl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trones por naturalez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os tipos de técnica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l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uantitativ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didas de error: absoluto, cuadrático, tipo I y tipo II, en impact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Transantiag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ulta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ansacciones de Cargas y Boletos por est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tidad de Puestos de Vent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etodología aplicable a otras instanci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omentarios Final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43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ecis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Nos vemos entre 9:31:04 a.m. y 12:13:38 p.m.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puesto sobre supuesto: Bali, taller de negoci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obreajuste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stintos polinomios se ajustan 100% unos mismos dato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ubliminal al hacer muchas prueb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mpacto: Cobre versus Bols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l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26920" y="2276280"/>
            <a:ext cx="76932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in datos o con patrones confus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argo pla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Etapa inici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sos: Nuevo producto, rediseñ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étod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elphi y Cross-impact analysis: iterativo de alto cos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Historical analogy: películas, TV colo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Juicio expert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Teoría: Métodos Cuantitativ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conocen datos (puntos de función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Tres tip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Series de tiempo: Y=f(Y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sos particulares: media móvil, suavización exponencial (tendencia, estacionalidad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lasificación: Y=f(X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ausa–Efecto: Y=f(Y,X)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gresión, Econometría, Redes neur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Ejempl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ccion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Lluvia en cafalat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anal de Venta de Metro (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ulti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d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Operación dia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esupuesto 2008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Transantiago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Analogía multivía – Bi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Cuál será la demanda para el próximo mes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or día, por hora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¿Para qué sirv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492280"/>
            <a:ext cx="777240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Metodología act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Días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d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promedio para cada m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e fija el intervalo horari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h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 y la mesanina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ecimiento an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65) o mensual (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19280" y="4724280"/>
            <a:ext cx="5105520" cy="161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ulti</a:t>
            </a:r>
            <a:r>
              <a:rPr b="0" lang="es-ES" sz="3600" spc="-1" strike="noStrike">
                <a:solidFill>
                  <a:srgbClr val="006666"/>
                </a:solidFill>
                <a:latin typeface="Arial"/>
              </a:rPr>
              <a:t>red</a:t>
            </a: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: Oper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2349000"/>
            <a:ext cx="7772400" cy="428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Evalu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eríodo de crecimiento </a:t>
            </a:r>
            <a:r>
              <a:rPr b="0" i="1" lang="es-ES" sz="2800" spc="-1" strike="noStrike">
                <a:solidFill>
                  <a:srgbClr val="003366"/>
                </a:solidFill>
                <a:latin typeface="Arial"/>
              </a:rPr>
              <a:t>T</a:t>
            </a: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=30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ía Lunes de Jun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Sólo diferencias en las carg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riterio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Transaccion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erencias en Program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ost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lida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612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9T00:07:26Z</dcterms:created>
  <dc:creator>Joselyn Bravo</dc:creator>
  <dc:description/>
  <dc:language>en-US</dc:language>
  <cp:lastModifiedBy>Joselyn Bravo</cp:lastModifiedBy>
  <dcterms:modified xsi:type="dcterms:W3CDTF">2007-08-13T13:41:58Z</dcterms:modified>
  <cp:revision>40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