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5F2-2D98-4B7A-BBD5-4C1E4F7B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47F-68BE-4811-89FF-33C9D151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566-461E-4E50-AD4E-5C98968F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3F4-95A7-4784-BF02-3308C984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CE36-32B7-4504-9F18-56CE29B4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29BC-CE82-4F78-A0B7-D8EAEA2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EA9-02AB-4F50-9B5E-8D1D4601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743-41C6-474B-966C-A5A6B56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B25-4A89-444C-84AA-8577C4DA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C6C5-3AE0-4884-BF51-16443071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DCF8-440E-4F47-91DF-ABE8B54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AB8-375E-416D-A2C5-2436130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5802-0CDA-4324-8639-C5BCA1D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164-25C0-4080-9A19-B9542A8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7D6D-E7FF-41B3-ADE8-5CB60D06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F342-3890-470F-83D4-1824255E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885-63A8-48D5-AB3F-6A887577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01F-AD52-4FA1-8D7A-D91FEEB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5DB-B317-47F3-904C-F9DC4F08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2B3-BDA0-41E4-8C07-DA98DF4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404-9D34-4072-825F-4ED52511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804-5906-40AA-899D-32CBD075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D24-558E-488B-AC13-CDB7DA3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0BD-6487-4C95-BAA1-7DD86B4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A7C-5E0E-4FD9-BD28-15655616965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757-FFA2-4A20-9707-614194EE6BF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onóstic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13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896472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5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01920" y="4419720"/>
                <a:ext cx="31208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n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195640" y="23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4724280" cy="14763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7010280" cy="1344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nto se va a gastar en servicios de caja el 2008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May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mbios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 en superficie: 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umento en demanda: 1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upuesto mensual 2008: $ 469.400.3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25909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qué 10% en aumento de deman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 Modelo de Asignación de Caj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561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Qué impacto produce el plan Transantiago en la venta en Metr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 Nº de personas transport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horario: punta mañana – punta ta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origen de acceso: Micro – camin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ente: Estudio de Fernández &amp; De Cea en base a encuesta origen destino 19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upues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 la gente que llega desde una micro, el 50% es cliente Multired y todos usan B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oda la gente que llega caminando es cliente Multired. De ellos, el 10% utiliza bol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arga promedio de BIP es de cuatro vi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usuarios de boleto compran de un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2506680"/>
            <a:ext cx="1079280" cy="852480"/>
            <a:chOff x="539640" y="2506680"/>
            <a:chExt cx="1079280" cy="852480"/>
          </a:xfrm>
        </p:grpSpPr>
        <p:sp>
          <p:nvSpPr>
            <p:cNvPr id="145" name=""/>
            <p:cNvSpPr/>
            <p:nvPr/>
          </p:nvSpPr>
          <p:spPr>
            <a:xfrm>
              <a:off x="828360" y="250668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308268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Micro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9280" y="2276640"/>
            <a:ext cx="360360" cy="575640"/>
            <a:chOff x="179280" y="2276640"/>
            <a:chExt cx="360360" cy="575640"/>
          </a:xfrm>
        </p:grpSpPr>
        <p:sp>
          <p:nvSpPr>
            <p:cNvPr id="148" name=""/>
            <p:cNvSpPr/>
            <p:nvPr/>
          </p:nvSpPr>
          <p:spPr>
            <a:xfrm>
              <a:off x="179280" y="263664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2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8000" y="4797360"/>
            <a:ext cx="360360" cy="576360"/>
            <a:chOff x="108000" y="4797360"/>
            <a:chExt cx="360360" cy="576360"/>
          </a:xfrm>
        </p:grpSpPr>
        <p:sp>
          <p:nvSpPr>
            <p:cNvPr id="151" name=""/>
            <p:cNvSpPr/>
            <p:nvPr/>
          </p:nvSpPr>
          <p:spPr>
            <a:xfrm>
              <a:off x="108000" y="515772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000" y="479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4883040"/>
            <a:ext cx="1079280" cy="852480"/>
            <a:chOff x="395280" y="4883040"/>
            <a:chExt cx="1079280" cy="852480"/>
          </a:xfrm>
        </p:grpSpPr>
        <p:sp>
          <p:nvSpPr>
            <p:cNvPr id="154" name=""/>
            <p:cNvSpPr/>
            <p:nvPr/>
          </p:nvSpPr>
          <p:spPr>
            <a:xfrm>
              <a:off x="682560" y="488304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280" y="54590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Call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25360"/>
            <a:ext cx="12258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Ingresan a Metr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89000"/>
            <a:ext cx="7200720" cy="6553080"/>
          </a:xfrm>
          <a:prstGeom prst="cub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3671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835280" y="1197000"/>
            <a:ext cx="1800000" cy="4465440"/>
            <a:chOff x="1835280" y="1197000"/>
            <a:chExt cx="1800000" cy="4465440"/>
          </a:xfrm>
        </p:grpSpPr>
        <p:grpSp>
          <p:nvGrpSpPr>
            <p:cNvPr id="160" name=""/>
            <p:cNvGrpSpPr/>
            <p:nvPr/>
          </p:nvGrpSpPr>
          <p:grpSpPr>
            <a:xfrm>
              <a:off x="2124000" y="4869000"/>
              <a:ext cx="360360" cy="575640"/>
              <a:chOff x="2124000" y="4869000"/>
              <a:chExt cx="360360" cy="57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4000" y="5229000"/>
                <a:ext cx="360360" cy="215640"/>
              </a:xfrm>
              <a:prstGeom prst="rightArrow">
                <a:avLst>
                  <a:gd name="adj1" fmla="val 50000"/>
                  <a:gd name="adj2" fmla="val 41778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24000" y="4869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35280" y="2276640"/>
              <a:ext cx="865080" cy="575640"/>
              <a:chOff x="1835280" y="2276640"/>
              <a:chExt cx="865080" cy="57564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092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528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56000" y="2433600"/>
              <a:ext cx="1079280" cy="852480"/>
              <a:chOff x="2556000" y="2433600"/>
              <a:chExt cx="1079280" cy="852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44720" y="243360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56000" y="30096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556000" y="4809960"/>
              <a:ext cx="1079280" cy="852480"/>
              <a:chOff x="2556000" y="4809960"/>
              <a:chExt cx="1079280" cy="852480"/>
            </a:xfrm>
          </p:grpSpPr>
          <p:sp>
            <p:nvSpPr>
              <p:cNvPr id="170" name=""/>
              <p:cNvSpPr/>
              <p:nvPr/>
            </p:nvSpPr>
            <p:spPr>
              <a:xfrm>
                <a:off x="2843280" y="4809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56000" y="5385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0000" y="1197000"/>
              <a:ext cx="122544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lientes Multir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80000" y="1197000"/>
            <a:ext cx="2087280" cy="5400720"/>
            <a:chOff x="3780000" y="1197000"/>
            <a:chExt cx="2087280" cy="5400720"/>
          </a:xfrm>
        </p:grpSpPr>
        <p:sp>
          <p:nvSpPr>
            <p:cNvPr id="174" name=""/>
            <p:cNvSpPr/>
            <p:nvPr/>
          </p:nvSpPr>
          <p:spPr>
            <a:xfrm>
              <a:off x="3995640" y="443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81440" y="39988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9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55101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928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2998800"/>
              <a:ext cx="79200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0000" y="2276640"/>
              <a:ext cx="865080" cy="575640"/>
              <a:chOff x="3780000" y="2276640"/>
              <a:chExt cx="865080" cy="57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9564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8000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45080" y="2133720"/>
              <a:ext cx="1079280" cy="852480"/>
              <a:chOff x="4645080" y="2133720"/>
              <a:chExt cx="1079280" cy="85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933800" y="21337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45080" y="2709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16360" y="5386320"/>
              <a:ext cx="1079280" cy="852480"/>
              <a:chOff x="4716360" y="5386320"/>
              <a:chExt cx="1079280" cy="852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003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16360" y="3801960"/>
              <a:ext cx="1079280" cy="852480"/>
              <a:chOff x="4716360" y="3801960"/>
              <a:chExt cx="1079280" cy="852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003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16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00720" y="1197000"/>
              <a:ext cx="13665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0360" y="1197000"/>
            <a:ext cx="2521080" cy="5400720"/>
            <a:chOff x="5940360" y="1197000"/>
            <a:chExt cx="2521080" cy="5400720"/>
          </a:xfrm>
        </p:grpSpPr>
        <p:sp>
          <p:nvSpPr>
            <p:cNvPr id="195" name=""/>
            <p:cNvSpPr/>
            <p:nvPr/>
          </p:nvSpPr>
          <p:spPr>
            <a:xfrm>
              <a:off x="5940360" y="22701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50%x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3925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90%y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388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2637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00720" y="580536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429264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4360" y="2146320"/>
              <a:ext cx="1079280" cy="852480"/>
              <a:chOff x="7164360" y="2146320"/>
              <a:chExt cx="1079280" cy="85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7453080" y="214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64360" y="272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164360" y="5386320"/>
              <a:ext cx="1079280" cy="852480"/>
              <a:chOff x="7164360" y="5386320"/>
              <a:chExt cx="1079280" cy="852480"/>
            </a:xfrm>
          </p:grpSpPr>
          <p:sp>
            <p:nvSpPr>
              <p:cNvPr id="205" name=""/>
              <p:cNvSpPr/>
              <p:nvPr/>
            </p:nvSpPr>
            <p:spPr>
              <a:xfrm>
                <a:off x="7451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4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164360" y="3801960"/>
              <a:ext cx="1079280" cy="852480"/>
              <a:chOff x="7164360" y="3801960"/>
              <a:chExt cx="1079280" cy="852480"/>
            </a:xfrm>
          </p:grpSpPr>
          <p:sp>
            <p:nvSpPr>
              <p:cNvPr id="208" name=""/>
              <p:cNvSpPr/>
              <p:nvPr/>
            </p:nvSpPr>
            <p:spPr>
              <a:xfrm>
                <a:off x="7451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30872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72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77080" y="1197000"/>
              <a:ext cx="15843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 diari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tiliza la información dispon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rones por naturale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os tipos de técnic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l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nt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 de error: absoluto, cuadrático, tipo I y tipo II, en 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acciones de Cargas y Boletos 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Puestos de V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todología aplicable a otras insta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s vemos entre 9:31:04 a.m. y 12:13:38 p.m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uesto sobre supuesto: Bali, taller de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breajus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intos polinomios se ajustan 100% unos mismos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liminal al hacer muchas prueb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: Cobre versus Bo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l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datos o con patrones confu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rg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tapa ini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sos: Nuevo producto, re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phi y Cross-impact analysis: iterativo de alto 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istorical analogy: películas, TV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uicio exp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nt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n datos (puntos de funció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tip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ies de tiempo: Y=f(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sos particulares: media móvil, suavización exponencial (tendencia, estacionalid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asificación: Y=f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–Efecto: Y=f(Y,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gresión, Econometría, Redes neur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luvia en cafa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 de Venta de Metro (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eración di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 20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anti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alogía multivía – B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será la demanda para el próximo 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día, por ho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510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 de crecimient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ía Lunes de Ju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iferencias en las car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en Program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7:26Z</dcterms:created>
  <dc:creator>Joselyn Bravo</dc:creator>
  <dc:description/>
  <dc:language>en-US</dc:language>
  <cp:lastModifiedBy>Joselyn Bravo</cp:lastModifiedBy>
  <dcterms:modified xsi:type="dcterms:W3CDTF">2007-08-13T13:41:58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