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076-46E3-4BEC-8C6A-A4B857D6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E25-7FDE-4D91-B1B8-EC912288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173-615B-48E9-AE4A-481F8D2B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708-3052-45F8-BED4-AF58B4D5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CD39-685E-4092-985F-954EFCE7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5B5A-25DF-45BB-B670-59269831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A01A-F7CA-4D0F-9E6F-0C14A9F3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03F8-9C2C-4D03-9557-80A1F616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03CE-4067-4345-9529-F9E374C0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45C1-21C6-468A-B433-E436FE96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A2FD-7554-4CC2-9D57-9C6C0298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D7E-D90D-4CD5-B0B2-B37F0552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CE3E-EE30-460F-84AF-32892D39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5E7A-3691-4577-9373-842A9EB0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691D-F121-4531-9E02-E09CD51D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06CF-CD87-4B23-A4CC-2B1EB1AF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CAA2-597D-428E-BCE3-564289D2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2AC-B304-4502-B2C0-2D7FE244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B16-3EA0-42FD-8B76-2DDCFDF3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D03-DF52-4D9B-B0A9-38EEB65D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F6A-0DFE-4489-A978-B79BA6B2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45C-811F-4649-A547-66592A10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C8C-42B7-4E5E-BD8F-A0DDCB82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699-2219-4850-B8A3-08A0E438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0783-2B92-4C74-8AAD-E91E816B7866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CEE4-EAA2-4C6F-88EE-7C7021B6200A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Pronóstic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13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2443320"/>
            <a:ext cx="8964720" cy="4703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52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01920" y="4419720"/>
                <a:ext cx="312084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n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2195640" y="23493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erencias Transaccion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s en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58920" y="3213000"/>
            <a:ext cx="4724280" cy="147636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s en 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7010280" cy="134460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Presupuesto 2008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Cuánto se va a gastar en servicios de caja el 2008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Presupuesto 200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atos Mayo 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mbios 20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nta en superficie: 2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umento en demanda: 1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supuesto mensual 2008: $ 469.400.30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259092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Presupuesto 200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Por qué 10% en aumento de demand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nálisis Modelo de Asignación de Cajer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47640" y="3716280"/>
            <a:ext cx="56167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Qué impacto produce el plan Transantiago en la venta en Metr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conoce Nº de personas transportad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r es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r horario: punta mañana – punta tar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r origen de acceso: Micro – caminan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uente: Estudio de Fernández &amp; De Cea en base a encuesta origen destino 199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upues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 la gente que llega desde una micro, el 50% es cliente Multired y todos usan BI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oda la gente que llega caminando es cliente Multired. De ellos, el 10% utiliza bole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carga promedio de BIP es de cuatro viaj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s usuarios de boleto compran de una un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9640" y="2506680"/>
            <a:ext cx="1079280" cy="852480"/>
            <a:chOff x="539640" y="2506680"/>
            <a:chExt cx="1079280" cy="852480"/>
          </a:xfrm>
        </p:grpSpPr>
        <p:sp>
          <p:nvSpPr>
            <p:cNvPr id="145" name=""/>
            <p:cNvSpPr/>
            <p:nvPr/>
          </p:nvSpPr>
          <p:spPr>
            <a:xfrm>
              <a:off x="828360" y="2506680"/>
              <a:ext cx="503280" cy="5014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9640" y="308268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3366"/>
                  </a:solidFill>
                  <a:latin typeface="Arial"/>
                </a:rPr>
                <a:t>Origen Micro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79280" y="2276640"/>
            <a:ext cx="360360" cy="575640"/>
            <a:chOff x="179280" y="2276640"/>
            <a:chExt cx="360360" cy="575640"/>
          </a:xfrm>
        </p:grpSpPr>
        <p:sp>
          <p:nvSpPr>
            <p:cNvPr id="148" name=""/>
            <p:cNvSpPr/>
            <p:nvPr/>
          </p:nvSpPr>
          <p:spPr>
            <a:xfrm>
              <a:off x="179280" y="2636640"/>
              <a:ext cx="360360" cy="215640"/>
            </a:xfrm>
            <a:prstGeom prst="rightArrow">
              <a:avLst>
                <a:gd name="adj1" fmla="val 50000"/>
                <a:gd name="adj2" fmla="val 41778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9280" y="22766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08000" y="4797360"/>
            <a:ext cx="360360" cy="576360"/>
            <a:chOff x="108000" y="4797360"/>
            <a:chExt cx="360360" cy="576360"/>
          </a:xfrm>
        </p:grpSpPr>
        <p:sp>
          <p:nvSpPr>
            <p:cNvPr id="151" name=""/>
            <p:cNvSpPr/>
            <p:nvPr/>
          </p:nvSpPr>
          <p:spPr>
            <a:xfrm>
              <a:off x="108000" y="515772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8000" y="47973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95280" y="4883040"/>
            <a:ext cx="1079280" cy="852480"/>
            <a:chOff x="395280" y="4883040"/>
            <a:chExt cx="1079280" cy="852480"/>
          </a:xfrm>
        </p:grpSpPr>
        <p:sp>
          <p:nvSpPr>
            <p:cNvPr id="154" name=""/>
            <p:cNvSpPr/>
            <p:nvPr/>
          </p:nvSpPr>
          <p:spPr>
            <a:xfrm>
              <a:off x="682560" y="4883040"/>
              <a:ext cx="503280" cy="5014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5280" y="545904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3366"/>
                  </a:solidFill>
                  <a:latin typeface="Arial"/>
                </a:rPr>
                <a:t>Origen Call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79280" y="1125360"/>
            <a:ext cx="122580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Arial"/>
              </a:rPr>
              <a:t>Ingresan a Metr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2360" y="189000"/>
            <a:ext cx="7200720" cy="6553080"/>
          </a:xfrm>
          <a:prstGeom prst="cube">
            <a:avLst>
              <a:gd name="adj" fmla="val 0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3671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835280" y="1197000"/>
            <a:ext cx="1800000" cy="4465440"/>
            <a:chOff x="1835280" y="1197000"/>
            <a:chExt cx="1800000" cy="4465440"/>
          </a:xfrm>
        </p:grpSpPr>
        <p:grpSp>
          <p:nvGrpSpPr>
            <p:cNvPr id="160" name=""/>
            <p:cNvGrpSpPr/>
            <p:nvPr/>
          </p:nvGrpSpPr>
          <p:grpSpPr>
            <a:xfrm>
              <a:off x="2124000" y="4869000"/>
              <a:ext cx="360360" cy="575640"/>
              <a:chOff x="2124000" y="4869000"/>
              <a:chExt cx="360360" cy="575640"/>
            </a:xfrm>
          </p:grpSpPr>
          <p:sp>
            <p:nvSpPr>
              <p:cNvPr id="161" name=""/>
              <p:cNvSpPr/>
              <p:nvPr/>
            </p:nvSpPr>
            <p:spPr>
              <a:xfrm>
                <a:off x="2124000" y="5229000"/>
                <a:ext cx="360360" cy="215640"/>
              </a:xfrm>
              <a:prstGeom prst="rightArrow">
                <a:avLst>
                  <a:gd name="adj1" fmla="val 50000"/>
                  <a:gd name="adj2" fmla="val 41778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24000" y="48690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3366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835280" y="2276640"/>
              <a:ext cx="865080" cy="575640"/>
              <a:chOff x="1835280" y="2276640"/>
              <a:chExt cx="865080" cy="575640"/>
            </a:xfrm>
          </p:grpSpPr>
          <p:sp>
            <p:nvSpPr>
              <p:cNvPr id="164" name=""/>
              <p:cNvSpPr/>
              <p:nvPr/>
            </p:nvSpPr>
            <p:spPr>
              <a:xfrm>
                <a:off x="2050920" y="2636640"/>
                <a:ext cx="360000" cy="215640"/>
              </a:xfrm>
              <a:prstGeom prst="rightArrow">
                <a:avLst>
                  <a:gd name="adj1" fmla="val 50000"/>
                  <a:gd name="adj2" fmla="val 41736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835280" y="227664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3366"/>
                    </a:solidFill>
                    <a:latin typeface="Arial"/>
                  </a:rPr>
                  <a:t>50%x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556000" y="2433600"/>
              <a:ext cx="1079280" cy="852480"/>
              <a:chOff x="2556000" y="2433600"/>
              <a:chExt cx="1079280" cy="852480"/>
            </a:xfrm>
          </p:grpSpPr>
          <p:sp>
            <p:nvSpPr>
              <p:cNvPr id="167" name=""/>
              <p:cNvSpPr/>
              <p:nvPr/>
            </p:nvSpPr>
            <p:spPr>
              <a:xfrm>
                <a:off x="2844720" y="243360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56000" y="300960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Micro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2556000" y="4809960"/>
              <a:ext cx="1079280" cy="852480"/>
              <a:chOff x="2556000" y="4809960"/>
              <a:chExt cx="1079280" cy="852480"/>
            </a:xfrm>
          </p:grpSpPr>
          <p:sp>
            <p:nvSpPr>
              <p:cNvPr id="170" name=""/>
              <p:cNvSpPr/>
              <p:nvPr/>
            </p:nvSpPr>
            <p:spPr>
              <a:xfrm>
                <a:off x="2843280" y="480996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56000" y="538596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2340000" y="1197000"/>
              <a:ext cx="1225440" cy="503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66"/>
                  </a:solidFill>
                  <a:latin typeface="Arial"/>
                </a:rPr>
                <a:t>Clientes Multire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780000" y="1197000"/>
            <a:ext cx="2087280" cy="5400720"/>
            <a:chOff x="3780000" y="1197000"/>
            <a:chExt cx="2087280" cy="5400720"/>
          </a:xfrm>
        </p:grpSpPr>
        <p:sp>
          <p:nvSpPr>
            <p:cNvPr id="174" name=""/>
            <p:cNvSpPr/>
            <p:nvPr/>
          </p:nvSpPr>
          <p:spPr>
            <a:xfrm>
              <a:off x="3995640" y="443700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81440" y="399888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90%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81440" y="551016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10%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95640" y="587700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59280" y="4654440"/>
              <a:ext cx="792360" cy="358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"/>
                </a:rPr>
                <a:t>BI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59280" y="6237360"/>
              <a:ext cx="792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3366"/>
                  </a:solidFill>
                  <a:latin typeface="Arial"/>
                </a:rPr>
                <a:t>Boleto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8000" y="2998800"/>
              <a:ext cx="792000" cy="358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"/>
                </a:rPr>
                <a:t>BI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780000" y="2276640"/>
              <a:ext cx="865080" cy="575640"/>
              <a:chOff x="3780000" y="2276640"/>
              <a:chExt cx="865080" cy="575640"/>
            </a:xfrm>
          </p:grpSpPr>
          <p:sp>
            <p:nvSpPr>
              <p:cNvPr id="182" name=""/>
              <p:cNvSpPr/>
              <p:nvPr/>
            </p:nvSpPr>
            <p:spPr>
              <a:xfrm>
                <a:off x="3995640" y="2636640"/>
                <a:ext cx="360000" cy="215640"/>
              </a:xfrm>
              <a:prstGeom prst="rightArrow">
                <a:avLst>
                  <a:gd name="adj1" fmla="val 50000"/>
                  <a:gd name="adj2" fmla="val 41736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780000" y="227664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3366"/>
                    </a:solidFill>
                    <a:latin typeface="Arial"/>
                  </a:rPr>
                  <a:t>50%x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645080" y="2133720"/>
              <a:ext cx="1079280" cy="852480"/>
              <a:chOff x="4645080" y="2133720"/>
              <a:chExt cx="1079280" cy="852480"/>
            </a:xfrm>
          </p:grpSpPr>
          <p:sp>
            <p:nvSpPr>
              <p:cNvPr id="185" name=""/>
              <p:cNvSpPr/>
              <p:nvPr/>
            </p:nvSpPr>
            <p:spPr>
              <a:xfrm>
                <a:off x="4933800" y="21337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45080" y="27097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Micro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716360" y="5386320"/>
              <a:ext cx="1079280" cy="852480"/>
              <a:chOff x="4716360" y="5386320"/>
              <a:chExt cx="1079280" cy="852480"/>
            </a:xfrm>
          </p:grpSpPr>
          <p:sp>
            <p:nvSpPr>
              <p:cNvPr id="188" name=""/>
              <p:cNvSpPr/>
              <p:nvPr/>
            </p:nvSpPr>
            <p:spPr>
              <a:xfrm>
                <a:off x="5003640" y="53863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16360" y="59623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716360" y="3801960"/>
              <a:ext cx="1079280" cy="852480"/>
              <a:chOff x="4716360" y="3801960"/>
              <a:chExt cx="1079280" cy="852480"/>
            </a:xfrm>
          </p:grpSpPr>
          <p:sp>
            <p:nvSpPr>
              <p:cNvPr id="191" name=""/>
              <p:cNvSpPr/>
              <p:nvPr/>
            </p:nvSpPr>
            <p:spPr>
              <a:xfrm>
                <a:off x="5003640" y="380196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716360" y="437796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4500720" y="1197000"/>
              <a:ext cx="1366560" cy="503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66"/>
                  </a:solidFill>
                  <a:latin typeface="Arial"/>
                </a:rPr>
                <a:t>Composición Compr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940360" y="1197000"/>
            <a:ext cx="2521080" cy="5400720"/>
            <a:chOff x="5940360" y="1197000"/>
            <a:chExt cx="2521080" cy="5400720"/>
          </a:xfrm>
        </p:grpSpPr>
        <p:sp>
          <p:nvSpPr>
            <p:cNvPr id="195" name=""/>
            <p:cNvSpPr/>
            <p:nvPr/>
          </p:nvSpPr>
          <p:spPr>
            <a:xfrm>
              <a:off x="5940360" y="227016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(50%x)/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2000" y="39258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(90%y)/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4720" y="543888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10%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0720" y="2637000"/>
              <a:ext cx="360360" cy="215640"/>
            </a:xfrm>
            <a:prstGeom prst="rightArrow">
              <a:avLst>
                <a:gd name="adj1" fmla="val 50000"/>
                <a:gd name="adj2" fmla="val 41778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00720" y="580536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99280" y="429264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164360" y="2146320"/>
              <a:ext cx="1079280" cy="852480"/>
              <a:chOff x="7164360" y="2146320"/>
              <a:chExt cx="1079280" cy="852480"/>
            </a:xfrm>
          </p:grpSpPr>
          <p:sp>
            <p:nvSpPr>
              <p:cNvPr id="202" name=""/>
              <p:cNvSpPr/>
              <p:nvPr/>
            </p:nvSpPr>
            <p:spPr>
              <a:xfrm>
                <a:off x="7453080" y="21463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164360" y="27223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Micro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7164360" y="5386320"/>
              <a:ext cx="1079280" cy="852480"/>
              <a:chOff x="7164360" y="5386320"/>
              <a:chExt cx="1079280" cy="852480"/>
            </a:xfrm>
          </p:grpSpPr>
          <p:sp>
            <p:nvSpPr>
              <p:cNvPr id="205" name=""/>
              <p:cNvSpPr/>
              <p:nvPr/>
            </p:nvSpPr>
            <p:spPr>
              <a:xfrm>
                <a:off x="7451640" y="53863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164360" y="59623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164360" y="3801960"/>
              <a:ext cx="1079280" cy="852480"/>
              <a:chOff x="7164360" y="3801960"/>
              <a:chExt cx="1079280" cy="852480"/>
            </a:xfrm>
          </p:grpSpPr>
          <p:sp>
            <p:nvSpPr>
              <p:cNvPr id="208" name=""/>
              <p:cNvSpPr/>
              <p:nvPr/>
            </p:nvSpPr>
            <p:spPr>
              <a:xfrm>
                <a:off x="7451640" y="380196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64360" y="437796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7308720" y="4654440"/>
              <a:ext cx="792360" cy="358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"/>
                </a:rPr>
                <a:t>BI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08720" y="6237360"/>
              <a:ext cx="792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3366"/>
                  </a:solidFill>
                  <a:latin typeface="Arial"/>
                </a:rPr>
                <a:t>Boleto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77080" y="1197000"/>
              <a:ext cx="1584360" cy="503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66"/>
                  </a:solidFill>
                  <a:latin typeface="Arial"/>
                </a:rPr>
                <a:t>Composición Compra diari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tiliza la información dispon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trones por naturale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os tipos de técnic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ualita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uantita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das de error: absoluto, cuadrático, tipo I y tipo II, en impa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ansacciones de Cargas y Boletos por es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tidad de Puestos de Ven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todología aplicable a otras instanc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os vemos entre 9:31:04 a.m. y 12:13:38 p.m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upuesto sobre supuesto: Bali, taller de negoc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obreajust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intos polinomios se ajustan 100% unos mismos da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ubliminal al hacer muchas prueb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: Cobre versus Bol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eoría: Métodos Cualita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n datos o con patrones confu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rgo pla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tapa inic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sos: Nuevo producto, re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ét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lphi y Cross-impact analysis: iterativo de alto cos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istorical analogy: películas, TV co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Juicio exper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eoría: Métodos Cuantita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conocen datos (puntos de funció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es tip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ries de tiempo: Y=f(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sos particulares: media móvil, suavización exponencial (tendencia, estacionalida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lasificación: Y=f(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usa–Efecto: Y=f(Y,X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gresión, Econometría, Redes neuro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jempl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luvia en cafal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al de Venta de Metro (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ulti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peración dia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upuesto 200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ransantia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nalogía multivía – Bi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Cuál será la demanda para el próximo m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Por día, por hor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Para qué sirv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etodología act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ías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romedio para cada 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fija el intervalo horario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y la mesanin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ecimiento an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65) o mens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etodología act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ías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romedio para cada 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fija el intervalo horario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y la mesanin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ecimiento an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65) o mens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19280" y="4724280"/>
            <a:ext cx="5105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valu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íodo de crecimiento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ólo día Lunes de Jun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ólo diferencias en las carg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iter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erencias Transaccion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erencias en Program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00:07:26Z</dcterms:created>
  <dc:creator>Joselyn Bravo</dc:creator>
  <dc:description/>
  <dc:language>en-US</dc:language>
  <cp:lastModifiedBy>Joselyn Bravo</cp:lastModifiedBy>
  <dcterms:modified xsi:type="dcterms:W3CDTF">2007-08-13T13:41:58Z</dcterms:modified>
  <cp:revision>4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