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F909-0275-46AA-A0F6-25435BE6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E090-37E9-4B66-A198-A24B8F38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1443-A456-48C1-8E4A-2F813901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9EB6-8ECD-4F7F-8DD9-174BA93C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F937-DAE3-46CC-8C3D-F267C566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90EB-9E46-4762-8021-4F782327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CA74-3677-46C6-9744-2C84444D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22DE-76CA-4DF1-9767-499112F1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0783-FF18-4E86-A3BC-0975B660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B79F-8DAF-473E-870D-741BA0AB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9C9E-C084-4830-8335-4EF8A54B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B49E-D96D-46FD-8094-BCE11F63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66D4-0976-45B1-9A75-B5187322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1110-25E0-4C84-B0E1-1A429BB1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00B5-E1ED-49DC-8116-3DEB1B32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978D-3931-4B02-9587-77650C21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DD38-5C65-43B5-B901-0BF78879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61AF-E236-466B-896A-6DDB0527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BECA-533A-41BE-AD2A-FCE7DBD1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0E03-3422-4FB3-B2D7-D3CFCBFC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91DE-61B9-4606-853F-36434C1E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9BAB-84C9-467B-8482-6E47C93C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C144-3979-4AC4-AB17-447F8CF7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AD8C-4DEC-4B93-B507-4E50C3F2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8F45-C9C4-48AC-9C1C-3114AD20CD8D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912B-85CE-4F6B-9D67-E1EC14BDB22E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Pronóstic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13 de agost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2443320"/>
            <a:ext cx="8964720" cy="4703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80520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401920" y="4419720"/>
                <a:ext cx="312084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ro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al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n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2195640" y="23493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ferencias Transaccion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cias en 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58920" y="3213000"/>
            <a:ext cx="4724280" cy="147636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cias en 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7010280" cy="134460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Presupuesto 2008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Cuánto se va a gastar en servicios de caja el 2008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Presupuesto 2008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atos Mayo 200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mbios 20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enta en superficie: 2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umento en demanda: 10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esupuesto mensual 2008: $ 469.400.30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259092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Presupuesto 2008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Por qué 10% en aumento de demand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nálisis Modelo de Asignación de Cajer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47640" y="3716280"/>
            <a:ext cx="56167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Transantia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Qué impacto produce el plan Transantiago en la venta en Metr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Transantia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 conoce Nº de personas transportad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r es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r horario: punta mañana – punta tar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r origen de acceso: Micro – caminan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uente: Estudio de Fernández &amp; De Cea en base a encuesta origen destino 199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Transantia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6932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Supuest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 la gente que llega desde una micro, el 50% es cliente Multired y todos usan BI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oda la gente que llega caminando es cliente Multired. De ellos, el 10% utiliza bole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carga promedio de BIP es de cuatro viaj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os usuarios de boleto compran de una un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6000" y="278136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39640" y="2506680"/>
            <a:ext cx="1079280" cy="852480"/>
            <a:chOff x="539640" y="2506680"/>
            <a:chExt cx="1079280" cy="852480"/>
          </a:xfrm>
        </p:grpSpPr>
        <p:sp>
          <p:nvSpPr>
            <p:cNvPr id="145" name=""/>
            <p:cNvSpPr/>
            <p:nvPr/>
          </p:nvSpPr>
          <p:spPr>
            <a:xfrm>
              <a:off x="828360" y="2506680"/>
              <a:ext cx="503280" cy="5014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9640" y="308268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3366"/>
                  </a:solidFill>
                  <a:latin typeface="Arial"/>
                </a:rPr>
                <a:t>Origen Micro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79280" y="2276640"/>
            <a:ext cx="360360" cy="575640"/>
            <a:chOff x="179280" y="2276640"/>
            <a:chExt cx="360360" cy="575640"/>
          </a:xfrm>
        </p:grpSpPr>
        <p:sp>
          <p:nvSpPr>
            <p:cNvPr id="148" name=""/>
            <p:cNvSpPr/>
            <p:nvPr/>
          </p:nvSpPr>
          <p:spPr>
            <a:xfrm>
              <a:off x="179280" y="2636640"/>
              <a:ext cx="360360" cy="215640"/>
            </a:xfrm>
            <a:prstGeom prst="rightArrow">
              <a:avLst>
                <a:gd name="adj1" fmla="val 50000"/>
                <a:gd name="adj2" fmla="val 41778"/>
              </a:avLst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9280" y="227664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08000" y="4797360"/>
            <a:ext cx="360360" cy="576360"/>
            <a:chOff x="108000" y="4797360"/>
            <a:chExt cx="360360" cy="576360"/>
          </a:xfrm>
        </p:grpSpPr>
        <p:sp>
          <p:nvSpPr>
            <p:cNvPr id="151" name=""/>
            <p:cNvSpPr/>
            <p:nvPr/>
          </p:nvSpPr>
          <p:spPr>
            <a:xfrm>
              <a:off x="108000" y="5157720"/>
              <a:ext cx="360360" cy="216000"/>
            </a:xfrm>
            <a:prstGeom prst="rightArrow">
              <a:avLst>
                <a:gd name="adj1" fmla="val 50000"/>
                <a:gd name="adj2" fmla="val 41708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8000" y="47973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95280" y="4883040"/>
            <a:ext cx="1079280" cy="852480"/>
            <a:chOff x="395280" y="4883040"/>
            <a:chExt cx="1079280" cy="852480"/>
          </a:xfrm>
        </p:grpSpPr>
        <p:sp>
          <p:nvSpPr>
            <p:cNvPr id="154" name=""/>
            <p:cNvSpPr/>
            <p:nvPr/>
          </p:nvSpPr>
          <p:spPr>
            <a:xfrm>
              <a:off x="682560" y="4883040"/>
              <a:ext cx="503280" cy="50148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5280" y="545904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3366"/>
                  </a:solidFill>
                  <a:latin typeface="Arial"/>
                </a:rPr>
                <a:t>Origen Calle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79280" y="1125360"/>
            <a:ext cx="122580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Arial"/>
              </a:rPr>
              <a:t>Ingresan a Metr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92360" y="189000"/>
            <a:ext cx="7200720" cy="6553080"/>
          </a:xfrm>
          <a:prstGeom prst="cube">
            <a:avLst>
              <a:gd name="adj" fmla="val 0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3671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1835280" y="1197000"/>
            <a:ext cx="1800000" cy="4465440"/>
            <a:chOff x="1835280" y="1197000"/>
            <a:chExt cx="1800000" cy="4465440"/>
          </a:xfrm>
        </p:grpSpPr>
        <p:grpSp>
          <p:nvGrpSpPr>
            <p:cNvPr id="160" name=""/>
            <p:cNvGrpSpPr/>
            <p:nvPr/>
          </p:nvGrpSpPr>
          <p:grpSpPr>
            <a:xfrm>
              <a:off x="2124000" y="4869000"/>
              <a:ext cx="360360" cy="575640"/>
              <a:chOff x="2124000" y="4869000"/>
              <a:chExt cx="360360" cy="575640"/>
            </a:xfrm>
          </p:grpSpPr>
          <p:sp>
            <p:nvSpPr>
              <p:cNvPr id="161" name=""/>
              <p:cNvSpPr/>
              <p:nvPr/>
            </p:nvSpPr>
            <p:spPr>
              <a:xfrm>
                <a:off x="2124000" y="5229000"/>
                <a:ext cx="360360" cy="215640"/>
              </a:xfrm>
              <a:prstGeom prst="rightArrow">
                <a:avLst>
                  <a:gd name="adj1" fmla="val 50000"/>
                  <a:gd name="adj2" fmla="val 41778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124000" y="486900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3366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1835280" y="2276640"/>
              <a:ext cx="865080" cy="575640"/>
              <a:chOff x="1835280" y="2276640"/>
              <a:chExt cx="865080" cy="575640"/>
            </a:xfrm>
          </p:grpSpPr>
          <p:sp>
            <p:nvSpPr>
              <p:cNvPr id="164" name=""/>
              <p:cNvSpPr/>
              <p:nvPr/>
            </p:nvSpPr>
            <p:spPr>
              <a:xfrm>
                <a:off x="2050920" y="2636640"/>
                <a:ext cx="360000" cy="215640"/>
              </a:xfrm>
              <a:prstGeom prst="rightArrow">
                <a:avLst>
                  <a:gd name="adj1" fmla="val 50000"/>
                  <a:gd name="adj2" fmla="val 41736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835280" y="227664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3366"/>
                    </a:solidFill>
                    <a:latin typeface="Arial"/>
                  </a:rPr>
                  <a:t>50%x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556000" y="2433600"/>
              <a:ext cx="1079280" cy="852480"/>
              <a:chOff x="2556000" y="2433600"/>
              <a:chExt cx="1079280" cy="852480"/>
            </a:xfrm>
          </p:grpSpPr>
          <p:sp>
            <p:nvSpPr>
              <p:cNvPr id="167" name=""/>
              <p:cNvSpPr/>
              <p:nvPr/>
            </p:nvSpPr>
            <p:spPr>
              <a:xfrm>
                <a:off x="2844720" y="243360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556000" y="300960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Micro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2556000" y="4809960"/>
              <a:ext cx="1079280" cy="852480"/>
              <a:chOff x="2556000" y="4809960"/>
              <a:chExt cx="1079280" cy="852480"/>
            </a:xfrm>
          </p:grpSpPr>
          <p:sp>
            <p:nvSpPr>
              <p:cNvPr id="170" name=""/>
              <p:cNvSpPr/>
              <p:nvPr/>
            </p:nvSpPr>
            <p:spPr>
              <a:xfrm>
                <a:off x="2843280" y="480996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556000" y="538596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Call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2340000" y="1197000"/>
              <a:ext cx="1225440" cy="503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66"/>
                  </a:solidFill>
                  <a:latin typeface="Arial"/>
                </a:rPr>
                <a:t>Clientes Multire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780000" y="1197000"/>
            <a:ext cx="2087280" cy="5400720"/>
            <a:chOff x="3780000" y="1197000"/>
            <a:chExt cx="2087280" cy="5400720"/>
          </a:xfrm>
        </p:grpSpPr>
        <p:sp>
          <p:nvSpPr>
            <p:cNvPr id="174" name=""/>
            <p:cNvSpPr/>
            <p:nvPr/>
          </p:nvSpPr>
          <p:spPr>
            <a:xfrm>
              <a:off x="3995640" y="4437000"/>
              <a:ext cx="360360" cy="216000"/>
            </a:xfrm>
            <a:prstGeom prst="rightArrow">
              <a:avLst>
                <a:gd name="adj1" fmla="val 50000"/>
                <a:gd name="adj2" fmla="val 41708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81440" y="399888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90%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81440" y="551016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10%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95640" y="5877000"/>
              <a:ext cx="360360" cy="216000"/>
            </a:xfrm>
            <a:prstGeom prst="rightArrow">
              <a:avLst>
                <a:gd name="adj1" fmla="val 50000"/>
                <a:gd name="adj2" fmla="val 41708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59280" y="4654440"/>
              <a:ext cx="792360" cy="3589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"/>
                </a:rPr>
                <a:t>BIP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59280" y="6237360"/>
              <a:ext cx="792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3366"/>
                  </a:solidFill>
                  <a:latin typeface="Arial"/>
                </a:rPr>
                <a:t>Boleto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88000" y="2998800"/>
              <a:ext cx="792000" cy="3589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"/>
                </a:rPr>
                <a:t>BIP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3780000" y="2276640"/>
              <a:ext cx="865080" cy="575640"/>
              <a:chOff x="3780000" y="2276640"/>
              <a:chExt cx="865080" cy="575640"/>
            </a:xfrm>
          </p:grpSpPr>
          <p:sp>
            <p:nvSpPr>
              <p:cNvPr id="182" name=""/>
              <p:cNvSpPr/>
              <p:nvPr/>
            </p:nvSpPr>
            <p:spPr>
              <a:xfrm>
                <a:off x="3995640" y="2636640"/>
                <a:ext cx="360000" cy="215640"/>
              </a:xfrm>
              <a:prstGeom prst="rightArrow">
                <a:avLst>
                  <a:gd name="adj1" fmla="val 50000"/>
                  <a:gd name="adj2" fmla="val 41736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780000" y="227664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3366"/>
                    </a:solidFill>
                    <a:latin typeface="Arial"/>
                  </a:rPr>
                  <a:t>50%x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645080" y="2133720"/>
              <a:ext cx="1079280" cy="852480"/>
              <a:chOff x="4645080" y="2133720"/>
              <a:chExt cx="1079280" cy="852480"/>
            </a:xfrm>
          </p:grpSpPr>
          <p:sp>
            <p:nvSpPr>
              <p:cNvPr id="185" name=""/>
              <p:cNvSpPr/>
              <p:nvPr/>
            </p:nvSpPr>
            <p:spPr>
              <a:xfrm>
                <a:off x="4933800" y="213372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645080" y="270972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Micro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716360" y="5386320"/>
              <a:ext cx="1079280" cy="852480"/>
              <a:chOff x="4716360" y="5386320"/>
              <a:chExt cx="1079280" cy="852480"/>
            </a:xfrm>
          </p:grpSpPr>
          <p:sp>
            <p:nvSpPr>
              <p:cNvPr id="188" name=""/>
              <p:cNvSpPr/>
              <p:nvPr/>
            </p:nvSpPr>
            <p:spPr>
              <a:xfrm>
                <a:off x="5003640" y="538632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716360" y="596232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Call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716360" y="3801960"/>
              <a:ext cx="1079280" cy="852480"/>
              <a:chOff x="4716360" y="3801960"/>
              <a:chExt cx="1079280" cy="852480"/>
            </a:xfrm>
          </p:grpSpPr>
          <p:sp>
            <p:nvSpPr>
              <p:cNvPr id="191" name=""/>
              <p:cNvSpPr/>
              <p:nvPr/>
            </p:nvSpPr>
            <p:spPr>
              <a:xfrm>
                <a:off x="5003640" y="380196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716360" y="437796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Call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4500720" y="1197000"/>
              <a:ext cx="1366560" cy="503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66"/>
                  </a:solidFill>
                  <a:latin typeface="Arial"/>
                </a:rPr>
                <a:t>Composición Compra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940360" y="1197000"/>
            <a:ext cx="2521080" cy="5400720"/>
            <a:chOff x="5940360" y="1197000"/>
            <a:chExt cx="2521080" cy="5400720"/>
          </a:xfrm>
        </p:grpSpPr>
        <p:sp>
          <p:nvSpPr>
            <p:cNvPr id="195" name=""/>
            <p:cNvSpPr/>
            <p:nvPr/>
          </p:nvSpPr>
          <p:spPr>
            <a:xfrm>
              <a:off x="5940360" y="227016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(50%x)/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12000" y="39258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(90%y)/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84720" y="543888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10%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00720" y="2637000"/>
              <a:ext cx="360360" cy="215640"/>
            </a:xfrm>
            <a:prstGeom prst="rightArrow">
              <a:avLst>
                <a:gd name="adj1" fmla="val 50000"/>
                <a:gd name="adj2" fmla="val 41778"/>
              </a:avLst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00720" y="5805360"/>
              <a:ext cx="360360" cy="216000"/>
            </a:xfrm>
            <a:prstGeom prst="rightArrow">
              <a:avLst>
                <a:gd name="adj1" fmla="val 50000"/>
                <a:gd name="adj2" fmla="val 41708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99280" y="4292640"/>
              <a:ext cx="360360" cy="216000"/>
            </a:xfrm>
            <a:prstGeom prst="rightArrow">
              <a:avLst>
                <a:gd name="adj1" fmla="val 50000"/>
                <a:gd name="adj2" fmla="val 41708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7164360" y="2146320"/>
              <a:ext cx="1079280" cy="852480"/>
              <a:chOff x="7164360" y="2146320"/>
              <a:chExt cx="1079280" cy="852480"/>
            </a:xfrm>
          </p:grpSpPr>
          <p:sp>
            <p:nvSpPr>
              <p:cNvPr id="202" name=""/>
              <p:cNvSpPr/>
              <p:nvPr/>
            </p:nvSpPr>
            <p:spPr>
              <a:xfrm>
                <a:off x="7453080" y="214632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164360" y="272232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Micro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7164360" y="5386320"/>
              <a:ext cx="1079280" cy="852480"/>
              <a:chOff x="7164360" y="5386320"/>
              <a:chExt cx="1079280" cy="852480"/>
            </a:xfrm>
          </p:grpSpPr>
          <p:sp>
            <p:nvSpPr>
              <p:cNvPr id="205" name=""/>
              <p:cNvSpPr/>
              <p:nvPr/>
            </p:nvSpPr>
            <p:spPr>
              <a:xfrm>
                <a:off x="7451640" y="538632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164360" y="596232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Call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7164360" y="3801960"/>
              <a:ext cx="1079280" cy="852480"/>
              <a:chOff x="7164360" y="3801960"/>
              <a:chExt cx="1079280" cy="852480"/>
            </a:xfrm>
          </p:grpSpPr>
          <p:sp>
            <p:nvSpPr>
              <p:cNvPr id="208" name=""/>
              <p:cNvSpPr/>
              <p:nvPr/>
            </p:nvSpPr>
            <p:spPr>
              <a:xfrm>
                <a:off x="7451640" y="380196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164360" y="437796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Call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7308720" y="4654440"/>
              <a:ext cx="792360" cy="3589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"/>
                </a:rPr>
                <a:t>BIP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08720" y="6237360"/>
              <a:ext cx="792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3366"/>
                  </a:solidFill>
                  <a:latin typeface="Arial"/>
                </a:rPr>
                <a:t>Boleto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77080" y="1197000"/>
              <a:ext cx="1584360" cy="503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66"/>
                  </a:solidFill>
                  <a:latin typeface="Arial"/>
                </a:rPr>
                <a:t>Composición Compra diaria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Utiliza la información disponi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atrones por naturalez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os tipos de técnic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ualitati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uantitati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didas de error: absoluto, cuadrático, tipo I y tipo II, en impac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Transantia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ult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ransacciones de Cargas y Boletos por es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ntidad de Puestos de Ven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todología aplicable a otras instanci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ec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os vemos entre 9:31:04 a.m. y 12:13:38 p.m.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upuesto sobre supuesto: Bali, taller de negoc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obreajust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tintos polinomios se ajustan 100% unos mismos da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ubliminal al hacer muchas prueb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o: Cobre versus Bol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Teoría: Métodos Cualita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6932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n datos o con patrones confu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rgo plaz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tapa inici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sos: Nuevo producto, rediseñ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éto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lphi y Cross-impact analysis: iterativo de alto cos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Historical analogy: películas, TV col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Juicio exper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Teoría: Métodos Cuantita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 conocen datos (puntos de funció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res tip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ries de tiempo: Y=f(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asos particulares: media móvil, suavización exponencial (tendencia, estacionalida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lasificación: Y=f(X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usa–Efecto: Y=f(Y,X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gresión, Econometría, Redes neuron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jempl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c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luvia en cafal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nal de Venta de Metro (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Multi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peración diar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supuesto 200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ransantia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nalogía multivía – Bi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Cuál será la demanda para el próximo m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Por día, por hor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Para qué sirv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861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Metodología act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ías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promedio para cada 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 fija el intervalo horario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y la mesanina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recimiento anual (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=365) o mensual (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=3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61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Metodología act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ías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promedio para cada 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 fija el intervalo horario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y la mesanina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recimiento anual (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=365) o mensual (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=3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861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19280" y="4724280"/>
            <a:ext cx="51055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42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Evalu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íodo de crecimiento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=3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ólo día Lunes de Jun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ólo diferencias en las carg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riter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ferencias Transaccion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ferencias en Program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st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861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00:07:26Z</dcterms:created>
  <dc:creator>Joselyn Bravo</dc:creator>
  <dc:description/>
  <dc:language>en-US</dc:language>
  <cp:lastModifiedBy>Joselyn Bravo</cp:lastModifiedBy>
  <dcterms:modified xsi:type="dcterms:W3CDTF">2007-08-13T13:41:58Z</dcterms:modified>
  <cp:revision>40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